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14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15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9EA1-914B-4462-BF04-EC23B20DD2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211C-D7A8-4EA5-95BB-E36AB7C66B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8118-67FE-40AC-B590-AD0F89FB03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95C-6E35-4B3F-96CE-CD0A05EA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202-FC04-42B2-9F2F-888C682A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7E4-D9A8-4458-A0B3-AC709DA0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B63B-DB72-4D96-8053-19F49704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5EAA-5743-48CE-BFC0-B80C8E22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1FB8-3A4E-49B5-8336-16E29023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309D-E236-4EDF-8436-BB473E8A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D7DB-E05D-4343-820F-28F7FC97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83F2-1A72-4E2A-84D8-BE6DB5F3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8721-B943-4CEA-830A-A21A9E24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853D-01AF-4E70-A9CD-24384A32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C0B-347F-410E-9D19-5F8D372B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B059-4AEB-44A8-A249-7753F9F7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1059-92E9-429C-AF2C-66CCAC87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7DD3-ECC8-43ED-90CB-D10C5652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131A-E486-4CF4-8FE5-B8A877CE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7576-B397-472D-B372-2B3F093A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B0808-DF56-4A58-8C88-E73A73D6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F2401-A481-4805-A018-2E4D749C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98254-6F7C-451C-A21E-37F929B9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253B5-264F-4408-A227-E7154576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BC07E-5048-4026-8374-503D40C7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AF5-70AE-4D58-8B1A-671AC18E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93607-D0AB-4914-867B-B71AB8A0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D7C81-B69A-4A68-9EB1-94DE0C0A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E6EC7-580D-410F-ADE3-479D22D2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C939D-C2B0-4E30-B22E-77C6D58C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7268B-1889-44D2-9E01-D18B70AA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5CBBE-7BA1-414D-96B1-F4AB4187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E8B87-96EF-49CE-9C2B-30D942E1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E1287-304B-46EA-A985-8A3A1E9F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13330-FC7D-41D8-AA7E-6BDA7BB5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C2C75-82E0-4B25-AF53-C50E0FC2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F2F-2014-4664-901F-A30B3A90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FBF0A-FCA7-4DBB-A8E6-A03DC39E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EA076-3F58-4F59-9569-78B775FE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39747-9EEC-4F00-9ABD-E002C5DF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6EA78-82C9-412B-B7D7-0453488B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31DCB-4427-4D04-9A82-F4943B30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26560-84C8-4211-B6B5-7898A4E1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228D8-1801-45A9-8AAE-77881B4C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1A534-E422-4295-9BC4-C6333DBB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9D3AB-319C-45E0-9FA2-38D8CFFD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C3F0-7AFA-4EF5-AD92-0C99F7B3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7297-F0AF-4797-A47C-A43B797D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44C-CDEA-4C97-AD3F-02C2647B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E04-4383-482E-ACFE-981458EE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0223-E8B9-4A0B-8FC4-F9D8319E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8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4343040" y="380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8559360" y="355320"/>
            <a:ext cx="381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A8DD-C0D4-4B06-8C20-7E5B41D4FB3D}" type="slidenum"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276360" y="-3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185400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09AA-ED24-408E-A398-A3EB48FDACAD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136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256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7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8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9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EB08-62A9-41FB-8F21-1FBA1CAA0E41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381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0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1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2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3DC0-1DA3-4692-91DE-241BE8EF1B19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1827360" y="0"/>
            <a:ext cx="125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417E-CCE8-4670-A518-FF4C2E8C9321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42920" y="1679400"/>
            <a:ext cx="3994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stream pipelines integrity manage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NK-BP appro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787640" y="3573360"/>
            <a:ext cx="350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conferenc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October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33240" y="3603600"/>
            <a:ext cx="350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лад для конференци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тября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33240" y="1144440"/>
            <a:ext cx="37227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авление целостностью промысловых  трубопроводов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ход ТНК-В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E1C317B-5D42-4DEE-9B87-6E3EBE5802EB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691560"/>
            <a:ext cx="647208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0920" y="4960800"/>
            <a:ext cx="3600360" cy="18972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НК-ВР была организована в 2003 г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ледство объёдинённая компания получила около 28000 км трубопров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ельная часть трубопроводов имела срок службы более 15 лет и не самое лучшее техническое состоя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е покрытие трубопроводного парка средствам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лся значительный объём ресурсов для обеспечения непрерывной и безопасной эксплуатации трубопров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тнк-вр карта рус"/>
          <p:cNvPicPr/>
          <p:nvPr/>
        </p:nvPicPr>
        <p:blipFill>
          <a:blip r:embed="rId1"/>
          <a:stretch/>
        </p:blipFill>
        <p:spPr>
          <a:xfrm>
            <a:off x="971640" y="1413000"/>
            <a:ext cx="6534000" cy="34718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500720" y="4960800"/>
            <a:ext cx="3673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NK-BP was established i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company had received about 28000 km of 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part of pipelines had more than 15 years of operation and not best ever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protection was insuffic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resources were required to ensure safe and continuous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683AFAF-942C-44F2-B14D-EA221CF7C69E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28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FDA33455-00ED-4C9E-9FF9-D75FA595A959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23:35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THK-BP presentatio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D5ECA91-8117-4B29-BE76-46FB29D8E9C4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19560"/>
            <a:ext cx="710712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787640" y="1509840"/>
            <a:ext cx="4136760" cy="53481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2004 integrity management strategy was developed with a goal to reduce pipeline l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ocus area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leak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leaking pip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ing and implementation of advanced technologies to increase technical condition of pipelines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ibi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insp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osion prot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repair technologie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essment tool was developed to identify critical pipelines that require additional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oard of Directors set a goal to reduce leaks by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ior management obtain regular pipeline integrity reporting with leak caus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idiaries were provided with required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63600" y="1509840"/>
            <a:ext cx="43527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4 году была разработана стратегия управления целостностью. Основная цель которой - снижение аварийности всех трубопровод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 направления стратегии управления целостность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на аварийных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ация и внедрение новых технологий для повышения уровня технического состояния существующих трубопровод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нгибирование, новые методы диагностики, электрохимическая защита, современные технологии ремон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л разработан инструмент приоритезации трубопроводов, с помощью которого выделяются наиболее важные трубопроводы, определяются приоритеты на реконструкцию, причем более высокий приоритет получают трубопроводы, пролегающие через экологически чувствительные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Директоров ТНК-ВР установил обязательство к 2009 году снизить на 50% исторически сложившуюся в компаниях-предшественницах аварийность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шее руководство компании получает регулярную отчётность об аварийности трубопроводов с анализом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едприятиях ТНК-ВР было профинансировано применение новых технологий, включая ингибирование коррозии и диагно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4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4165339-681E-43EA-83C1-BDB898052220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28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52FBC5FC-2E67-4861-8845-8DEA2B1C9858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23:35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5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Название презентации ТНК-В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BC8B945-DDE6-4548-9472-FB66EDA45A5A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2600" y="619560"/>
            <a:ext cx="301140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at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73760" y="1773000"/>
            <a:ext cx="2370240" cy="48495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 risk assessment is made by application of prioritization mod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key factors to ass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failu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consequen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s are divided to 4 categories by ri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eveals critical pipelines from environmental, production and safety standpoint where leak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and high risk pipelines are most priority to replace and protect from cor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data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3132000" y="1698480"/>
            <a:ext cx="3527640" cy="2378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3462480" y="4479840"/>
            <a:ext cx="2660400" cy="2349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3635280" y="407664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пределение парка трубопроводов ТНК-ВР по рис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TNK-BP pipelines risk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1773360"/>
            <a:ext cx="316224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 и их последствий производится по модели приоритезации трубопрово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ключевых факторы модели приоритезации оцен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 поры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посл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критичности трубопроводы относятся к четырем зонам опас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 – очень высок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ысо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 – ни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ыделяет наиболее важные трубопроводы с точки зрения экологии, добычи и безопасности на которых возможны ав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бопроводам высокой и очень высокой категории риска отдаётся приоритет для замены, реконструкции и проведения мероприятий по защите от корро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модели проводится на ежегод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488880" y="59436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рис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 приорите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1D03-F7E2-4394-84AF-D432821C637C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1440" y="375120"/>
            <a:ext cx="365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3289320" y="4199040"/>
            <a:ext cx="29433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3247920" y="1628640"/>
            <a:ext cx="2878200" cy="2438640"/>
            <a:chOff x="3247920" y="1628640"/>
            <a:chExt cx="2878200" cy="2438640"/>
          </a:xfrm>
        </p:grpSpPr>
        <p:pic>
          <p:nvPicPr>
            <p:cNvPr id="537" name="Picture 14" descr=""/>
            <p:cNvPicPr/>
            <p:nvPr/>
          </p:nvPicPr>
          <p:blipFill>
            <a:blip r:embed="rId2"/>
            <a:stretch/>
          </p:blipFill>
          <p:spPr>
            <a:xfrm>
              <a:off x="3247920" y="1628640"/>
              <a:ext cx="28782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6"/>
            <p:cNvSpPr/>
            <p:nvPr/>
          </p:nvSpPr>
          <p:spPr>
            <a:xfrm>
              <a:off x="3287160" y="2382840"/>
              <a:ext cx="91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До создан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ТНК-ВР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fore TNK-B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"/>
            <p:cNvSpPr/>
            <p:nvPr/>
          </p:nvSpPr>
          <p:spPr>
            <a:xfrm>
              <a:off x="3688560" y="2717640"/>
              <a:ext cx="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8"/>
          <p:cNvSpPr/>
          <p:nvPr/>
        </p:nvSpPr>
        <p:spPr>
          <a:xfrm>
            <a:off x="179280" y="1670040"/>
            <a:ext cx="324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4 года ТНК-ВР реконструировала более 3000 км трубопров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язательное примен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номичног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пособа защиты от внутренней и наружной корроз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зможность для проведения диагностики и очист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ходной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трубной прод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трои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8 г. повсеместно внедряется практика привлечения внешних подрядчиков для проведения независимого технадзора при строительстве и реконстр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арые трубопроводы при реконструкции выводятся из эксплуатации и демонтирую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известных ремонтных технологий с применением полиэтиленового лайне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вышение доли ремонтных мероприятий по результатам диагностики для оптимизации затр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92360" y="1484280"/>
            <a:ext cx="25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ъёмы замены трубопровод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 Pipeline repla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9"/>
          <p:cNvSpPr/>
          <p:nvPr/>
        </p:nvSpPr>
        <p:spPr>
          <a:xfrm>
            <a:off x="6227640" y="1700280"/>
            <a:ext cx="273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2004 TNK-BP had replaced over 30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application economical method of corrosion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inspect and 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control of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quality control contractors are used on all construction sites since 20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pipelines are to be fully decommiss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advanced repair technologies with polyethylene l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repairs based on inspection results to optimize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7787-0E17-40C8-B163-8738C761E8FA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8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9600" cy="244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292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гиб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45"/>
          <p:cNvSpPr/>
          <p:nvPr/>
        </p:nvSpPr>
        <p:spPr>
          <a:xfrm>
            <a:off x="3276720" y="28526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560" y="1471320"/>
            <a:ext cx="2881080" cy="51498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проектов и расширение на всю компанию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ст объёмов ингибиторной защиты в 5 раз с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йчас в ТНК-ВР под ингибированием находи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трубопроводов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ельная аварийность на старых ингибируемых трубопроводах в 10 раз ниже чем на трубопроводах без защи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рость коррозии снижается на 90% при подаче ингибито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енение только высокоэффективных реаг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ся входной контроль качества реаг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ан и утвержден СТАНДАРТ по ингибиторной защ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дрена система Оценочных листов для контроля и оценки качества ингиб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ние всех работ по ингибированию и мониторингу к требованиям СТАНДАР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западной практики комплексного ингибирования – покупка реагента вместе с результат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3024360" y="4417920"/>
            <a:ext cx="3400200" cy="2173320"/>
            <a:chOff x="3024360" y="4417920"/>
            <a:chExt cx="3400200" cy="2173320"/>
          </a:xfrm>
        </p:grpSpPr>
        <p:pic>
          <p:nvPicPr>
            <p:cNvPr id="550" name="Picture 50" descr=""/>
            <p:cNvPicPr/>
            <p:nvPr/>
          </p:nvPicPr>
          <p:blipFill>
            <a:blip r:embed="rId2"/>
            <a:stretch/>
          </p:blipFill>
          <p:spPr>
            <a:xfrm>
              <a:off x="3024360" y="4417920"/>
              <a:ext cx="340020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51"/>
            <p:cNvSpPr/>
            <p:nvPr/>
          </p:nvSpPr>
          <p:spPr>
            <a:xfrm>
              <a:off x="3095280" y="4451040"/>
              <a:ext cx="3247920" cy="20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135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52"/>
          <p:cNvSpPr/>
          <p:nvPr/>
        </p:nvSpPr>
        <p:spPr>
          <a:xfrm>
            <a:off x="4334040" y="4368960"/>
            <a:ext cx="1440" cy="1207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3225960" y="3975120"/>
            <a:ext cx="2663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Точка закачки ингибитора</a:t>
            </a: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/ Inhibitor injection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4"/>
          <p:cNvSpPr/>
          <p:nvPr/>
        </p:nvSpPr>
        <p:spPr>
          <a:xfrm>
            <a:off x="3581280" y="5888160"/>
            <a:ext cx="436680" cy="26172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ff66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5"/>
          <p:cNvSpPr/>
          <p:nvPr/>
        </p:nvSpPr>
        <p:spPr>
          <a:xfrm>
            <a:off x="5273640" y="5875200"/>
            <a:ext cx="436680" cy="26208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99cc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6"/>
          <p:cNvSpPr/>
          <p:nvPr/>
        </p:nvSpPr>
        <p:spPr>
          <a:xfrm>
            <a:off x="3225960" y="625644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Незащи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Not 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7"/>
          <p:cNvSpPr/>
          <p:nvPr/>
        </p:nvSpPr>
        <p:spPr>
          <a:xfrm>
            <a:off x="4971960" y="6256440"/>
            <a:ext cx="112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Защ</a:t>
            </a:r>
            <a:r>
              <a:rPr b="1" lang="ru-RU" sz="1000" spc="-1" strike="noStrike">
                <a:solidFill>
                  <a:srgbClr val="99cc00"/>
                </a:solidFill>
                <a:latin typeface="Tahoma"/>
              </a:rPr>
              <a:t>и</a:t>
            </a: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4351320" y="5551560"/>
            <a:ext cx="27324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2986200" y="148428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ингибиторной защиты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hibition sco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0"/>
          <p:cNvSpPr/>
          <p:nvPr/>
        </p:nvSpPr>
        <p:spPr>
          <a:xfrm>
            <a:off x="3940200" y="375120"/>
            <a:ext cx="32526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1"/>
          <p:cNvSpPr/>
          <p:nvPr/>
        </p:nvSpPr>
        <p:spPr>
          <a:xfrm>
            <a:off x="6443640" y="1557360"/>
            <a:ext cx="2521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and corporate implementatio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growth by 5 times sin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ipeline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age leak rate on inhibited pipelines 10 times less in comparison with not protected of same a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speed is reduced by 90% after inhibitor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 of chemicals that per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datory qualit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tandard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corecard implemented to ensure it`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ng inhibition and monitoring in standar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western approach of complex inhibition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f chemical with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2"/>
          <p:cNvSpPr/>
          <p:nvPr/>
        </p:nvSpPr>
        <p:spPr>
          <a:xfrm>
            <a:off x="2885400" y="238752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9E36-D957-45CE-89F2-B2286BFB0B9F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1"/>
          <a:stretch/>
        </p:blipFill>
        <p:spPr>
          <a:xfrm>
            <a:off x="2281320" y="1441440"/>
            <a:ext cx="3887640" cy="2457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508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120" y="1628280"/>
            <a:ext cx="2881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ее важные трубопроводы подвергаются внутритрубной диагност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испытаний современн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гнитные методы 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2007  в ТНК-ВР разработана методика диагностики нефтепромысловых трубопроводов с увеличенным объёмом контроля по сравнению с требованиями Ростехнадзо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ультаты диагностики являются необходимым условием для обоснования инвестиц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применения нов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результатов диагностики для формирования перспективных планов замены и ремонта трубопроводов и оценки эффективност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2954160" y="25178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IMG_1695"/>
          <p:cNvPicPr/>
          <p:nvPr/>
        </p:nvPicPr>
        <p:blipFill>
          <a:blip r:embed="rId2"/>
          <a:stretch/>
        </p:blipFill>
        <p:spPr>
          <a:xfrm>
            <a:off x="2857680" y="3962520"/>
            <a:ext cx="3095280" cy="27302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3"/>
          <p:cNvSpPr/>
          <p:nvPr/>
        </p:nvSpPr>
        <p:spPr>
          <a:xfrm>
            <a:off x="2763720" y="151272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диагностики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spection cove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2542680" y="208296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084720" y="1628640"/>
            <a:ext cx="2737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important pipelines are subjected to smart pi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of recent inspection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tic methods an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2007 TNK-BP issued inspection methodology that require additional scope compared to Rostechnadzor require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are mandatory to justify invest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recent inspection technologies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to be used to create long term plans for replacement, repairs and corrosion protec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28AD96B-CB15-4A60-91B8-99E4D7BF4BF1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64000" y="691560"/>
            <a:ext cx="149256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644400" y="683640"/>
            <a:ext cx="2211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6:29Z</dcterms:created>
  <dc:creator>Vladimir Leontenkov</dc:creator>
  <dc:description/>
  <dc:language>en-US</dc:language>
  <cp:lastModifiedBy>ABott</cp:lastModifiedBy>
  <dcterms:modified xsi:type="dcterms:W3CDTF">2009-10-13T05:23:58Z</dcterms:modified>
  <cp:revision>1075</cp:revision>
  <dc:subject/>
  <dc:title>Board of Directors HSE Report</dc:title>
</cp:coreProperties>
</file>