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BF8B-972B-4922-AB2F-F40B8C1EC18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4E67-8108-4E7E-BA87-ABD3FB4F4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B270-B422-4FB9-BFF6-D6E1C0722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9878-1562-43D4-9F67-2F05202A78F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15BD-D3A5-4857-A39A-1017D7D02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964E-8081-48E3-8A46-544CA7B8062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642B-113A-4AC1-806E-CED2965CA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3158-D90D-4F03-8158-838818E8896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C291-EBD0-47F0-BF8F-E3692AFF1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7108-1EC4-41F3-AEF3-61C2805EA45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44D3-6FCB-4DE6-80A1-9BEB99DA0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0033-10AC-494F-BB7B-D096C477A25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759F-77C4-426A-9821-89DC2F884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8B42-3DDD-4B33-914D-94A268DEA3D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07D6-3516-420D-BB0B-7D70C140D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A9D8-3426-46C6-A35A-953C2FC2EF6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3539-ADB0-4BF8-99FD-2F4824405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7B7D-0EA9-4A2F-AF5F-B15C0A269AD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03A6-116F-4BAD-B61C-1C7535D2E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6A82-1158-41F1-A3C1-DDDC95668BF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9A0A-FF4F-4F1A-BEFF-7B4BE53FB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1745-9955-4CA1-8A20-523385D417C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4935-93B5-4B0A-B9E4-25C586285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E791-AD34-43AD-833D-373814F21D6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DAF7-7615-4A42-8802-67F9B30A7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90E8-B13F-41F3-8520-69C046C4A2D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37AB-4892-4425-865F-AB7AA9AED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346C-505A-4E7A-8A3C-E65529F3E22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F09768A6-0272-453D-8799-DCF9BB624ED2}"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B2834208-A795-44EC-A0D6-8538EDD39F44}" type="datetime1">
              <a:rPr lang="en-US"/>
              <a:t>07/29/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F73D27FD-CF9E-4A40-909D-7262C80B8299}"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C19B1C30-9503-445D-A14D-92CA184B5D36}"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DA852AD9-CC56-4DAC-A649-1E0C3EEF8EA6}"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73BE0111-CD3E-4308-A247-B092E1A77F96}" type="datetime1">
              <a:rPr lang="en-US"/>
              <a:t>07/29/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06ED4EF6-C704-4F97-A15B-ACE4D3616F07}" type="datetime1">
              <a:rPr lang="en-US"/>
              <a:t>07/29/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27D0D98D-DA9F-4890-AA96-47A14B802F9D}" type="datetime1">
              <a:rPr lang="en-US"/>
              <a:t>07/29/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2993EC57-6D2A-4AA8-BC06-A48B1939AF43}" type="datetime1">
              <a:rPr lang="en-US"/>
              <a:t>07/29/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68AC6829-EF59-4F5D-8600-98F87E6C144E}"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A397E3A3-5F94-414E-8E2B-36F6466A37A7}" type="datetime1">
              <a:rPr lang="en-US"/>
              <a:t>07/29/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8FA72801-A9A1-4D8B-AEE1-0BF381ED0E56}"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C6F4E788-33FC-40AB-9AC8-1D27CC681EE7}" type="datetime1">
              <a:rPr lang="en-US"/>
              <a:t>07/29/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450A82C8-E9EC-4152-A377-412DEEFAE7E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C3108530-4FA1-49D0-A63E-3EA596AB5DE4}" type="datetime1">
              <a:rPr lang="en-US"/>
              <a:t>07/29/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2CBA07BD-5FCE-4E7F-BE27-8B6D13D4BD1A}" type="datetime1">
              <a:rPr lang="en-US"/>
              <a:t>07/29/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FB3A742A-B95D-4F59-BE30-450CFBD4C575}" type="datetime1">
              <a:rPr lang="en-US"/>
              <a:t>07/29/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FF5BB875-4DB7-4BF0-85C3-C13B4DF09BE5}" type="datetime1">
              <a:rPr lang="en-US"/>
              <a:t>07/29/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328C8A30-DBE6-4AC0-9A8C-1DAB845708ED}"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A758D2B4-4105-45D2-9321-ADF7EAE349F1}"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330B5BE2-67FC-40DB-8261-1A7D724F89CC}" type="datetime1">
              <a:rPr lang="en-US"/>
              <a:t>07/29/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854F6BD7-E4EE-4757-AF02-978A25C3C7D8}"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F9FF7545-E2BF-40D5-BC5B-C41E286D5D3F}"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90321A33-9B48-4765-8545-4D9D8606C0FD}"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A3495E0E-0012-4B20-8B4A-F96835C34241}"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