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A5CD-4BDA-4BF6-AF88-E93B59E363B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DD78-274F-4397-B12B-50796D449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B4F4-B61A-47E1-91CF-4071C697A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27BA-FA2D-4DDB-B0C4-BECEBFBE421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47D6-98C8-45F1-B787-198F28492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86A9-0C90-4F14-A52C-02FA93B8583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81BA-FDEF-438D-8FDB-5B49EB966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002F-148E-4604-AF24-8110CC981A5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9810-5E3C-4FA5-8807-533907B36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C460-97C9-4F13-9AE7-452396044CD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F9D6-C529-4B4C-82D4-C4DF4E299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FC61-C468-4AA2-9A14-E7C3B872D8D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117E-2B87-483B-90AD-F3B37B561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9312-2B9F-48B5-8EA1-086B598BB8B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27D9-8AC0-40C7-8D0E-669222B17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6381-57EA-411A-B8E2-EDDCD51FBF5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7C27-8A27-4075-B028-EAD34630E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CFB0-3EC6-4629-A402-34F3DC2C929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3911-342C-44B0-90FF-502B04E9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7717-696D-4204-85B8-7EFC3E6C09C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B517-EFC9-4970-BA7E-E0705D864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9A62-BCB1-4DB0-89AF-5F93FAA00CC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DDD5-3951-492D-928A-CE9C43D8E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1E50-5C4B-4264-B4AA-D632115DF32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7ED0-49C9-4560-9528-EEEEECE72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8839-1179-43A0-BB4D-AE27F4C0524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CD3C-3D2E-46CB-AB5E-127FD33CA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9EB8-D9DA-4F85-9031-349C67421AC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C6BF6C76-B3ED-41B1-8582-EE0EB964C6C7}"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A5ED24C8-9C71-401F-9EAE-9860A09A2700}" type="datetime1">
              <a:rPr lang="en-US"/>
              <a:t>07/31/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4CABBE5-0111-4010-9946-B935149D59AF}"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98AA03FB-F881-44ED-B4ED-DEF65CF41213}"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11B7EA91-699F-4197-8127-A821321099C0}"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6880E173-425D-4FA7-AA4D-465A85FEB754}" type="datetime1">
              <a:rPr lang="en-US"/>
              <a:t>07/31/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12AD9977-2365-40A8-A7EC-A98BEDC851B8}" type="datetime1">
              <a:rPr lang="en-US"/>
              <a:t>07/31/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9C6BB0D4-2B98-4514-9224-CB1CFEB71F03}" type="datetime1">
              <a:rPr lang="en-US"/>
              <a:t>07/31/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CCE986CB-AFB9-4928-BA6E-CED67B16621B}" type="datetime1">
              <a:rPr lang="en-US"/>
              <a:t>07/31/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AA0B5B42-60B7-491C-ACEF-A2A1FFB3EB23}"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54C44AD2-1290-45D6-8945-B4A26A1EC194}" type="datetime1">
              <a:rPr lang="en-US"/>
              <a:t>07/31/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1E463ABE-6511-4941-867A-808DE71FA78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C05B49A7-BD11-4BA8-8B29-C2EB0F03AF9C}" type="datetime1">
              <a:rPr lang="en-US"/>
              <a:t>07/31/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E67FBB95-F8B0-460A-AB6A-843EB551C59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266B7CF-BA55-4287-AE6C-00FB22707367}" type="datetime1">
              <a:rPr lang="en-US"/>
              <a:t>07/31/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878C50B5-17FC-425B-B450-D4D43DC0B776}" type="datetime1">
              <a:rPr lang="en-US"/>
              <a:t>07/31/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607B7FB3-16E6-4696-BADA-696434847A3A}" type="datetime1">
              <a:rPr lang="en-US"/>
              <a:t>07/31/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A83A6F45-0C35-4E2B-B5BF-E254C5AE02C9}" type="datetime1">
              <a:rPr lang="en-US"/>
              <a:t>07/31/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11B557BF-7172-4F34-AAC6-A1E8BBEE42F3}"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E54B3D93-5784-4E58-9839-A0C30852071A}"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1D35B958-A7B6-4F47-9EC7-9D74E5A78359}"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D15EC08F-C655-461E-98D7-765BA916AFE2}"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81971269-CEC2-4728-9786-03891E9DAE47}"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7519D640-E7AF-4A7F-8B4A-059C2698BE9D}"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2D2974FA-F6AC-4747-9B4D-2A4EC48A95A9}"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