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0D55-9C03-46DB-B86B-BA38A944CDC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416A-877E-4802-9002-1831DECF2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D9EC-4CE4-4A36-95D0-D3AB4E338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2BC2-D197-480E-953B-63592F54DE6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9C07-1B64-408E-ADB8-440C524C5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C08E-BDF9-4D80-B568-CEB4340B1D8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7F42-3C3B-462F-95BC-1C334218D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39DB-B15A-4CEE-BCB3-47C9733696D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12E7-85AF-448C-848B-B69056A8E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BB4B-AE83-4901-BFB0-4917AC9C60E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744F-F926-43CB-8466-06AE070C1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81BE-F5EE-4360-9C2A-0D3622AEADF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6E7B-9DF9-4D48-977D-F6DBB67F5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1407-E529-406C-97F4-228C524F7EC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842E-F0A4-47F4-BAC6-296081D1A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B454-370C-4A0E-9E69-33263353101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1E4F-9A73-4856-A3CF-3DABE4B9B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6B28-9843-4528-95FA-D04CB893FB3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96D9-741B-426D-955A-381AB3913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81F8-1A54-4A06-97D9-E6CE001B206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95A8-0CD5-491E-AAEA-7421D056A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A046-70CC-4087-9B60-C67A71CD9E7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4B09-0E0B-4803-A52F-37AAD3E6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8BD0-2179-4074-BA0A-E7975B1747B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51B2-9265-4B93-8A71-37E597ED8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8DA3-8447-4069-9160-914DF4305B0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9DB5-AB30-47C2-9B46-D33BF9CC1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3A5D-D85C-4326-848E-6C0B97FC101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F36FBD12-6363-45F8-8A75-1D75FBF8C166}"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44DC1E77-3A28-42EC-979F-6CE159350BA0}" type="datetime1">
              <a:rPr lang="en-US"/>
              <a:t>07/3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F7F52D52-64A3-4B87-90EB-53FE922CBB7A}"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4D6CEFEC-32AC-45BC-9D08-4F4E1ADE72BF}"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E733750-013E-4A5E-86A3-498255AE590A}"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0CE4C07A-08A3-4105-87C1-515C36B67639}"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7328891D-3B18-4911-9C15-C2E05A44BCE8}"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492E6AB1-4426-4FF4-887E-FB2C27264672}"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642F5FB3-228A-490C-B9B2-D05EE5D24763}" type="datetime1">
              <a:rPr lang="en-US"/>
              <a:t>07/30/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3F7E1B1-A169-4D55-AD85-5B6572BB8C7D}"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DBF89A8F-87CE-49A5-A703-ED4BB19DA263}" type="datetime1">
              <a:rPr lang="en-US"/>
              <a:t>07/30/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5C2792F1-6CBA-4515-802F-0E61C0D8878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B2C6E4DA-7E00-4466-BC90-8854952AEC23}" type="datetime1">
              <a:rPr lang="en-US"/>
              <a:t>07/30/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BBD5BDC9-F1BB-4833-BB02-29ED2F66314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9B9450F-FBB2-46A5-BD53-50A5352ACF3C}" type="datetime1">
              <a:rPr lang="en-US"/>
              <a:t>07/30/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226268E-7D07-493E-B103-15A77EAA7817}"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95FD93F-72E6-460C-8B6C-CA4FBD1E9F98}" type="datetime1">
              <a:rPr lang="en-US"/>
              <a:t>07/30/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05B387DE-6F17-484B-B458-EB266D3ECB94}"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2EAC2149-BD8B-45F5-BAF0-C5205C394D21}"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69BD6911-C5A0-438A-96C7-EEADD67E54C1}"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3146929-6367-4850-915B-8D361F2EC7B5}"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B32E2B27-A83D-4FC8-9F6F-AFB8BF6A239F}"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650A1FFE-4488-46F1-ACA0-AAE50847C9A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57EBA112-07D5-405A-9A99-9BDC582E90E9}"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CB4782B6-11A5-4CBB-993F-23804817311C}"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