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D294-5B5C-4EFB-BB7E-1EC120BCFC8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D315-115D-4278-B6F8-CB316E436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7D75-96DB-4C6C-B11A-16AA6B103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2F89-65BF-4636-A4E4-DED0B374018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C607-3D9E-4468-8279-4B40724F0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0DF7-8416-4257-BA98-E3DDB40A47A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57C9-7218-4EA1-963E-1286D619B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D002-C033-4356-95B9-9AA9B0BD87D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1648-FDCA-4475-8144-43130ED09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9C7E-8EC9-466A-BF53-9D30074E877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1FF0-88AD-4F2E-9431-1B74254E6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3BAF-ABA0-4886-971C-56310CA0B33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98EF-409E-4907-A0DA-2262681A4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1C0B-AA59-4CEE-8A13-CB729614196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936F-905B-489E-8EFB-7FCA64E55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4D09-75FB-4FCF-B432-1EA840A89B6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0D64-3505-47C0-B583-6C8193098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BBE5-C31C-4935-A235-683E3AFE65D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C7CD-B063-4361-A165-971BDAFCF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B42C-251B-4D9F-99FB-51283A1EFF9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C30B-F21B-48A2-9D9D-B477B0CE5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6C05-663B-4DAF-88F6-6411EA3FB50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0BFE-2150-409A-B0CA-684B89E41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B7A1-C80F-4632-8AA6-A09D79EE8CC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66AC-9AC2-44E5-A05F-ACEB03B9E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A54A-28AF-4C7B-BA63-7BF6BF8187C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DBFB-93E8-4D7A-BD4C-3D90C6D9E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0B1C-AD51-421F-B610-CC6A5182818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D206B09D-BA7C-48CC-852F-725DB5E573E6}"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82DE29C8-C34D-41F4-9FBE-F1C6827298EE}" type="datetime1">
              <a:rPr lang="en-US"/>
              <a:t>07/29/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B2C0F639-4AC7-440C-9B2D-E6E7260ED8EC}"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D4C18010-E593-4D66-B14A-617DD3F81EA7}"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5801F130-DC6C-454F-847E-7520BAEF9D43}"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1BF43204-6611-40FC-933A-75819B6D3A7A}" type="datetime1">
              <a:rPr lang="en-US"/>
              <a:t>07/29/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4AC96426-ED13-48FC-A4DF-32599EF982F3}" type="datetime1">
              <a:rPr lang="en-US"/>
              <a:t>07/29/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3048437A-F869-424F-B167-B0D1223DA921}" type="datetime1">
              <a:rPr lang="en-US"/>
              <a:t>07/29/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D0A4666B-CC2B-4ABD-AA7F-72B1370E1C67}" type="datetime1">
              <a:rPr lang="en-US"/>
              <a:t>07/29/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60C4F00C-B792-49DF-9AA1-BBE9EC9891F2}"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5BAAA417-EF6C-4703-8C22-154E31A936AE}" type="datetime1">
              <a:rPr lang="en-US"/>
              <a:t>07/29/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D9C3DAE7-47F4-47FF-894D-383F732E3CE4}"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18D17919-0DD7-4CBA-9DC7-67879FC57544}" type="datetime1">
              <a:rPr lang="en-US"/>
              <a:t>07/29/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7736EA31-95E1-4BE2-8A2A-13705EFBECE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0560D085-A369-4C76-8A82-258729A18667}" type="datetime1">
              <a:rPr lang="en-US"/>
              <a:t>07/29/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26BB8AC8-01A9-43A8-805D-30C5D4FE46D7}" type="datetime1">
              <a:rPr lang="en-US"/>
              <a:t>07/29/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FF4A0DE6-A20D-448E-B512-FA0A55666A03}" type="datetime1">
              <a:rPr lang="en-US"/>
              <a:t>07/29/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CE243268-9128-4B40-BA05-BA413D51A738}" type="datetime1">
              <a:rPr lang="en-US"/>
              <a:t>07/29/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69591071-23E4-4F28-952D-B98517727119}"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346975BF-9D4B-4581-B026-2889CB6C3F78}"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5439F2AC-5FD5-4508-B40C-BEE853609F9A}"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345E88E2-2AB0-47A5-BD07-84E94BDA6EFA}"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2B60F2AD-A87B-492A-BFD6-0433553F5593}"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6BCB87D2-B917-4A38-A6B9-3701416AC6F7}"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290BC929-84F2-4417-8071-88C4CC3B2522}"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