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36C8-24EF-431C-BFAC-0B54C5CA41D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E9C7-3BF8-4996-9F4E-380B8ACBA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6719-9397-4BEC-8159-C6D2833E4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F9A0-4152-468A-BDBA-8604433B044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CC07-E02F-4694-AEF7-23930EBCA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2592-6493-4D35-93C3-6C6B3F0B7AF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FFA4-65DC-476B-9A06-245F2B6B0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1090-D25F-423B-8765-E7929876ECE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4957-5B24-44DA-B7E1-40E60CAF0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E972-A2CE-49A9-A8C4-DDE950EE1C2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3438-33EF-47B2-9A8A-0CFD9AD94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6F60-78CF-4CF8-A4A6-D8E2E27554F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F66B-DE91-4FC8-A222-DDF1015C5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97CB-CEF1-4185-BA2B-227BCE3257D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1A17-AC7C-4EA8-8E6D-501937299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537C-DF32-442D-82CC-64F74A2C3F5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3C44-72A4-4030-92B6-7707C72E3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9ED9-5DE6-4322-84D3-CC14183D545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F095-A54C-4224-B378-2B0DAFB26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BE66-7C8B-4C20-B690-F374D6217F2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EF47-CDAF-4442-8C09-CA06D46EB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6DE7-0B26-43C2-A0FD-B7CCB7BBBA8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2DCE-68B2-4F25-8CAE-2D9ACBF34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8547-211B-477F-B693-9E1980C6AE0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429E-85FA-41E7-A98B-4D00D1550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FE36-4CF8-4D69-AAA1-1663CA207ED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7D7E-8145-48BD-8CD6-52B3573C6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5542-600B-4C67-BD40-1F01088E0FF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D396EF48-CE5D-4689-91D0-DF880F612A41}"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EF0323B-09DA-4F24-92E6-6C9C3B225287}" type="datetime1">
              <a:rPr lang="en-US"/>
              <a:t>07/29/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F2DD55F2-9B82-42F6-8047-49BED68EEA80}"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DD27BF6B-1D0E-4727-B7F1-AA3400939455}"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624C8BE-6E4B-467C-A517-156E15FE593B}"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4878F460-B34C-4DE7-8D67-E6950FC59C52}" type="datetime1">
              <a:rPr lang="en-US"/>
              <a:t>07/29/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E8900F8F-8228-4F72-A58F-DB01436AB3F6}" type="datetime1">
              <a:rPr lang="en-US"/>
              <a:t>07/29/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ECD319B0-7995-4222-B704-4BF562828449}" type="datetime1">
              <a:rPr lang="en-US"/>
              <a:t>07/29/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2A592E0D-C1AE-41C5-AD36-1C3CB44F77CE}" type="datetime1">
              <a:rPr lang="en-US"/>
              <a:t>07/29/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83CEFAC-6451-47C4-914A-CE7722A3BA13}"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B4E541CC-E2D8-4172-8D55-B1F44229B4FC}" type="datetime1">
              <a:rPr lang="en-US"/>
              <a:t>07/29/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F8459AE6-A2CA-4F12-8DE3-3E0F601BA95F}"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10EB1168-2CBA-42DD-BE1B-E791AA38FCA0}" type="datetime1">
              <a:rPr lang="en-US"/>
              <a:t>07/29/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E1B07911-2167-45B6-96D4-BB07B7B8274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4B7EE00F-B7EC-4B2D-A8FA-38DADAB6BAF8}" type="datetime1">
              <a:rPr lang="en-US"/>
              <a:t>07/29/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0DB71FE-D566-43D8-ABEF-4E84322A0042}" type="datetime1">
              <a:rPr lang="en-US"/>
              <a:t>07/29/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5316D632-4C25-4F5A-9A8C-9F5D453E7AE7}" type="datetime1">
              <a:rPr lang="en-US"/>
              <a:t>07/29/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EE1931FA-0CB9-44A5-A72F-08824EA5B455}" type="datetime1">
              <a:rPr lang="en-US"/>
              <a:t>07/29/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9AF375F6-AA67-4FC6-8F2B-F944BE446EB7}"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21549313-15A2-41F2-A064-03E90EA910B2}"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F7178F63-4252-4A08-94BD-BCA2AEC933ED}"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911B4C33-DD75-4A76-B5D4-8F63C8A0F520}"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48B0C332-6F2D-4A98-88D3-730E0542CA65}"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5B09F9AE-BE9C-408B-93AB-14796FFD4B15}"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5C92B484-9DD6-43EF-A4F8-110D5CD5E83F}"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