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4.wmf" ContentType="image/x-wmf"/>
  <Override PartName="/ppt/media/image43.wmf" ContentType="image/x-wmf"/>
  <Override PartName="/ppt/media/image86.png" ContentType="image/png"/>
  <Override PartName="/ppt/media/image42.wmf" ContentType="image/x-wmf"/>
  <Override PartName="/ppt/media/image5.gif" ContentType="image/gif"/>
  <Override PartName="/ppt/media/image85.png" ContentType="image/png"/>
  <Override PartName="/ppt/media/image41.wmf" ContentType="image/x-wmf"/>
  <Override PartName="/ppt/media/image84.png" ContentType="image/png"/>
  <Override PartName="/ppt/media/image40.wmf" ContentType="image/x-wmf"/>
  <Override PartName="/ppt/media/image3.gif" ContentType="image/gif"/>
  <Override PartName="/ppt/media/image83.png" ContentType="image/png"/>
  <Override PartName="/ppt/media/image50.wmf" ContentType="image/x-wmf"/>
  <Override PartName="/ppt/media/image35.jpeg" ContentType="image/jpeg"/>
  <Override PartName="/ppt/media/image68.wmf" ContentType="image/x-wmf"/>
  <Override PartName="/ppt/media/image47.wmf" ContentType="image/x-wmf"/>
  <Override PartName="/ppt/media/image31.jpeg" ContentType="image/jpeg"/>
  <Override PartName="/ppt/media/image28.wmf" ContentType="image/x-wmf"/>
  <Override PartName="/ppt/media/image10.wmf" ContentType="image/x-wmf"/>
  <Override PartName="/ppt/media/image39.wmf" ContentType="image/x-wmf"/>
  <Override PartName="/ppt/media/image9.wmf" ContentType="image/x-wmf"/>
  <Override PartName="/ppt/media/image49.wmf" ContentType="image/x-wmf"/>
  <Override PartName="/ppt/media/image12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.jpeg" ContentType="image/jpeg"/>
  <Override PartName="/ppt/media/image61.wmf" ContentType="image/x-wmf"/>
  <Override PartName="/ppt/media/image62.wmf" ContentType="image/x-wmf"/>
  <Override PartName="/ppt/media/image26.wmf" ContentType="image/x-wmf"/>
  <Override PartName="/ppt/media/image63.wmf" ContentType="image/x-wmf"/>
  <Override PartName="/ppt/media/image66.wmf" ContentType="image/x-wmf"/>
  <Override PartName="/ppt/media/image67.wmf" ContentType="image/x-wmf"/>
  <Override PartName="/ppt/media/image89.wmf" ContentType="image/x-wmf"/>
  <Override PartName="/ppt/media/image77.wmf" ContentType="image/x-wmf"/>
  <Override PartName="/ppt/media/image65.wmf" ContentType="image/x-wmf"/>
  <Override PartName="/ppt/media/image19.jpeg" ContentType="image/jpeg"/>
  <Override PartName="/ppt/media/image82.png" ContentType="image/png"/>
  <Override PartName="/ppt/media/image64.wmf" ContentType="image/x-wmf"/>
  <Override PartName="/ppt/media/image81.png" ContentType="image/png"/>
  <Override PartName="/ppt/media/image79.wmf" ContentType="image/x-wmf"/>
  <Override PartName="/ppt/media/image78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9.wmf" ContentType="image/x-wmf"/>
  <Override PartName="/ppt/media/image71.wmf" ContentType="image/x-wmf"/>
  <Override PartName="/ppt/media/image70.wmf" ContentType="image/x-wmf"/>
  <Override PartName="/ppt/media/image18.jpeg" ContentType="image/jpeg"/>
  <Override PartName="/ppt/media/image55.wmf" ContentType="image/x-wmf"/>
  <Override PartName="/ppt/media/image8.wmf" ContentType="image/x-wmf"/>
  <Override PartName="/ppt/media/image32.jpeg" ContentType="image/jpeg"/>
  <Override PartName="/ppt/media/image38.wmf" ContentType="image/x-wmf"/>
  <Override PartName="/ppt/media/image80.wmf" ContentType="image/x-wmf"/>
  <Override PartName="/ppt/media/image15.wmf" ContentType="image/x-wmf"/>
  <Override PartName="/ppt/media/image24.wmf" ContentType="image/x-wmf"/>
  <Override PartName="/ppt/media/image25.wmf" ContentType="image/x-wmf"/>
  <Override PartName="/ppt/media/image14.wmf" ContentType="image/x-wmf"/>
  <Override PartName="/ppt/media/image36.wmf" ContentType="image/x-wmf"/>
  <Override PartName="/ppt/media/image17.jpeg" ContentType="image/jpeg"/>
  <Override PartName="/ppt/media/image45.wmf" ContentType="image/x-wmf"/>
  <Override PartName="/ppt/media/image11.wmf" ContentType="image/x-wmf"/>
  <Override PartName="/ppt/media/image48.wmf" ContentType="image/x-wmf"/>
  <Override PartName="/ppt/media/image87.jpeg" ContentType="image/jpeg"/>
  <Override PartName="/ppt/media/image27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33.wmf" ContentType="image/x-wmf"/>
  <Override PartName="/ppt/media/image1.wmf" ContentType="image/x-wmf"/>
  <Override PartName="/ppt/media/image13.wmf" ContentType="image/x-wmf"/>
  <Override PartName="/ppt/media/image7.wmf" ContentType="image/x-wmf"/>
  <Override PartName="/ppt/media/image6.wmf" ContentType="image/x-wmf"/>
  <Override PartName="/ppt/media/image30.jpeg" ContentType="image/jpeg"/>
  <Override PartName="/ppt/media/image37.wmf" ContentType="image/x-wmf"/>
  <Override PartName="/ppt/media/image29.jpeg" ContentType="image/jpeg"/>
  <Override PartName="/ppt/media/image8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1280" y="276120"/>
            <a:ext cx="8416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52080" y="1414440"/>
            <a:ext cx="8396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2080" y="3989520"/>
            <a:ext cx="8396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1280" y="276120"/>
            <a:ext cx="8416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080" y="1414440"/>
            <a:ext cx="40971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4440" y="1414440"/>
            <a:ext cx="40971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2080" y="3989520"/>
            <a:ext cx="40971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54440" y="3989520"/>
            <a:ext cx="40971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1280" y="276120"/>
            <a:ext cx="8416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2080" y="1414440"/>
            <a:ext cx="27032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040" y="1414440"/>
            <a:ext cx="27032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9640" y="1414440"/>
            <a:ext cx="27032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2080" y="3989520"/>
            <a:ext cx="27032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040" y="3989520"/>
            <a:ext cx="27032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9640" y="3989520"/>
            <a:ext cx="27032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1280" y="276120"/>
            <a:ext cx="8416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52080" y="1414440"/>
            <a:ext cx="8396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1280" y="276120"/>
            <a:ext cx="8416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52080" y="1414440"/>
            <a:ext cx="8396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1280" y="276120"/>
            <a:ext cx="8416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2080" y="1414440"/>
            <a:ext cx="40971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54440" y="1414440"/>
            <a:ext cx="40971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1280" y="276120"/>
            <a:ext cx="8416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1280" y="276120"/>
            <a:ext cx="84168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1280" y="276120"/>
            <a:ext cx="8416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2080" y="1414440"/>
            <a:ext cx="40971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4440" y="1414440"/>
            <a:ext cx="40971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52080" y="3989520"/>
            <a:ext cx="40971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1280" y="276120"/>
            <a:ext cx="8416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2080" y="1414440"/>
            <a:ext cx="40971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4440" y="1414440"/>
            <a:ext cx="40971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54440" y="3989520"/>
            <a:ext cx="40971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1280" y="276120"/>
            <a:ext cx="8416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52080" y="1414440"/>
            <a:ext cx="40971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4440" y="1414440"/>
            <a:ext cx="40971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2080" y="3989520"/>
            <a:ext cx="8396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477120"/>
            <a:ext cx="9144000" cy="291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1280" y="276120"/>
            <a:ext cx="8416800" cy="719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52080" y="1414440"/>
            <a:ext cx="8396280" cy="4929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17.jpeg"/><Relationship Id="rId19" Type="http://schemas.openxmlformats.org/officeDocument/2006/relationships/image" Target="../media/image17.jpeg"/><Relationship Id="rId20" Type="http://schemas.openxmlformats.org/officeDocument/2006/relationships/image" Target="../media/image17.jpeg"/><Relationship Id="rId21" Type="http://schemas.openxmlformats.org/officeDocument/2006/relationships/image" Target="../media/image17.jpeg"/><Relationship Id="rId22" Type="http://schemas.openxmlformats.org/officeDocument/2006/relationships/image" Target="../media/image17.jpeg"/><Relationship Id="rId2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wmf"/><Relationship Id="rId4" Type="http://schemas.openxmlformats.org/officeDocument/2006/relationships/image" Target="../media/image57.wmf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5944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258840" y="106200"/>
            <a:ext cx="3908520" cy="67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cline Curve Analysis and the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odern Reservoir Engin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Dr Shane K.F. Hatting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Gaffney, Cline and Associ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PE Moscow Section, 17</a:t>
            </a:r>
            <a:r>
              <a:rPr b="1" lang="en-GB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April 2007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98560" y="1744560"/>
            <a:ext cx="0" cy="214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759200" y="142920"/>
            <a:ext cx="4384800" cy="68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нализ падения добыч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ПД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современный специалист по разработке месторожд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р. Шэйн К.Ф. Гаттин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мпания Гэффни, Клайн и партнёр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ая сессия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PE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17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е апреля,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2007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68120" y="122400"/>
            <a:ext cx="88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.  DCA- taking a few steps bac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240000" y="3156120"/>
            <a:ext cx="2452680" cy="33033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42920" y="2060640"/>
            <a:ext cx="364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s it outdated, or just neglect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865080"/>
            <a:ext cx="88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. 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АПД – взгляд наза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24280" y="2003400"/>
            <a:ext cx="419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 устарел или им просто пренебрегают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4759200" y="2328840"/>
            <a:ext cx="4249800" cy="2300400"/>
          </a:xfrm>
          <a:prstGeom prst="rect">
            <a:avLst/>
          </a:prstGeom>
          <a:solidFill>
            <a:srgbClr val="a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4480" y="2313000"/>
            <a:ext cx="4078080" cy="2300400"/>
          </a:xfrm>
          <a:prstGeom prst="rect">
            <a:avLst/>
          </a:prstGeom>
          <a:solidFill>
            <a:srgbClr val="a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0320" y="0"/>
            <a:ext cx="321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What do we mean by DCA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023840"/>
            <a:ext cx="394020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rick’s Petroleum Engineering Handbook of 1962, on ‘Production-decline curves’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‘</a:t>
            </a:r>
            <a:r>
              <a:rPr b="1" i="1" lang="en-GB" sz="1600" spc="-1" strike="noStrike">
                <a:solidFill>
                  <a:srgbClr val="0000ff"/>
                </a:solidFill>
                <a:latin typeface="Arial"/>
              </a:rPr>
              <a:t>The basic assumption in this procedure is that whatever causes controlled the trend of a curve in the past will continue to govern its trend in the future in a uniform manner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This is the ‘Golden Rule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 this presentation we consider the </a:t>
            </a: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empirical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aspects without dwelling on the </a:t>
            </a: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underlying the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49840" y="824040"/>
            <a:ext cx="4235400" cy="50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уководстве по Разработке Месторождений под редакцией Фрика, изданном в 1962 году, так говорится о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вых падения добычи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’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‘</a:t>
            </a: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Основное предположение в этой процедуре состоит в том,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что те причины, которые контролировали тренд кривой в прошлом, продолжат контролировать этот тренд в будущем таким же образом</a:t>
            </a:r>
            <a:r>
              <a:rPr b="1" i="1" lang="en-GB" sz="1600" spc="-1" strike="noStrike">
                <a:solidFill>
                  <a:srgbClr val="0000ff"/>
                </a:solidFill>
                <a:latin typeface="Arial"/>
              </a:rPr>
              <a:t>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этом состоит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Золотое Правило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той презентации мы рассматриваем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эмпирические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спекты, не задерживаясь на </a:t>
            </a: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лежащей в основе теор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73640" y="0"/>
            <a:ext cx="34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то мы имеем в виду под АПД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00720" y="2652840"/>
            <a:ext cx="431640" cy="43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00720" y="26082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Extrapolate trend into fu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20600" y="2700360"/>
            <a:ext cx="432000" cy="43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58760" y="2655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Make a variety of plo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35520" y="4856040"/>
            <a:ext cx="432000" cy="42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11840" y="48369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Sanity che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380360" y="3357720"/>
            <a:ext cx="431640" cy="43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415280" y="3357720"/>
            <a:ext cx="1728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Impose constrai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291360" y="5369040"/>
            <a:ext cx="431640" cy="43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6120" y="741240"/>
            <a:ext cx="431640" cy="432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5691240"/>
            <a:ext cx="431640" cy="43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8680" y="741240"/>
            <a:ext cx="431640" cy="432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0320" y="0"/>
            <a:ext cx="378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What do we mean by DCA? – the 8 st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66840" y="7034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Quality check production data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56624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Identify interval for analy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73640" y="7081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Analyse historical tre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10440" y="5292720"/>
            <a:ext cx="2520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Estimate a reser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84360" y="3451320"/>
            <a:ext cx="744480" cy="482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058920" y="3470400"/>
            <a:ext cx="161640" cy="750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443640" y="3860640"/>
            <a:ext cx="72072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362240" y="1306440"/>
            <a:ext cx="2454120" cy="15242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08000" y="3284640"/>
            <a:ext cx="2454120" cy="15318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1835280" y="4149720"/>
            <a:ext cx="2454120" cy="15238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3324240" y="4995720"/>
            <a:ext cx="2282760" cy="14176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 flipV="1">
            <a:off x="1333440" y="4437000"/>
            <a:ext cx="214200" cy="144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1332000" y="4869000"/>
            <a:ext cx="1944720" cy="1009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124000" y="1268280"/>
            <a:ext cx="1224000" cy="792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2843280" y="1268280"/>
            <a:ext cx="504720" cy="865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5580000" y="1268280"/>
            <a:ext cx="2454480" cy="15242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 flipH="1">
            <a:off x="7092720" y="1268280"/>
            <a:ext cx="431640" cy="505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6443280" y="1268280"/>
            <a:ext cx="1081080" cy="793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>
            <a:off x="4788000" y="3284640"/>
            <a:ext cx="2460600" cy="15238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 flipH="1">
            <a:off x="6516720" y="3213000"/>
            <a:ext cx="287280" cy="1224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6300720" y="4436640"/>
            <a:ext cx="503280" cy="647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227640" y="4076640"/>
            <a:ext cx="216000" cy="243000"/>
          </a:xfrm>
          <a:custGeom>
            <a:avLst/>
            <a:gdLst/>
            <a:ahLst/>
            <a:rect l="l" t="t" r="r" b="b"/>
            <a:pathLst>
              <a:path w="576" h="697">
                <a:moveTo>
                  <a:pt x="0" y="307"/>
                </a:moveTo>
                <a:lnTo>
                  <a:pt x="118" y="516"/>
                </a:lnTo>
                <a:lnTo>
                  <a:pt x="576" y="0"/>
                </a:lnTo>
                <a:lnTo>
                  <a:pt x="69" y="697"/>
                </a:lnTo>
                <a:lnTo>
                  <a:pt x="0" y="30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732720" y="43657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6804000" y="4437000"/>
            <a:ext cx="21600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6804000" y="4436640"/>
            <a:ext cx="21600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6877080" y="3860640"/>
            <a:ext cx="790560" cy="505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9760" y="3451320"/>
            <a:ext cx="1074960" cy="1633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118200" y="5931000"/>
            <a:ext cx="2879640" cy="30708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cash flow and economic lim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586720" y="5719680"/>
            <a:ext cx="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92640" y="0"/>
            <a:ext cx="465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то мы имеем в виду под АПД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?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– 8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аг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66840" y="912960"/>
            <a:ext cx="41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Проверка качества данных по добыче</a:t>
            </a:r>
            <a:r>
              <a:rPr b="1" lang="en-GB" sz="1400" spc="-1" strike="noStrike" u="sng">
                <a:solidFill>
                  <a:srgbClr val="ffffff"/>
                </a:solidFill>
                <a:uFillTx/>
                <a:latin typeface="Arial"/>
              </a:rPr>
              <a:t> !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32480" y="1041480"/>
            <a:ext cx="361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Анализ исторических тренд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392120" y="2979720"/>
            <a:ext cx="278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Построение график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65680" y="2960640"/>
            <a:ext cx="437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Экстраполяция трендов на будуще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7680" y="6014880"/>
            <a:ext cx="32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пределение интервала для анализ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81920" y="3814920"/>
            <a:ext cx="1900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Задание ограничен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70640" y="5103720"/>
            <a:ext cx="267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Проверка</a:t>
            </a:r>
            <a:r>
              <a:rPr b="1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здравост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22920" y="561672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  <a:tab algn="l" pos="383364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ценка запас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16400" y="6216480"/>
            <a:ext cx="3927600" cy="30708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финансовый поток и экономические лимиты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0" y="684360"/>
            <a:ext cx="3713040" cy="58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"/>
              </a:rPr>
              <a:t>When basic reservoir data are not reliabl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sophisticated methods are only as good as the collective accuracy of the input data and physical descrip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"/>
              </a:rPr>
              <a:t>When resources are limi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"/>
              </a:rPr>
              <a:t>As a check for simulation resul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5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transition from history to foreca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"/>
              </a:rPr>
              <a:t>For reserve estimation purpo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simple, quick, transpar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useful for non-opera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"/>
              </a:rPr>
              <a:t>As a diagnostic too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changing trends can indicate changing (but unrecognised) influen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0320" y="0"/>
            <a:ext cx="386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DCA and the reservoir engineer’s toolk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365640" y="950760"/>
            <a:ext cx="1683720" cy="2373120"/>
            <a:chOff x="3365640" y="950760"/>
            <a:chExt cx="1683720" cy="2373120"/>
          </a:xfrm>
        </p:grpSpPr>
        <p:pic>
          <p:nvPicPr>
            <p:cNvPr id="344" name="" descr=""/>
            <p:cNvPicPr/>
            <p:nvPr/>
          </p:nvPicPr>
          <p:blipFill>
            <a:blip r:embed="rId1"/>
            <a:stretch/>
          </p:blipFill>
          <p:spPr>
            <a:xfrm>
              <a:off x="3445200" y="950760"/>
              <a:ext cx="1604160" cy="23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3365640" y="2820600"/>
              <a:ext cx="80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RE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773600" y="846000"/>
            <a:ext cx="4370400" cy="57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Когда основные данные по коллектору ненадёжн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ложные методы настолько эффективны, насколько эффективны общая точность вводных данных и физическое описа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Когда ресурсы ограничен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Как проверка результатов моделирова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5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переход от истории к прогнозу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Для оценки запасов</a:t>
            </a:r>
            <a:r>
              <a:rPr b="1" lang="en-GB" sz="1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просто, быстро, прозрачно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полезно для не разработчик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Как инструмент для диагностирования</a:t>
            </a:r>
            <a:r>
              <a:rPr b="1" lang="en-GB" sz="1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изменение трендов может указывать на изменение (но не опознанное) влия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97360" y="0"/>
            <a:ext cx="420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ПД и набор инструмента разработчи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719280"/>
            <a:ext cx="48657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Eight (fictitious) reservoir engineers given the same data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225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asked to estimate recoverable volumes based on D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each applied his or her ‘favourite’ meth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30320" y="14940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amp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023840" y="3052800"/>
            <a:ext cx="5836320" cy="3489120"/>
            <a:chOff x="1023840" y="3052800"/>
            <a:chExt cx="5836320" cy="3489120"/>
          </a:xfrm>
        </p:grpSpPr>
        <p:sp>
          <p:nvSpPr>
            <p:cNvPr id="352" name=""/>
            <p:cNvSpPr/>
            <p:nvPr/>
          </p:nvSpPr>
          <p:spPr>
            <a:xfrm>
              <a:off x="2790720" y="3676680"/>
              <a:ext cx="2219400" cy="200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стория добычи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1023840" y="3052800"/>
              <a:ext cx="5780160" cy="34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252440" y="3294000"/>
              <a:ext cx="5332680" cy="321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3"/>
            <a:stretch/>
          </p:blipFill>
          <p:spPr>
            <a:xfrm>
              <a:off x="1849320" y="3738600"/>
              <a:ext cx="354168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1849320" y="3738600"/>
              <a:ext cx="3541680" cy="21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49320" y="3738600"/>
              <a:ext cx="3541680" cy="2165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49320" y="3738600"/>
              <a:ext cx="1800" cy="216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811520" y="5904000"/>
              <a:ext cx="37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11520" y="5541840"/>
              <a:ext cx="37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811520" y="5180040"/>
              <a:ext cx="37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11520" y="4824360"/>
              <a:ext cx="37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811520" y="4462560"/>
              <a:ext cx="37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811520" y="4100400"/>
              <a:ext cx="37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811520" y="3738600"/>
              <a:ext cx="37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49320" y="5904000"/>
              <a:ext cx="354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1849320" y="590400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738520" y="59040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621240" y="59040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508640" y="59040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5391000" y="590400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47760" y="3859200"/>
              <a:ext cx="2799000" cy="2044800"/>
            </a:xfrm>
            <a:custGeom>
              <a:avLst/>
              <a:gdLst/>
              <a:ahLst/>
              <a:rect l="l" t="t" r="r" b="b"/>
              <a:pathLst>
                <a:path w="441" h="322">
                  <a:moveTo>
                    <a:pt x="0" y="322"/>
                  </a:moveTo>
                  <a:lnTo>
                    <a:pt x="23" y="38"/>
                  </a:lnTo>
                  <a:lnTo>
                    <a:pt x="46" y="56"/>
                  </a:lnTo>
                  <a:lnTo>
                    <a:pt x="69" y="22"/>
                  </a:lnTo>
                  <a:lnTo>
                    <a:pt x="93" y="60"/>
                  </a:lnTo>
                  <a:lnTo>
                    <a:pt x="116" y="73"/>
                  </a:lnTo>
                  <a:lnTo>
                    <a:pt x="139" y="80"/>
                  </a:lnTo>
                  <a:lnTo>
                    <a:pt x="162" y="77"/>
                  </a:lnTo>
                  <a:lnTo>
                    <a:pt x="186" y="25"/>
                  </a:lnTo>
                  <a:lnTo>
                    <a:pt x="209" y="49"/>
                  </a:lnTo>
                  <a:lnTo>
                    <a:pt x="232" y="0"/>
                  </a:lnTo>
                  <a:lnTo>
                    <a:pt x="255" y="81"/>
                  </a:lnTo>
                  <a:lnTo>
                    <a:pt x="279" y="92"/>
                  </a:lnTo>
                  <a:lnTo>
                    <a:pt x="302" y="110"/>
                  </a:lnTo>
                  <a:lnTo>
                    <a:pt x="325" y="160"/>
                  </a:lnTo>
                  <a:lnTo>
                    <a:pt x="348" y="143"/>
                  </a:lnTo>
                  <a:lnTo>
                    <a:pt x="372" y="139"/>
                  </a:lnTo>
                  <a:lnTo>
                    <a:pt x="395" y="162"/>
                  </a:lnTo>
                  <a:lnTo>
                    <a:pt x="418" y="193"/>
                  </a:lnTo>
                  <a:lnTo>
                    <a:pt x="441" y="230"/>
                  </a:ln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47760" y="3929040"/>
              <a:ext cx="2799000" cy="1974960"/>
            </a:xfrm>
            <a:custGeom>
              <a:avLst/>
              <a:gdLst/>
              <a:ahLst/>
              <a:rect l="l" t="t" r="r" b="b"/>
              <a:pathLst>
                <a:path w="441" h="311">
                  <a:moveTo>
                    <a:pt x="0" y="311"/>
                  </a:moveTo>
                  <a:lnTo>
                    <a:pt x="23" y="311"/>
                  </a:lnTo>
                  <a:lnTo>
                    <a:pt x="46" y="311"/>
                  </a:lnTo>
                  <a:lnTo>
                    <a:pt x="69" y="308"/>
                  </a:lnTo>
                  <a:lnTo>
                    <a:pt x="93" y="311"/>
                  </a:lnTo>
                  <a:lnTo>
                    <a:pt x="116" y="311"/>
                  </a:lnTo>
                  <a:lnTo>
                    <a:pt x="139" y="311"/>
                  </a:lnTo>
                  <a:lnTo>
                    <a:pt x="162" y="311"/>
                  </a:lnTo>
                  <a:lnTo>
                    <a:pt x="186" y="305"/>
                  </a:lnTo>
                  <a:lnTo>
                    <a:pt x="209" y="284"/>
                  </a:lnTo>
                  <a:lnTo>
                    <a:pt x="232" y="263"/>
                  </a:lnTo>
                  <a:lnTo>
                    <a:pt x="255" y="235"/>
                  </a:lnTo>
                  <a:lnTo>
                    <a:pt x="279" y="198"/>
                  </a:lnTo>
                  <a:lnTo>
                    <a:pt x="302" y="164"/>
                  </a:lnTo>
                  <a:lnTo>
                    <a:pt x="325" y="155"/>
                  </a:lnTo>
                  <a:lnTo>
                    <a:pt x="348" y="110"/>
                  </a:lnTo>
                  <a:lnTo>
                    <a:pt x="372" y="36"/>
                  </a:lnTo>
                  <a:lnTo>
                    <a:pt x="395" y="0"/>
                  </a:lnTo>
                  <a:lnTo>
                    <a:pt x="418" y="71"/>
                  </a:lnTo>
                  <a:lnTo>
                    <a:pt x="441" y="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47760" y="4633920"/>
              <a:ext cx="2799000" cy="1270080"/>
            </a:xfrm>
            <a:custGeom>
              <a:avLst/>
              <a:gdLst/>
              <a:ahLst/>
              <a:rect l="l" t="t" r="r" b="b"/>
              <a:pathLst>
                <a:path w="441" h="200">
                  <a:moveTo>
                    <a:pt x="0" y="200"/>
                  </a:moveTo>
                  <a:lnTo>
                    <a:pt x="23" y="0"/>
                  </a:lnTo>
                  <a:lnTo>
                    <a:pt x="46" y="60"/>
                  </a:lnTo>
                  <a:lnTo>
                    <a:pt x="69" y="55"/>
                  </a:lnTo>
                  <a:lnTo>
                    <a:pt x="93" y="62"/>
                  </a:lnTo>
                  <a:lnTo>
                    <a:pt x="116" y="76"/>
                  </a:lnTo>
                  <a:lnTo>
                    <a:pt x="139" y="70"/>
                  </a:lnTo>
                  <a:lnTo>
                    <a:pt x="162" y="78"/>
                  </a:lnTo>
                  <a:lnTo>
                    <a:pt x="186" y="105"/>
                  </a:lnTo>
                  <a:lnTo>
                    <a:pt x="209" y="116"/>
                  </a:lnTo>
                  <a:lnTo>
                    <a:pt x="232" y="93"/>
                  </a:lnTo>
                  <a:lnTo>
                    <a:pt x="255" y="102"/>
                  </a:lnTo>
                  <a:lnTo>
                    <a:pt x="279" y="56"/>
                  </a:lnTo>
                  <a:lnTo>
                    <a:pt x="302" y="81"/>
                  </a:lnTo>
                  <a:lnTo>
                    <a:pt x="325" y="115"/>
                  </a:lnTo>
                  <a:lnTo>
                    <a:pt x="348" y="109"/>
                  </a:lnTo>
                  <a:lnTo>
                    <a:pt x="372" y="106"/>
                  </a:lnTo>
                  <a:lnTo>
                    <a:pt x="395" y="54"/>
                  </a:lnTo>
                  <a:lnTo>
                    <a:pt x="418" y="113"/>
                  </a:lnTo>
                  <a:lnTo>
                    <a:pt x="441" y="14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109960" y="5865840"/>
              <a:ext cx="69840" cy="69840"/>
            </a:xfrm>
            <a:prstGeom prst="ellipse">
              <a:avLst/>
            </a:prstGeom>
            <a:solidFill>
              <a:srgbClr val="008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55760" y="4062240"/>
              <a:ext cx="69840" cy="70200"/>
            </a:xfrm>
            <a:prstGeom prst="ellipse">
              <a:avLst/>
            </a:prstGeom>
            <a:solidFill>
              <a:srgbClr val="008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01920" y="4176720"/>
              <a:ext cx="69840" cy="69840"/>
            </a:xfrm>
            <a:prstGeom prst="ellipse">
              <a:avLst/>
            </a:prstGeom>
            <a:solidFill>
              <a:srgbClr val="008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48080" y="3960720"/>
              <a:ext cx="69840" cy="69840"/>
            </a:xfrm>
            <a:prstGeom prst="ellipse">
              <a:avLst/>
            </a:prstGeom>
            <a:solidFill>
              <a:srgbClr val="008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700360" y="4202280"/>
              <a:ext cx="69840" cy="69840"/>
            </a:xfrm>
            <a:prstGeom prst="ellipse">
              <a:avLst/>
            </a:prstGeom>
            <a:solidFill>
              <a:srgbClr val="008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46520" y="4284720"/>
              <a:ext cx="69840" cy="69840"/>
            </a:xfrm>
            <a:prstGeom prst="ellipse">
              <a:avLst/>
            </a:prstGeom>
            <a:solidFill>
              <a:srgbClr val="008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992320" y="4329000"/>
              <a:ext cx="69840" cy="69840"/>
            </a:xfrm>
            <a:prstGeom prst="ellipse">
              <a:avLst/>
            </a:prstGeom>
            <a:solidFill>
              <a:srgbClr val="008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38480" y="4309920"/>
              <a:ext cx="69840" cy="69840"/>
            </a:xfrm>
            <a:prstGeom prst="ellipse">
              <a:avLst/>
            </a:prstGeom>
            <a:solidFill>
              <a:srgbClr val="008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90760" y="3979800"/>
              <a:ext cx="69840" cy="69840"/>
            </a:xfrm>
            <a:prstGeom prst="ellipse">
              <a:avLst/>
            </a:prstGeom>
            <a:solidFill>
              <a:srgbClr val="008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436920" y="4132440"/>
              <a:ext cx="69840" cy="69840"/>
            </a:xfrm>
            <a:prstGeom prst="ellipse">
              <a:avLst/>
            </a:prstGeom>
            <a:solidFill>
              <a:srgbClr val="008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3821040"/>
              <a:ext cx="69840" cy="69840"/>
            </a:xfrm>
            <a:prstGeom prst="ellipse">
              <a:avLst/>
            </a:prstGeom>
            <a:solidFill>
              <a:srgbClr val="008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728880" y="4335480"/>
              <a:ext cx="70200" cy="69840"/>
            </a:xfrm>
            <a:prstGeom prst="ellipse">
              <a:avLst/>
            </a:prstGeom>
            <a:solidFill>
              <a:srgbClr val="008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881520" y="4405320"/>
              <a:ext cx="69840" cy="69840"/>
            </a:xfrm>
            <a:prstGeom prst="ellipse">
              <a:avLst/>
            </a:prstGeom>
            <a:solidFill>
              <a:srgbClr val="008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025880" y="4519440"/>
              <a:ext cx="69840" cy="70200"/>
            </a:xfrm>
            <a:prstGeom prst="ellipse">
              <a:avLst/>
            </a:prstGeom>
            <a:solidFill>
              <a:srgbClr val="008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72040" y="4836960"/>
              <a:ext cx="69840" cy="69840"/>
            </a:xfrm>
            <a:prstGeom prst="ellipse">
              <a:avLst/>
            </a:prstGeom>
            <a:solidFill>
              <a:srgbClr val="008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17840" y="4729320"/>
              <a:ext cx="70200" cy="69840"/>
            </a:xfrm>
            <a:prstGeom prst="ellipse">
              <a:avLst/>
            </a:prstGeom>
            <a:solidFill>
              <a:srgbClr val="008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70480" y="4703760"/>
              <a:ext cx="69840" cy="69840"/>
            </a:xfrm>
            <a:prstGeom prst="ellipse">
              <a:avLst/>
            </a:prstGeom>
            <a:solidFill>
              <a:srgbClr val="008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16640" y="4849920"/>
              <a:ext cx="69840" cy="69840"/>
            </a:xfrm>
            <a:prstGeom prst="ellipse">
              <a:avLst/>
            </a:prstGeom>
            <a:solidFill>
              <a:srgbClr val="008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62440" y="5046840"/>
              <a:ext cx="69840" cy="69840"/>
            </a:xfrm>
            <a:prstGeom prst="ellipse">
              <a:avLst/>
            </a:prstGeom>
            <a:solidFill>
              <a:srgbClr val="008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08600" y="5281560"/>
              <a:ext cx="69840" cy="69840"/>
            </a:xfrm>
            <a:prstGeom prst="ellipse">
              <a:avLst/>
            </a:prstGeom>
            <a:solidFill>
              <a:srgbClr val="008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09960" y="5865840"/>
              <a:ext cx="69840" cy="69840"/>
            </a:xfrm>
            <a:prstGeom prst="ellipse">
              <a:avLst/>
            </a:prstGeom>
            <a:solidFill>
              <a:srgbClr val="00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255760" y="5865840"/>
              <a:ext cx="69840" cy="69840"/>
            </a:xfrm>
            <a:prstGeom prst="ellipse">
              <a:avLst/>
            </a:prstGeom>
            <a:solidFill>
              <a:srgbClr val="00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401920" y="5865840"/>
              <a:ext cx="69840" cy="69840"/>
            </a:xfrm>
            <a:prstGeom prst="ellipse">
              <a:avLst/>
            </a:prstGeom>
            <a:solidFill>
              <a:srgbClr val="00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548080" y="5846760"/>
              <a:ext cx="69840" cy="69840"/>
            </a:xfrm>
            <a:prstGeom prst="ellipse">
              <a:avLst/>
            </a:prstGeom>
            <a:solidFill>
              <a:srgbClr val="00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00360" y="5865840"/>
              <a:ext cx="69840" cy="69840"/>
            </a:xfrm>
            <a:prstGeom prst="ellipse">
              <a:avLst/>
            </a:prstGeom>
            <a:solidFill>
              <a:srgbClr val="00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46520" y="5865840"/>
              <a:ext cx="69840" cy="69840"/>
            </a:xfrm>
            <a:prstGeom prst="ellipse">
              <a:avLst/>
            </a:prstGeom>
            <a:solidFill>
              <a:srgbClr val="00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92320" y="5865840"/>
              <a:ext cx="69840" cy="69840"/>
            </a:xfrm>
            <a:prstGeom prst="ellipse">
              <a:avLst/>
            </a:prstGeom>
            <a:solidFill>
              <a:srgbClr val="00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38480" y="5865840"/>
              <a:ext cx="69840" cy="69840"/>
            </a:xfrm>
            <a:prstGeom prst="ellipse">
              <a:avLst/>
            </a:prstGeom>
            <a:solidFill>
              <a:srgbClr val="00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290760" y="5827680"/>
              <a:ext cx="69840" cy="69840"/>
            </a:xfrm>
            <a:prstGeom prst="ellipse">
              <a:avLst/>
            </a:prstGeom>
            <a:solidFill>
              <a:srgbClr val="00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36920" y="5694480"/>
              <a:ext cx="69840" cy="69840"/>
            </a:xfrm>
            <a:prstGeom prst="ellipse">
              <a:avLst/>
            </a:prstGeom>
            <a:solidFill>
              <a:srgbClr val="00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583080" y="5560920"/>
              <a:ext cx="69840" cy="69840"/>
            </a:xfrm>
            <a:prstGeom prst="ellipse">
              <a:avLst/>
            </a:prstGeom>
            <a:solidFill>
              <a:srgbClr val="00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28880" y="5383080"/>
              <a:ext cx="70200" cy="69840"/>
            </a:xfrm>
            <a:prstGeom prst="ellipse">
              <a:avLst/>
            </a:prstGeom>
            <a:solidFill>
              <a:srgbClr val="00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81520" y="5148360"/>
              <a:ext cx="69840" cy="69840"/>
            </a:xfrm>
            <a:prstGeom prst="ellipse">
              <a:avLst/>
            </a:prstGeom>
            <a:solidFill>
              <a:srgbClr val="00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025880" y="4932360"/>
              <a:ext cx="69840" cy="69840"/>
            </a:xfrm>
            <a:prstGeom prst="ellipse">
              <a:avLst/>
            </a:prstGeom>
            <a:solidFill>
              <a:srgbClr val="00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72040" y="4875120"/>
              <a:ext cx="69840" cy="69840"/>
            </a:xfrm>
            <a:prstGeom prst="ellipse">
              <a:avLst/>
            </a:prstGeom>
            <a:solidFill>
              <a:srgbClr val="00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17840" y="4589640"/>
              <a:ext cx="70200" cy="69840"/>
            </a:xfrm>
            <a:prstGeom prst="ellipse">
              <a:avLst/>
            </a:prstGeom>
            <a:solidFill>
              <a:srgbClr val="00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70480" y="4119480"/>
              <a:ext cx="69840" cy="69840"/>
            </a:xfrm>
            <a:prstGeom prst="ellipse">
              <a:avLst/>
            </a:prstGeom>
            <a:solidFill>
              <a:srgbClr val="00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16640" y="3890880"/>
              <a:ext cx="69840" cy="69840"/>
            </a:xfrm>
            <a:prstGeom prst="ellipse">
              <a:avLst/>
            </a:prstGeom>
            <a:solidFill>
              <a:srgbClr val="00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762440" y="4341960"/>
              <a:ext cx="69840" cy="69840"/>
            </a:xfrm>
            <a:prstGeom prst="ellipse">
              <a:avLst/>
            </a:prstGeom>
            <a:solidFill>
              <a:srgbClr val="00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908600" y="4284720"/>
              <a:ext cx="69840" cy="69840"/>
            </a:xfrm>
            <a:prstGeom prst="ellipse">
              <a:avLst/>
            </a:prstGeom>
            <a:solidFill>
              <a:srgbClr val="00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09960" y="5865840"/>
              <a:ext cx="69840" cy="69840"/>
            </a:xfrm>
            <a:prstGeom prst="ellips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55760" y="4595760"/>
              <a:ext cx="69840" cy="69840"/>
            </a:xfrm>
            <a:prstGeom prst="ellips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401920" y="4976640"/>
              <a:ext cx="69840" cy="70200"/>
            </a:xfrm>
            <a:prstGeom prst="ellips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548080" y="4944960"/>
              <a:ext cx="69840" cy="69840"/>
            </a:xfrm>
            <a:prstGeom prst="ellips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00360" y="4989600"/>
              <a:ext cx="69840" cy="69840"/>
            </a:xfrm>
            <a:prstGeom prst="ellips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46520" y="5078520"/>
              <a:ext cx="69840" cy="69840"/>
            </a:xfrm>
            <a:prstGeom prst="ellips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92320" y="5040360"/>
              <a:ext cx="69840" cy="69840"/>
            </a:xfrm>
            <a:prstGeom prst="ellips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38480" y="5091120"/>
              <a:ext cx="69840" cy="69840"/>
            </a:xfrm>
            <a:prstGeom prst="ellips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90760" y="5262480"/>
              <a:ext cx="69840" cy="69840"/>
            </a:xfrm>
            <a:prstGeom prst="ellips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436920" y="5332320"/>
              <a:ext cx="69840" cy="69840"/>
            </a:xfrm>
            <a:prstGeom prst="ellips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583080" y="5186520"/>
              <a:ext cx="69840" cy="69840"/>
            </a:xfrm>
            <a:prstGeom prst="ellips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728880" y="5243400"/>
              <a:ext cx="70200" cy="69840"/>
            </a:xfrm>
            <a:prstGeom prst="ellips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81520" y="4951440"/>
              <a:ext cx="69840" cy="69840"/>
            </a:xfrm>
            <a:prstGeom prst="ellips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025880" y="5110200"/>
              <a:ext cx="69840" cy="69840"/>
            </a:xfrm>
            <a:prstGeom prst="ellips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172040" y="5326200"/>
              <a:ext cx="69840" cy="69840"/>
            </a:xfrm>
            <a:prstGeom prst="ellips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17840" y="5288040"/>
              <a:ext cx="70200" cy="69840"/>
            </a:xfrm>
            <a:prstGeom prst="ellips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70480" y="5268960"/>
              <a:ext cx="69840" cy="69840"/>
            </a:xfrm>
            <a:prstGeom prst="ellips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616640" y="4938840"/>
              <a:ext cx="69840" cy="69840"/>
            </a:xfrm>
            <a:prstGeom prst="ellips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62440" y="5313240"/>
              <a:ext cx="69840" cy="69840"/>
            </a:xfrm>
            <a:prstGeom prst="ellips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908600" y="5541840"/>
              <a:ext cx="69840" cy="69840"/>
            </a:xfrm>
            <a:prstGeom prst="ellips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017080" y="3382920"/>
              <a:ext cx="3027240" cy="9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814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Historical produc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118520" y="5827680"/>
              <a:ext cx="1547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118520" y="5465880"/>
              <a:ext cx="1547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118520" y="5103720"/>
              <a:ext cx="1547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18520" y="4748040"/>
              <a:ext cx="1547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18520" y="4386240"/>
              <a:ext cx="1547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18520" y="4024440"/>
              <a:ext cx="1547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118520" y="3662280"/>
              <a:ext cx="1547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.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360080" y="6018120"/>
              <a:ext cx="1442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49280" y="6018120"/>
              <a:ext cx="1442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093840" y="6018120"/>
              <a:ext cx="1512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81240" y="6018120"/>
              <a:ext cx="1512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63600" y="6018120"/>
              <a:ext cx="1512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6200000">
              <a:off x="532440" y="4440960"/>
              <a:ext cx="18399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ate (Mstb/d, MMscf/d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914400" indent="-457200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49760" y="4443480"/>
              <a:ext cx="946440" cy="552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94400" y="4538520"/>
              <a:ext cx="235080" cy="18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670720" y="4500720"/>
              <a:ext cx="69840" cy="69840"/>
            </a:xfrm>
            <a:prstGeom prst="ellipse">
              <a:avLst/>
            </a:prstGeom>
            <a:solidFill>
              <a:srgbClr val="008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03280" y="4383000"/>
              <a:ext cx="1786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914400" indent="-457200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il rat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94400" y="4722840"/>
              <a:ext cx="235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670720" y="4684680"/>
              <a:ext cx="69840" cy="69840"/>
            </a:xfrm>
            <a:prstGeom prst="ellipse">
              <a:avLst/>
            </a:prstGeom>
            <a:solidFill>
              <a:srgbClr val="00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23040" y="4538520"/>
              <a:ext cx="11300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914400" indent="-457200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ater rat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594400" y="4906800"/>
              <a:ext cx="235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70720" y="4869000"/>
              <a:ext cx="69840" cy="69840"/>
            </a:xfrm>
            <a:prstGeom prst="ellips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03280" y="4856040"/>
              <a:ext cx="185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as rat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52440" y="3294000"/>
              <a:ext cx="5332680" cy="321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381400" y="3524400"/>
              <a:ext cx="2219040" cy="2005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стория добычи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 rot="16251000">
              <a:off x="716400" y="5574960"/>
              <a:ext cx="1362240" cy="200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ебит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10120" y="6262560"/>
              <a:ext cx="2238120" cy="200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Время (месяцы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864800" y="6189840"/>
              <a:ext cx="22471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914400" indent="-457200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me (month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4640400" y="719280"/>
            <a:ext cx="450360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Восемь </a:t>
            </a:r>
            <a:r>
              <a:rPr b="1" lang="en-GB" sz="16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фиктивных</a:t>
            </a:r>
            <a:r>
              <a:rPr b="1" lang="en-GB" sz="1600" spc="-1" strike="noStrike">
                <a:solidFill>
                  <a:srgbClr val="ff9900"/>
                </a:solidFill>
                <a:latin typeface="Arial"/>
              </a:rPr>
              <a:t>)</a:t>
            </a: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 разработчиков получили одинаковые наборы данны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Их попросили оценить извлекаемые объёмы, основанные на АП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Каждый применил свой </a:t>
            </a:r>
            <a:r>
              <a:rPr b="1" lang="en-GB" sz="1600" spc="-1" strike="noStrike">
                <a:solidFill>
                  <a:srgbClr val="ff9900"/>
                </a:solidFill>
                <a:latin typeface="Arial"/>
              </a:rPr>
              <a:t>‘</a:t>
            </a: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любимый</a:t>
            </a:r>
            <a:r>
              <a:rPr b="1" lang="en-GB" sz="1600" spc="-1" strike="noStrike">
                <a:solidFill>
                  <a:srgbClr val="ff9900"/>
                </a:solidFill>
                <a:latin typeface="Arial"/>
              </a:rPr>
              <a:t>’</a:t>
            </a: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 мето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343400" y="190440"/>
            <a:ext cx="46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име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30320" y="14940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amp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250920" y="762120"/>
            <a:ext cx="4275000" cy="289872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4592520" y="757080"/>
            <a:ext cx="4289400" cy="29322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284040" y="3616200"/>
            <a:ext cx="4221360" cy="287352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4"/>
          <a:stretch/>
        </p:blipFill>
        <p:spPr>
          <a:xfrm>
            <a:off x="4603680" y="3579840"/>
            <a:ext cx="4286160" cy="291132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123920" y="893880"/>
            <a:ext cx="2629080" cy="371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il Rate vs Tim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бит нефти и врем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rot="16200000">
            <a:off x="-880200" y="2131560"/>
            <a:ext cx="2695680" cy="1850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бит неф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Oil rate( stb/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57880" y="380880"/>
            <a:ext cx="2904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019160" y="3376440"/>
            <a:ext cx="2981520" cy="1850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ремя (месяцы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ime (month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9040" y="3914640"/>
            <a:ext cx="3990960" cy="1850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ание нефти и накопленная неф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34880" y="6207120"/>
            <a:ext cx="3981600" cy="1850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копленная нефть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umulative Oil (MMstb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3421440" y="4966920"/>
            <a:ext cx="2733840" cy="1850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бит неф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Oil rate( stb/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102520" y="873000"/>
            <a:ext cx="685800" cy="1850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718080" y="879480"/>
            <a:ext cx="685800" cy="1850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718080" y="3718080"/>
            <a:ext cx="685800" cy="1850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099280" y="3727440"/>
            <a:ext cx="685800" cy="1850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49800" y="1100160"/>
            <a:ext cx="3571920" cy="1850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воднённость и накопленная неф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794120" y="3365640"/>
            <a:ext cx="3981600" cy="1850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копленная нефть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umulative Oil (MMstb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464080" y="6183360"/>
            <a:ext cx="2981520" cy="18504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ремя (месяцы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ime (month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61800" y="3686040"/>
            <a:ext cx="685800" cy="1843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rot="16200000">
            <a:off x="-883800" y="4938480"/>
            <a:ext cx="2695320" cy="1839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rot="16200000">
            <a:off x="-956160" y="4903920"/>
            <a:ext cx="2719080" cy="2923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46800" bIns="46800" anchor="t">
            <a:noAutofit/>
          </a:bodyPr>
          <a:p>
            <a:pPr marL="914400" indent="-457200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одерание нефти (доля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-457200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il Cut (Fraction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438880" y="3938760"/>
            <a:ext cx="2762280" cy="1850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бит нефти и врем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rot="16200000">
            <a:off x="3369240" y="2066040"/>
            <a:ext cx="2800440" cy="3250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воднённость (доля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-457200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ter Cut (fracration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02280" y="177840"/>
            <a:ext cx="33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име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0320" y="149400"/>
            <a:ext cx="29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amp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284040" y="785880"/>
            <a:ext cx="4221360" cy="288756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4648320" y="773280"/>
            <a:ext cx="4228920" cy="28731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281160" y="3637080"/>
            <a:ext cx="4228920" cy="287964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>
            <a:off x="4645080" y="3630600"/>
            <a:ext cx="4236840" cy="287352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 rot="16200000">
            <a:off x="-880200" y="2131560"/>
            <a:ext cx="2695680" cy="1850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бит неф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Oil rate( stb/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18080" y="879480"/>
            <a:ext cx="685800" cy="1850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105760" y="866880"/>
            <a:ext cx="685800" cy="1850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762360" y="3753000"/>
            <a:ext cx="628560" cy="1850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105760" y="3705120"/>
            <a:ext cx="685800" cy="1850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-984960" y="4942440"/>
            <a:ext cx="2719440" cy="2919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46800" bIns="46800" anchor="t">
            <a:noAutofit/>
          </a:bodyPr>
          <a:p>
            <a:pPr marL="914400" indent="-457200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одерание нефти (доля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-457200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il Cut (Fraction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rot="16200000">
            <a:off x="3445560" y="2046960"/>
            <a:ext cx="2724120" cy="325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воднённость (доля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-457200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ter Cut (fracration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rot="16200000">
            <a:off x="3468960" y="4995360"/>
            <a:ext cx="2733840" cy="1850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бит неф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Oil rate( stb/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7360" y="6216480"/>
            <a:ext cx="3981600" cy="1850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копленная нефть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umulative Oil (MMstb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6440" y="3397320"/>
            <a:ext cx="3981240" cy="1850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копленная нефть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umulative Oil (MMstb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37240" y="3375000"/>
            <a:ext cx="3981240" cy="1850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копленная нефть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umulative Oil (MMstb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775040" y="6194520"/>
            <a:ext cx="3981600" cy="1850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копленная нефть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umulative Oil (MMstb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-39960" y="3960720"/>
            <a:ext cx="469008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ание нефти и накопленная неф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39040" y="1150920"/>
            <a:ext cx="433368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бит нефти и накопленная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ф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892760" y="1128600"/>
            <a:ext cx="3762360" cy="2761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отношения водонефтяного фактора и накопленной неф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485240" y="3989520"/>
            <a:ext cx="42055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бит нефти и накопленная неф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102280" y="177840"/>
            <a:ext cx="33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име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0" y="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30320" y="149400"/>
            <a:ext cx="42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amp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627120" y="730080"/>
            <a:ext cx="7894440" cy="294192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5060880" y="4335480"/>
            <a:ext cx="433440" cy="541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684360" y="3657600"/>
            <a:ext cx="7765920" cy="281628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684360" y="3657600"/>
            <a:ext cx="7765920" cy="28162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3"/>
          <a:stretch/>
        </p:blipFill>
        <p:spPr>
          <a:xfrm>
            <a:off x="4308480" y="4016520"/>
            <a:ext cx="3790800" cy="236052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4308480" y="4016520"/>
            <a:ext cx="37908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938840" y="4016520"/>
            <a:ext cx="1440" cy="2360520"/>
          </a:xfrm>
          <a:prstGeom prst="line">
            <a:avLst/>
          </a:prstGeom>
          <a:ln w="0">
            <a:solidFill>
              <a:srgbClr val="99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575320" y="4016520"/>
            <a:ext cx="1440" cy="2360520"/>
          </a:xfrm>
          <a:prstGeom prst="line">
            <a:avLst/>
          </a:prstGeom>
          <a:ln w="0">
            <a:solidFill>
              <a:srgbClr val="99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203880" y="4016520"/>
            <a:ext cx="1800" cy="2360520"/>
          </a:xfrm>
          <a:prstGeom prst="line">
            <a:avLst/>
          </a:prstGeom>
          <a:ln w="0">
            <a:solidFill>
              <a:srgbClr val="99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32440" y="4016520"/>
            <a:ext cx="1800" cy="2360520"/>
          </a:xfrm>
          <a:prstGeom prst="line">
            <a:avLst/>
          </a:prstGeom>
          <a:ln w="0">
            <a:solidFill>
              <a:srgbClr val="99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469280" y="4016520"/>
            <a:ext cx="1440" cy="2360520"/>
          </a:xfrm>
          <a:prstGeom prst="line">
            <a:avLst/>
          </a:prstGeom>
          <a:ln w="0">
            <a:solidFill>
              <a:srgbClr val="99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099280" y="4016520"/>
            <a:ext cx="1800" cy="2360520"/>
          </a:xfrm>
          <a:prstGeom prst="line">
            <a:avLst/>
          </a:prstGeom>
          <a:ln w="0">
            <a:solidFill>
              <a:srgbClr val="99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308480" y="4016520"/>
            <a:ext cx="3790800" cy="23605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308480" y="4032360"/>
            <a:ext cx="217440" cy="261720"/>
          </a:xfrm>
          <a:prstGeom prst="rect">
            <a:avLst/>
          </a:prstGeom>
          <a:solidFill>
            <a:srgbClr val="9933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308480" y="4324320"/>
            <a:ext cx="757080" cy="270000"/>
          </a:xfrm>
          <a:prstGeom prst="rect">
            <a:avLst/>
          </a:prstGeom>
          <a:solidFill>
            <a:srgbClr val="9933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308480" y="4624560"/>
            <a:ext cx="757080" cy="261720"/>
          </a:xfrm>
          <a:prstGeom prst="rect">
            <a:avLst/>
          </a:prstGeom>
          <a:solidFill>
            <a:srgbClr val="9933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308480" y="4916520"/>
            <a:ext cx="914400" cy="270000"/>
          </a:xfrm>
          <a:prstGeom prst="rect">
            <a:avLst/>
          </a:prstGeom>
          <a:solidFill>
            <a:srgbClr val="9933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308480" y="5214960"/>
            <a:ext cx="1011240" cy="263520"/>
          </a:xfrm>
          <a:prstGeom prst="rect">
            <a:avLst/>
          </a:prstGeom>
          <a:solidFill>
            <a:srgbClr val="9933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308480" y="5508720"/>
            <a:ext cx="1430280" cy="261720"/>
          </a:xfrm>
          <a:prstGeom prst="rect">
            <a:avLst/>
          </a:prstGeom>
          <a:solidFill>
            <a:srgbClr val="9933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308480" y="5800680"/>
            <a:ext cx="2546280" cy="268200"/>
          </a:xfrm>
          <a:prstGeom prst="rect">
            <a:avLst/>
          </a:prstGeom>
          <a:solidFill>
            <a:srgbClr val="9933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308480" y="6099120"/>
            <a:ext cx="3333600" cy="263520"/>
          </a:xfrm>
          <a:prstGeom prst="rect">
            <a:avLst/>
          </a:prstGeom>
          <a:solidFill>
            <a:srgbClr val="9933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308480" y="4016520"/>
            <a:ext cx="3790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308480" y="397188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938840" y="397188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575320" y="397188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203880" y="397188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6832440" y="397188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469280" y="397188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8099280" y="397188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308480" y="4016520"/>
            <a:ext cx="1440" cy="236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4200" y="401652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264200" y="430848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264200" y="460836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264200" y="490068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264200" y="520056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264200" y="549288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264200" y="578484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264200" y="608472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264200" y="637704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342400" y="4145040"/>
            <a:ext cx="30549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maining recover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880960" y="4282920"/>
            <a:ext cx="25336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lumes (Mstb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81720" y="3944880"/>
            <a:ext cx="15429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304880" y="4311720"/>
            <a:ext cx="16282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333320" y="4518000"/>
            <a:ext cx="16282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15760" y="4865760"/>
            <a:ext cx="16282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8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569840" y="5224320"/>
            <a:ext cx="16282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41360" y="5478480"/>
            <a:ext cx="16282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5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114600" y="5759280"/>
            <a:ext cx="16282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209000" y="6032520"/>
            <a:ext cx="836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0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03440" y="3616200"/>
            <a:ext cx="14227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930120" y="3768840"/>
            <a:ext cx="1628280" cy="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66600" y="3778200"/>
            <a:ext cx="1628280" cy="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187600" y="3787920"/>
            <a:ext cx="1628280" cy="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816160" y="3778200"/>
            <a:ext cx="1628280" cy="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279120" y="3787920"/>
            <a:ext cx="1756440" cy="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928560" y="3778200"/>
            <a:ext cx="1756440" cy="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2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494080" y="3886200"/>
            <a:ext cx="1778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il rate vs time (1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138680" y="4111560"/>
            <a:ext cx="35715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ter cut vs cumulative oil (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365120" y="4460760"/>
            <a:ext cx="33519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il cut vs cumulative oil (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74960" y="4808520"/>
            <a:ext cx="36460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arithm of oil rate vs time (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339920" y="5081760"/>
            <a:ext cx="340380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il rate vs cumulaitve oil (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-150840" y="5372280"/>
            <a:ext cx="48592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arithm of water-oil-ratio vs cumulative oil (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57200" y="5664240"/>
            <a:ext cx="430740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arithm of oil-cut vs cumulative oil 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63240" y="5975280"/>
            <a:ext cx="43516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arithm of oil rate vs cumulative oil (8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4360" y="3657600"/>
            <a:ext cx="7765920" cy="28162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54680" y="4030560"/>
            <a:ext cx="29026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бит нефти и врем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0400" y="4392720"/>
            <a:ext cx="39434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воднённость и накопленная нефть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124600" y="4361040"/>
            <a:ext cx="433080" cy="541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343480" y="4686480"/>
            <a:ext cx="279072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таточные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влекаемы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-457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ъёмы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stb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-259920" y="5059440"/>
            <a:ext cx="29026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бит нефти и врем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79080" y="4745160"/>
            <a:ext cx="4158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одержание нефти и накопленная нефть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08920" y="5335560"/>
            <a:ext cx="37544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бит нефти и накопленная нефть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1320" y="5659560"/>
            <a:ext cx="5417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оотношения водонефтяного фактора и накопленной нефт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17440" y="5973840"/>
            <a:ext cx="4158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одержание нефти и накопленная нефть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08760" y="6240600"/>
            <a:ext cx="37544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бит нефти и накопленная нефть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902680" y="1068480"/>
            <a:ext cx="29026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бит нефти и врем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rot="16200000">
            <a:off x="75600" y="3277440"/>
            <a:ext cx="1542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бит нефт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989360" y="3398760"/>
            <a:ext cx="27792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ремя (месяцы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778280" y="149400"/>
            <a:ext cx="40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име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27160" y="811080"/>
            <a:ext cx="8632800" cy="5159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284640" y="3733920"/>
            <a:ext cx="5592600" cy="2262240"/>
          </a:xfrm>
          <a:custGeom>
            <a:avLst/>
            <a:gdLst/>
            <a:ahLst/>
            <a:rect l="l" t="t" r="r" b="b"/>
            <a:pathLst>
              <a:path w="3523" h="1425">
                <a:moveTo>
                  <a:pt x="962" y="1418"/>
                </a:moveTo>
                <a:lnTo>
                  <a:pt x="758" y="1267"/>
                </a:lnTo>
                <a:lnTo>
                  <a:pt x="528" y="1085"/>
                </a:lnTo>
                <a:lnTo>
                  <a:pt x="369" y="960"/>
                </a:lnTo>
                <a:lnTo>
                  <a:pt x="211" y="835"/>
                </a:lnTo>
                <a:lnTo>
                  <a:pt x="148" y="782"/>
                </a:lnTo>
                <a:lnTo>
                  <a:pt x="888" y="782"/>
                </a:lnTo>
                <a:lnTo>
                  <a:pt x="676" y="619"/>
                </a:lnTo>
                <a:lnTo>
                  <a:pt x="518" y="475"/>
                </a:lnTo>
                <a:lnTo>
                  <a:pt x="326" y="307"/>
                </a:lnTo>
                <a:lnTo>
                  <a:pt x="158" y="149"/>
                </a:lnTo>
                <a:lnTo>
                  <a:pt x="0" y="0"/>
                </a:lnTo>
                <a:lnTo>
                  <a:pt x="873" y="0"/>
                </a:lnTo>
                <a:lnTo>
                  <a:pt x="1008" y="139"/>
                </a:lnTo>
                <a:lnTo>
                  <a:pt x="1123" y="235"/>
                </a:lnTo>
                <a:lnTo>
                  <a:pt x="1262" y="374"/>
                </a:lnTo>
                <a:lnTo>
                  <a:pt x="1430" y="528"/>
                </a:lnTo>
                <a:lnTo>
                  <a:pt x="1651" y="725"/>
                </a:lnTo>
                <a:lnTo>
                  <a:pt x="1725" y="787"/>
                </a:lnTo>
                <a:lnTo>
                  <a:pt x="2812" y="777"/>
                </a:lnTo>
                <a:lnTo>
                  <a:pt x="3076" y="979"/>
                </a:lnTo>
                <a:lnTo>
                  <a:pt x="3244" y="1113"/>
                </a:lnTo>
                <a:lnTo>
                  <a:pt x="3398" y="1219"/>
                </a:lnTo>
                <a:lnTo>
                  <a:pt x="3523" y="1325"/>
                </a:lnTo>
                <a:lnTo>
                  <a:pt x="3518" y="1425"/>
                </a:lnTo>
                <a:lnTo>
                  <a:pt x="962" y="1418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39760" y="1870200"/>
            <a:ext cx="8629560" cy="1090440"/>
          </a:xfrm>
          <a:custGeom>
            <a:avLst/>
            <a:gdLst/>
            <a:ahLst/>
            <a:rect l="l" t="t" r="r" b="b"/>
            <a:pathLst>
              <a:path w="5436" h="687">
                <a:moveTo>
                  <a:pt x="0" y="358"/>
                </a:moveTo>
                <a:lnTo>
                  <a:pt x="70" y="319"/>
                </a:lnTo>
                <a:lnTo>
                  <a:pt x="151" y="281"/>
                </a:lnTo>
                <a:lnTo>
                  <a:pt x="290" y="243"/>
                </a:lnTo>
                <a:lnTo>
                  <a:pt x="475" y="209"/>
                </a:lnTo>
                <a:lnTo>
                  <a:pt x="650" y="187"/>
                </a:lnTo>
                <a:lnTo>
                  <a:pt x="828" y="161"/>
                </a:lnTo>
                <a:lnTo>
                  <a:pt x="1006" y="156"/>
                </a:lnTo>
                <a:lnTo>
                  <a:pt x="1219" y="156"/>
                </a:lnTo>
                <a:lnTo>
                  <a:pt x="1392" y="154"/>
                </a:lnTo>
                <a:lnTo>
                  <a:pt x="1553" y="147"/>
                </a:lnTo>
                <a:lnTo>
                  <a:pt x="1846" y="123"/>
                </a:lnTo>
                <a:lnTo>
                  <a:pt x="2066" y="94"/>
                </a:lnTo>
                <a:lnTo>
                  <a:pt x="2412" y="60"/>
                </a:lnTo>
                <a:lnTo>
                  <a:pt x="2635" y="36"/>
                </a:lnTo>
                <a:lnTo>
                  <a:pt x="2863" y="12"/>
                </a:lnTo>
                <a:lnTo>
                  <a:pt x="3074" y="7"/>
                </a:lnTo>
                <a:lnTo>
                  <a:pt x="3170" y="0"/>
                </a:lnTo>
                <a:lnTo>
                  <a:pt x="3370" y="22"/>
                </a:lnTo>
                <a:lnTo>
                  <a:pt x="3583" y="46"/>
                </a:lnTo>
                <a:lnTo>
                  <a:pt x="3828" y="89"/>
                </a:lnTo>
                <a:lnTo>
                  <a:pt x="4174" y="147"/>
                </a:lnTo>
                <a:lnTo>
                  <a:pt x="4481" y="214"/>
                </a:lnTo>
                <a:lnTo>
                  <a:pt x="4783" y="291"/>
                </a:lnTo>
                <a:lnTo>
                  <a:pt x="5071" y="363"/>
                </a:lnTo>
                <a:lnTo>
                  <a:pt x="5436" y="475"/>
                </a:lnTo>
                <a:lnTo>
                  <a:pt x="5436" y="687"/>
                </a:lnTo>
                <a:lnTo>
                  <a:pt x="5220" y="617"/>
                </a:lnTo>
                <a:lnTo>
                  <a:pt x="4937" y="540"/>
                </a:lnTo>
                <a:lnTo>
                  <a:pt x="4673" y="468"/>
                </a:lnTo>
                <a:lnTo>
                  <a:pt x="4481" y="420"/>
                </a:lnTo>
                <a:lnTo>
                  <a:pt x="4135" y="343"/>
                </a:lnTo>
                <a:lnTo>
                  <a:pt x="3847" y="295"/>
                </a:lnTo>
                <a:lnTo>
                  <a:pt x="3550" y="247"/>
                </a:lnTo>
                <a:lnTo>
                  <a:pt x="3214" y="204"/>
                </a:lnTo>
                <a:lnTo>
                  <a:pt x="3108" y="209"/>
                </a:lnTo>
                <a:lnTo>
                  <a:pt x="2969" y="219"/>
                </a:lnTo>
                <a:lnTo>
                  <a:pt x="2710" y="238"/>
                </a:lnTo>
                <a:lnTo>
                  <a:pt x="2388" y="271"/>
                </a:lnTo>
                <a:lnTo>
                  <a:pt x="2086" y="291"/>
                </a:lnTo>
                <a:lnTo>
                  <a:pt x="1716" y="339"/>
                </a:lnTo>
                <a:lnTo>
                  <a:pt x="1510" y="353"/>
                </a:lnTo>
                <a:lnTo>
                  <a:pt x="1303" y="367"/>
                </a:lnTo>
                <a:lnTo>
                  <a:pt x="1063" y="367"/>
                </a:lnTo>
                <a:lnTo>
                  <a:pt x="924" y="367"/>
                </a:lnTo>
                <a:lnTo>
                  <a:pt x="708" y="377"/>
                </a:lnTo>
                <a:lnTo>
                  <a:pt x="454" y="420"/>
                </a:lnTo>
                <a:lnTo>
                  <a:pt x="161" y="478"/>
                </a:lnTo>
                <a:lnTo>
                  <a:pt x="79" y="516"/>
                </a:lnTo>
                <a:lnTo>
                  <a:pt x="0" y="567"/>
                </a:lnTo>
                <a:lnTo>
                  <a:pt x="0" y="35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95160" y="2271600"/>
            <a:ext cx="7067880" cy="2721240"/>
          </a:xfrm>
          <a:custGeom>
            <a:avLst/>
            <a:gdLst/>
            <a:ahLst/>
            <a:rect l="l" t="t" r="r" b="b"/>
            <a:pathLst>
              <a:path w="4452" h="1714">
                <a:moveTo>
                  <a:pt x="0" y="207"/>
                </a:moveTo>
                <a:lnTo>
                  <a:pt x="204" y="327"/>
                </a:lnTo>
                <a:lnTo>
                  <a:pt x="348" y="418"/>
                </a:lnTo>
                <a:lnTo>
                  <a:pt x="463" y="524"/>
                </a:lnTo>
                <a:lnTo>
                  <a:pt x="612" y="648"/>
                </a:lnTo>
                <a:lnTo>
                  <a:pt x="799" y="807"/>
                </a:lnTo>
                <a:lnTo>
                  <a:pt x="1010" y="1013"/>
                </a:lnTo>
                <a:lnTo>
                  <a:pt x="1226" y="1215"/>
                </a:lnTo>
                <a:lnTo>
                  <a:pt x="1361" y="1335"/>
                </a:lnTo>
                <a:lnTo>
                  <a:pt x="1761" y="1707"/>
                </a:lnTo>
                <a:lnTo>
                  <a:pt x="2503" y="1707"/>
                </a:lnTo>
                <a:lnTo>
                  <a:pt x="2085" y="1349"/>
                </a:lnTo>
                <a:lnTo>
                  <a:pt x="1629" y="922"/>
                </a:lnTo>
                <a:lnTo>
                  <a:pt x="2484" y="917"/>
                </a:lnTo>
                <a:lnTo>
                  <a:pt x="3038" y="1448"/>
                </a:lnTo>
                <a:lnTo>
                  <a:pt x="3353" y="1714"/>
                </a:lnTo>
                <a:lnTo>
                  <a:pt x="4452" y="1709"/>
                </a:lnTo>
                <a:lnTo>
                  <a:pt x="4073" y="1407"/>
                </a:lnTo>
                <a:lnTo>
                  <a:pt x="3813" y="1172"/>
                </a:lnTo>
                <a:lnTo>
                  <a:pt x="3588" y="960"/>
                </a:lnTo>
                <a:lnTo>
                  <a:pt x="3410" y="802"/>
                </a:lnTo>
                <a:lnTo>
                  <a:pt x="3237" y="634"/>
                </a:lnTo>
                <a:lnTo>
                  <a:pt x="3002" y="432"/>
                </a:lnTo>
                <a:lnTo>
                  <a:pt x="2849" y="288"/>
                </a:lnTo>
                <a:lnTo>
                  <a:pt x="2661" y="159"/>
                </a:lnTo>
                <a:lnTo>
                  <a:pt x="2455" y="29"/>
                </a:lnTo>
                <a:lnTo>
                  <a:pt x="2421" y="0"/>
                </a:lnTo>
                <a:lnTo>
                  <a:pt x="2268" y="0"/>
                </a:lnTo>
                <a:lnTo>
                  <a:pt x="2025" y="27"/>
                </a:lnTo>
                <a:lnTo>
                  <a:pt x="1754" y="63"/>
                </a:lnTo>
                <a:lnTo>
                  <a:pt x="1562" y="77"/>
                </a:lnTo>
                <a:lnTo>
                  <a:pt x="1440" y="89"/>
                </a:lnTo>
                <a:lnTo>
                  <a:pt x="1250" y="106"/>
                </a:lnTo>
                <a:lnTo>
                  <a:pt x="1092" y="120"/>
                </a:lnTo>
                <a:lnTo>
                  <a:pt x="871" y="118"/>
                </a:lnTo>
                <a:lnTo>
                  <a:pt x="636" y="120"/>
                </a:lnTo>
                <a:lnTo>
                  <a:pt x="437" y="130"/>
                </a:lnTo>
                <a:lnTo>
                  <a:pt x="223" y="168"/>
                </a:lnTo>
                <a:lnTo>
                  <a:pt x="0" y="20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36520" y="2176560"/>
            <a:ext cx="8640720" cy="779400"/>
          </a:xfrm>
          <a:custGeom>
            <a:avLst/>
            <a:gdLst/>
            <a:ahLst/>
            <a:rect l="l" t="t" r="r" b="b"/>
            <a:pathLst>
              <a:path w="5443" h="491">
                <a:moveTo>
                  <a:pt x="0" y="371"/>
                </a:moveTo>
                <a:cubicBezTo>
                  <a:pt x="33" y="356"/>
                  <a:pt x="68" y="312"/>
                  <a:pt x="202" y="280"/>
                </a:cubicBezTo>
                <a:cubicBezTo>
                  <a:pt x="336" y="248"/>
                  <a:pt x="587" y="199"/>
                  <a:pt x="802" y="179"/>
                </a:cubicBezTo>
                <a:cubicBezTo>
                  <a:pt x="1017" y="159"/>
                  <a:pt x="1176" y="182"/>
                  <a:pt x="1493" y="160"/>
                </a:cubicBezTo>
                <a:cubicBezTo>
                  <a:pt x="1810" y="138"/>
                  <a:pt x="2408" y="67"/>
                  <a:pt x="2707" y="45"/>
                </a:cubicBezTo>
                <a:cubicBezTo>
                  <a:pt x="3006" y="23"/>
                  <a:pt x="3009" y="0"/>
                  <a:pt x="3288" y="26"/>
                </a:cubicBezTo>
                <a:cubicBezTo>
                  <a:pt x="3567" y="52"/>
                  <a:pt x="4023" y="126"/>
                  <a:pt x="4382" y="203"/>
                </a:cubicBezTo>
                <a:cubicBezTo>
                  <a:pt x="4741" y="280"/>
                  <a:pt x="5265" y="443"/>
                  <a:pt x="5443" y="49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692360" y="2408400"/>
            <a:ext cx="4308480" cy="3535200"/>
          </a:xfrm>
          <a:custGeom>
            <a:avLst/>
            <a:gdLst/>
            <a:ahLst/>
            <a:rect l="l" t="t" r="r" b="b"/>
            <a:pathLst>
              <a:path w="2714" h="2227">
                <a:moveTo>
                  <a:pt x="0" y="0"/>
                </a:moveTo>
                <a:cubicBezTo>
                  <a:pt x="71" y="47"/>
                  <a:pt x="252" y="147"/>
                  <a:pt x="424" y="284"/>
                </a:cubicBezTo>
                <a:cubicBezTo>
                  <a:pt x="595" y="420"/>
                  <a:pt x="808" y="623"/>
                  <a:pt x="1028" y="822"/>
                </a:cubicBezTo>
                <a:cubicBezTo>
                  <a:pt x="1248" y="1022"/>
                  <a:pt x="1463" y="1244"/>
                  <a:pt x="1744" y="1478"/>
                </a:cubicBezTo>
                <a:cubicBezTo>
                  <a:pt x="2025" y="1712"/>
                  <a:pt x="2512" y="2071"/>
                  <a:pt x="2714" y="2227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31880" y="2590920"/>
            <a:ext cx="4068720" cy="3390840"/>
          </a:xfrm>
          <a:custGeom>
            <a:avLst/>
            <a:gdLst/>
            <a:ahLst/>
            <a:rect l="l" t="t" r="r" b="b"/>
            <a:pathLst>
              <a:path w="2563" h="2136">
                <a:moveTo>
                  <a:pt x="0" y="0"/>
                </a:moveTo>
                <a:cubicBezTo>
                  <a:pt x="68" y="46"/>
                  <a:pt x="242" y="143"/>
                  <a:pt x="407" y="276"/>
                </a:cubicBezTo>
                <a:cubicBezTo>
                  <a:pt x="572" y="408"/>
                  <a:pt x="776" y="605"/>
                  <a:pt x="988" y="799"/>
                </a:cubicBezTo>
                <a:cubicBezTo>
                  <a:pt x="1199" y="993"/>
                  <a:pt x="1414" y="1213"/>
                  <a:pt x="1676" y="1436"/>
                </a:cubicBezTo>
                <a:cubicBezTo>
                  <a:pt x="1938" y="1659"/>
                  <a:pt x="2378" y="1990"/>
                  <a:pt x="2563" y="2136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981160" y="2398680"/>
            <a:ext cx="4353120" cy="3591000"/>
          </a:xfrm>
          <a:custGeom>
            <a:avLst/>
            <a:gdLst/>
            <a:ahLst/>
            <a:rect l="l" t="t" r="r" b="b"/>
            <a:pathLst>
              <a:path w="2742" h="2262">
                <a:moveTo>
                  <a:pt x="0" y="0"/>
                </a:moveTo>
                <a:cubicBezTo>
                  <a:pt x="72" y="49"/>
                  <a:pt x="257" y="151"/>
                  <a:pt x="432" y="291"/>
                </a:cubicBezTo>
                <a:cubicBezTo>
                  <a:pt x="608" y="430"/>
                  <a:pt x="825" y="638"/>
                  <a:pt x="1050" y="842"/>
                </a:cubicBezTo>
                <a:cubicBezTo>
                  <a:pt x="1275" y="1046"/>
                  <a:pt x="1499" y="1276"/>
                  <a:pt x="1781" y="1513"/>
                </a:cubicBezTo>
                <a:cubicBezTo>
                  <a:pt x="2063" y="1750"/>
                  <a:pt x="2542" y="2106"/>
                  <a:pt x="2742" y="2262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527720" y="2254320"/>
            <a:ext cx="4351320" cy="3581280"/>
          </a:xfrm>
          <a:custGeom>
            <a:avLst/>
            <a:gdLst/>
            <a:ahLst/>
            <a:rect l="l" t="t" r="r" b="b"/>
            <a:pathLst>
              <a:path w="2784" h="2294">
                <a:moveTo>
                  <a:pt x="0" y="0"/>
                </a:moveTo>
                <a:cubicBezTo>
                  <a:pt x="73" y="49"/>
                  <a:pt x="260" y="152"/>
                  <a:pt x="437" y="293"/>
                </a:cubicBezTo>
                <a:cubicBezTo>
                  <a:pt x="614" y="434"/>
                  <a:pt x="834" y="643"/>
                  <a:pt x="1061" y="849"/>
                </a:cubicBezTo>
                <a:cubicBezTo>
                  <a:pt x="1288" y="1055"/>
                  <a:pt x="1513" y="1285"/>
                  <a:pt x="1800" y="1526"/>
                </a:cubicBezTo>
                <a:cubicBezTo>
                  <a:pt x="2087" y="1767"/>
                  <a:pt x="2579" y="2134"/>
                  <a:pt x="2784" y="2294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543480" y="4975200"/>
            <a:ext cx="1134720" cy="46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298680" y="3718080"/>
            <a:ext cx="1333800" cy="9360"/>
          </a:xfrm>
          <a:custGeom>
            <a:avLst/>
            <a:gdLst/>
            <a:ahLst/>
            <a:rect l="l" t="t" r="r" b="b"/>
            <a:pathLst>
              <a:path w="840" h="6">
                <a:moveTo>
                  <a:pt x="0" y="6"/>
                </a:moveTo>
                <a:lnTo>
                  <a:pt x="840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6360" bIns="-36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6049800" y="4971960"/>
            <a:ext cx="1692360" cy="7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35080" y="1847880"/>
            <a:ext cx="8648640" cy="779400"/>
          </a:xfrm>
          <a:custGeom>
            <a:avLst/>
            <a:gdLst/>
            <a:ahLst/>
            <a:rect l="l" t="t" r="r" b="b"/>
            <a:pathLst>
              <a:path w="5443" h="491">
                <a:moveTo>
                  <a:pt x="0" y="371"/>
                </a:moveTo>
                <a:cubicBezTo>
                  <a:pt x="33" y="356"/>
                  <a:pt x="68" y="312"/>
                  <a:pt x="202" y="280"/>
                </a:cubicBezTo>
                <a:cubicBezTo>
                  <a:pt x="336" y="248"/>
                  <a:pt x="587" y="199"/>
                  <a:pt x="802" y="179"/>
                </a:cubicBezTo>
                <a:cubicBezTo>
                  <a:pt x="1017" y="159"/>
                  <a:pt x="1176" y="182"/>
                  <a:pt x="1493" y="160"/>
                </a:cubicBezTo>
                <a:cubicBezTo>
                  <a:pt x="1810" y="138"/>
                  <a:pt x="2408" y="67"/>
                  <a:pt x="2707" y="45"/>
                </a:cubicBezTo>
                <a:cubicBezTo>
                  <a:pt x="3006" y="23"/>
                  <a:pt x="3009" y="0"/>
                  <a:pt x="3288" y="26"/>
                </a:cubicBezTo>
                <a:cubicBezTo>
                  <a:pt x="3567" y="52"/>
                  <a:pt x="4023" y="126"/>
                  <a:pt x="4382" y="203"/>
                </a:cubicBezTo>
                <a:cubicBezTo>
                  <a:pt x="4741" y="280"/>
                  <a:pt x="5265" y="443"/>
                  <a:pt x="5443" y="49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13278600">
            <a:off x="4070520" y="4579560"/>
            <a:ext cx="2023920" cy="335160"/>
          </a:xfrm>
          <a:custGeom>
            <a:avLst/>
            <a:gdLst>
              <a:gd name="textAreaLeft" fmla="*/ 316080 w 2023920"/>
              <a:gd name="textAreaRight" fmla="*/ 1771200 w 2023920"/>
              <a:gd name="textAreaTop" fmla="*/ 83880 h 335160"/>
              <a:gd name="textAreaBottom" fmla="*/ 251640 h 335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865600" y="2666880"/>
            <a:ext cx="304560" cy="297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99880" y="909720"/>
            <a:ext cx="2119320" cy="119124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orizontal well parallel to strike in steeply dipping be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36840" y="1965240"/>
            <a:ext cx="488880" cy="723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35080" y="830160"/>
            <a:ext cx="8632800" cy="5166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5504040"/>
            <a:ext cx="8906040" cy="33732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encroaching water causes sudden water breakthrough and rapidly increasing water-c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3"/>
          <a:stretch/>
        </p:blipFill>
        <p:spPr>
          <a:xfrm>
            <a:off x="5603760" y="843120"/>
            <a:ext cx="3260880" cy="221904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293760" y="3062160"/>
            <a:ext cx="2281320" cy="13726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оризонтальная скважина, параллельная простиранию св пластах с большим углом паде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2577960" y="2956680"/>
            <a:ext cx="430200" cy="604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5861160"/>
            <a:ext cx="8910720" cy="5806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ступление воды приводит к врезапным её прорывам и к быстро растущей обводнённост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30320" y="149400"/>
            <a:ext cx="29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amp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397480" y="177840"/>
            <a:ext cx="33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име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295200" y="874800"/>
            <a:ext cx="8564760" cy="860400"/>
          </a:xfrm>
          <a:prstGeom prst="rect">
            <a:avLst/>
          </a:prstGeom>
          <a:solidFill>
            <a:srgbClr val="a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149400"/>
            <a:ext cx="4430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Arial"/>
              </a:rPr>
              <a:t>Another important ru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4120" y="820800"/>
            <a:ext cx="48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Arial"/>
              </a:rPr>
              <a:t>Not all trends are straight lin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324000" y="1581120"/>
            <a:ext cx="8561160" cy="492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7" name=""/>
          <p:cNvSpPr/>
          <p:nvPr/>
        </p:nvSpPr>
        <p:spPr>
          <a:xfrm>
            <a:off x="1627200" y="5273640"/>
            <a:ext cx="473040" cy="479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4885560" y="3983040"/>
            <a:ext cx="4266360" cy="190800"/>
            <a:chOff x="4885560" y="3983040"/>
            <a:chExt cx="4266360" cy="190800"/>
          </a:xfrm>
        </p:grpSpPr>
        <p:sp>
          <p:nvSpPr>
            <p:cNvPr id="629" name=""/>
            <p:cNvSpPr/>
            <p:nvPr/>
          </p:nvSpPr>
          <p:spPr>
            <a:xfrm>
              <a:off x="6383160" y="3983040"/>
              <a:ext cx="250020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562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времени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306480" y="3983040"/>
              <a:ext cx="145152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562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785200" y="3983040"/>
              <a:ext cx="186912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562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при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709600" y="3983040"/>
              <a:ext cx="145152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562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85560" y="3983040"/>
              <a:ext cx="214344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562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дебит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691040" y="3983040"/>
              <a:ext cx="146088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562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4739040" y="4424400"/>
            <a:ext cx="4381200" cy="300600"/>
            <a:chOff x="4739040" y="4424400"/>
            <a:chExt cx="4381200" cy="300600"/>
          </a:xfrm>
        </p:grpSpPr>
        <p:sp>
          <p:nvSpPr>
            <p:cNvPr id="636" name=""/>
            <p:cNvSpPr/>
            <p:nvPr/>
          </p:nvSpPr>
          <p:spPr>
            <a:xfrm>
              <a:off x="7642800" y="4424400"/>
              <a:ext cx="147744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562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372440" y="4424400"/>
              <a:ext cx="145152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562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271280" y="4424400"/>
              <a:ext cx="147744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562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96040" y="4424400"/>
              <a:ext cx="145152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562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71640" y="4424400"/>
              <a:ext cx="214344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562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дебит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291360" y="4424400"/>
              <a:ext cx="145152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562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739040" y="4424400"/>
              <a:ext cx="283680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562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начальный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541640" y="4618080"/>
              <a:ext cx="1422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442280" y="4424400"/>
              <a:ext cx="146088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562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2177280" y="5091120"/>
            <a:ext cx="5327640" cy="190800"/>
            <a:chOff x="2177280" y="5091120"/>
            <a:chExt cx="5327640" cy="190800"/>
          </a:xfrm>
        </p:grpSpPr>
        <p:sp>
          <p:nvSpPr>
            <p:cNvPr id="646" name=""/>
            <p:cNvSpPr/>
            <p:nvPr/>
          </p:nvSpPr>
          <p:spPr>
            <a:xfrm>
              <a:off x="4758120" y="5091120"/>
              <a:ext cx="274680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562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экспонент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76400" y="5091120"/>
              <a:ext cx="145152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562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863880" y="5091120"/>
              <a:ext cx="214488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562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еский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177280" y="5091120"/>
              <a:ext cx="294660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562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гиперболич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1287360" y="3370320"/>
            <a:ext cx="2171520" cy="213480"/>
            <a:chOff x="1287360" y="3370320"/>
            <a:chExt cx="2171520" cy="213480"/>
          </a:xfrm>
        </p:grpSpPr>
        <p:sp>
          <p:nvSpPr>
            <p:cNvPr id="651" name=""/>
            <p:cNvSpPr/>
            <p:nvPr/>
          </p:nvSpPr>
          <p:spPr>
            <a:xfrm>
              <a:off x="1998000" y="3370320"/>
              <a:ext cx="146088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562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287360" y="3370320"/>
              <a:ext cx="19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где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1852920" y="5789520"/>
            <a:ext cx="2741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457200">
              <a:lnSpc>
                <a:spcPct val="50000"/>
              </a:lnSpc>
              <a:spcBef>
                <a:spcPts val="156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начальная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304440" y="5808600"/>
            <a:ext cx="29923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457200">
              <a:lnSpc>
                <a:spcPct val="50000"/>
              </a:lnSpc>
              <a:spcBef>
                <a:spcPts val="156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номинальна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905000" y="5808600"/>
            <a:ext cx="151848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457200">
              <a:lnSpc>
                <a:spcPct val="50000"/>
              </a:lnSpc>
              <a:spcBef>
                <a:spcPts val="156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168160" y="5808600"/>
            <a:ext cx="25657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457200">
              <a:lnSpc>
                <a:spcPct val="50000"/>
              </a:lnSpc>
              <a:spcBef>
                <a:spcPts val="156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скорость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502680" y="5791320"/>
            <a:ext cx="24681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457200">
              <a:lnSpc>
                <a:spcPct val="50000"/>
              </a:lnSpc>
              <a:spcBef>
                <a:spcPts val="156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падения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622680" y="1125360"/>
            <a:ext cx="52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Не все тренды – прямые линии</a:t>
            </a:r>
            <a:r>
              <a:rPr b="1" i="1" lang="en-GB" sz="24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98880" y="149400"/>
            <a:ext cx="514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Arial"/>
              </a:rPr>
              <a:t>Ещё одно важное правило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0320" y="149400"/>
            <a:ext cx="438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alk 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3040" y="939960"/>
            <a:ext cx="407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deas on production forecas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CA- taking a few steps 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mon mistakes and how to avoid 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cluding thou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03640" y="4521240"/>
            <a:ext cx="2060640" cy="2060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227480" y="130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труктура выступл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22920" y="911160"/>
            <a:ext cx="4170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деи по прогнозированию добыч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ПД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згляд наз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пространённые ошибки и как их избежа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лючительное сло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123840" y="446040"/>
            <a:ext cx="8906040" cy="785880"/>
          </a:xfrm>
          <a:prstGeom prst="rect">
            <a:avLst/>
          </a:prstGeom>
          <a:solidFill>
            <a:srgbClr val="a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92160" y="15840"/>
            <a:ext cx="8958240" cy="54144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30320" y="0"/>
            <a:ext cx="36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d another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520560"/>
            <a:ext cx="62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Arial"/>
              </a:rPr>
              <a:t>Understand the physics of the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152280" y="1243080"/>
          <a:ext cx="4121280" cy="5305320"/>
        </p:xfrm>
        <a:graphic>
          <a:graphicData uri="http://schemas.openxmlformats.org/drawingml/2006/table">
            <a:tbl>
              <a:tblPr/>
              <a:tblGrid>
                <a:gridCol w="1158840"/>
                <a:gridCol w="29624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perbolic exponent ‘n’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 of reservoi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pletion of oil reservoirs above bubble point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pressure gas reservoir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il reservoirs under poor waterflood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lution gas driv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il reservoirs with small gas cap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 – 0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il reservoirs with large gas cap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ervoirs containing low to medium viscosity oil under waterflood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il reservoirs with some laminar flo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 - 0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yered reservoirs with no cross-flo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il reservoirs under very efficient waterflood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ervoirs containing viscous oil under waterflood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5" name=""/>
          <p:cNvGraphicFramePr/>
          <p:nvPr/>
        </p:nvGraphicFramePr>
        <p:xfrm>
          <a:off x="4334040" y="1204920"/>
          <a:ext cx="4671720" cy="5481720"/>
        </p:xfrm>
        <a:graphic>
          <a:graphicData uri="http://schemas.openxmlformats.org/drawingml/2006/table">
            <a:tbl>
              <a:tblPr/>
              <a:tblGrid>
                <a:gridCol w="1379160"/>
                <a:gridCol w="3292560"/>
              </a:tblGrid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иперболический экспонент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‘n’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ип коллекто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6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работка коллектора над точкой насыщ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азовые коллекторы с высоким давление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фтяные коллекторы с неэффективным заводнение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порный режим растворённого газ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фтяные коллекторы с небольшими газовыми шапка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 – 0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фтяные коллекторы с большими газовыми шапка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лекторы с вязкостью нефти от низкой до средней находящиеся под заводнение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фтяные коллекторы с ламинарным потоко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 - 0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сслоённые коллекторы без переток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фтяные коллекторы под очень эффективным заводнение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лекторы с вязкойнефтью под заводнение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6" name=""/>
          <p:cNvSpPr/>
          <p:nvPr/>
        </p:nvSpPr>
        <p:spPr>
          <a:xfrm>
            <a:off x="2914560" y="816120"/>
            <a:ext cx="67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онимать физику проблем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664160" y="0"/>
            <a:ext cx="46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 ещё одно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92160" y="15840"/>
            <a:ext cx="8958240" cy="108432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30320" y="149400"/>
            <a:ext cx="461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ometimes the outcome is obvious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326440" cy="457524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4103640" y="15876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ногда результат очевиден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92160" y="15840"/>
            <a:ext cx="8958240" cy="951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00160" y="0"/>
            <a:ext cx="43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... other times, less so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2346480" y="1095480"/>
            <a:ext cx="4235400" cy="529740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2711520" y="406440"/>
            <a:ext cx="622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...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а иногда - менее очевиден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15920" y="223920"/>
            <a:ext cx="885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 Common mistakes and how to avoid the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3132000" y="1614600"/>
            <a:ext cx="2562480" cy="313848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163440" y="4633920"/>
            <a:ext cx="885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Распространённые ошибки и как их избежа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30320" y="149400"/>
            <a:ext cx="4011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Arial"/>
              </a:rPr>
              <a:t>Examples to be covere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35000" y="1208160"/>
            <a:ext cx="407196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The ‘well-level’ vs. ‘reservoir-level’ analysis deb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20720" indent="-72072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Using the correct equations for foreca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20720" indent="-72072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Accommodating downtime in your foreca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20720" indent="-72072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Choosing the historical interval for analy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20720" indent="-72072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Some very bad pract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98880" y="133200"/>
            <a:ext cx="514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Arial"/>
              </a:rPr>
              <a:t>Примеры для обсужд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707000" y="1236600"/>
            <a:ext cx="431964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Обсуждение анализа «в масштабе скважины» по сравнению с анализом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‘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в масштабе коллектор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20720" indent="-72072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Использование правильных уравнений для прогнозирова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20720" indent="-72072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Учитывание времени простоя в прогноза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20720" indent="-72072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Выбор исторического интервала для анализ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20720" indent="-72072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Негативный опы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92160" y="15840"/>
            <a:ext cx="8958240" cy="126540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0"/>
            <a:ext cx="408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‘well-level’ vs. ‘reservoir-level’ analysis deb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66760" y="1415880"/>
            <a:ext cx="37796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‘</a:t>
            </a:r>
            <a:r>
              <a:rPr b="1" lang="en-GB" sz="1800" spc="-1" strike="noStrike" u="sng">
                <a:solidFill>
                  <a:srgbClr val="ff9900"/>
                </a:solidFill>
                <a:uFillTx/>
                <a:latin typeface="Arial"/>
              </a:rPr>
              <a:t>reservoir-level analysis</a:t>
            </a: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’ (or ‘top-down’ approach) means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o your analysis using reservoir production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‘</a:t>
            </a:r>
            <a:r>
              <a:rPr b="1" lang="en-GB" sz="1800" spc="-1" strike="noStrike" u="sng">
                <a:solidFill>
                  <a:srgbClr val="ff9900"/>
                </a:solidFill>
                <a:uFillTx/>
                <a:latin typeface="Arial"/>
              </a:rPr>
              <a:t>well-level analysis</a:t>
            </a: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’ (or ’bottoms-up approach’) means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o your analyses well-by-well using well production data and aggregate the forecasts to reservoir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332240" y="152280"/>
            <a:ext cx="48117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суждение анализа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масштабе скважины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по сравнению с анализом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масштабе коллектор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705200" y="1549440"/>
            <a:ext cx="419112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‘</a:t>
            </a:r>
            <a:r>
              <a:rPr b="1" lang="ru-RU" sz="1800" spc="-1" strike="noStrike" u="sng">
                <a:solidFill>
                  <a:srgbClr val="ff9900"/>
                </a:solidFill>
                <a:uFillTx/>
                <a:latin typeface="Arial"/>
              </a:rPr>
              <a:t>анализ в масштабе коллектора</a:t>
            </a: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’ (</a:t>
            </a: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или подход </a:t>
            </a: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‘</a:t>
            </a: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сверху-вниз</a:t>
            </a: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’)</a:t>
            </a: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 означает</a:t>
            </a: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водите свой анализ с использованием данных по добыче по коллектор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‘</a:t>
            </a:r>
            <a:r>
              <a:rPr b="1" lang="ru-RU" sz="1800" spc="-1" strike="noStrike" u="sng">
                <a:solidFill>
                  <a:srgbClr val="ff9900"/>
                </a:solidFill>
                <a:uFillTx/>
                <a:latin typeface="Arial"/>
              </a:rPr>
              <a:t>анализ в масштабе скважины</a:t>
            </a: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’ (</a:t>
            </a: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или подход </a:t>
            </a: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’</a:t>
            </a: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снизу-вверх</a:t>
            </a: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’)</a:t>
            </a: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 означает</a:t>
            </a: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водите свой анализ от скважины к скважине с использованием данных по добыче и суммировать прогнозы с выходом на уровень коллекто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4246560" y="3603600"/>
            <a:ext cx="4635360" cy="28548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облема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кусственно высокие дебиты, поддерживаемые продолжающимся бурением приводят к слишком оптимистичным прогноза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92160" y="15840"/>
            <a:ext cx="8958240" cy="1560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08000" y="149400"/>
            <a:ext cx="892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2600" spc="-1" strike="noStrike" u="sng">
                <a:solidFill>
                  <a:srgbClr val="ffff00"/>
                </a:solidFill>
                <a:uFillTx/>
                <a:latin typeface="Arial"/>
              </a:rPr>
              <a:t>Reservoir-level</a:t>
            </a:r>
            <a:r>
              <a:rPr b="1" lang="en-GB" sz="2600" spc="-1" strike="noStrike">
                <a:solidFill>
                  <a:srgbClr val="ffff00"/>
                </a:solidFill>
                <a:latin typeface="Arial"/>
              </a:rPr>
              <a:t>’ analysis with </a:t>
            </a:r>
            <a:r>
              <a:rPr b="1" lang="en-GB" sz="2600" spc="-1" strike="noStrike" u="sng">
                <a:solidFill>
                  <a:srgbClr val="ffff00"/>
                </a:solidFill>
                <a:uFillTx/>
                <a:latin typeface="Arial"/>
              </a:rPr>
              <a:t>increasing</a:t>
            </a:r>
            <a:r>
              <a:rPr b="1" lang="en-GB" sz="2600" spc="-1" strike="noStrike">
                <a:solidFill>
                  <a:srgbClr val="ffff00"/>
                </a:solidFill>
                <a:latin typeface="Arial"/>
              </a:rPr>
              <a:t> well-cou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12840" y="1784520"/>
            <a:ext cx="4692600" cy="248904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he problem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rtificially high rates sustained by continuous drilling lead to over-optimistic foreca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685800"/>
            <a:ext cx="892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Arial"/>
              </a:rPr>
              <a:t>Анализ </a:t>
            </a:r>
            <a:r>
              <a:rPr b="1" lang="en-GB" sz="26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ru-RU" sz="2600" spc="-1" strike="noStrike" u="sng">
                <a:solidFill>
                  <a:srgbClr val="ffff00"/>
                </a:solidFill>
                <a:uFillTx/>
                <a:latin typeface="Arial"/>
              </a:rPr>
              <a:t>в масштабе коллектора</a:t>
            </a:r>
            <a:r>
              <a:rPr b="1" lang="en-GB" sz="26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ru-RU" sz="2600" spc="-1" strike="noStrike">
                <a:solidFill>
                  <a:srgbClr val="ffff00"/>
                </a:solidFill>
                <a:latin typeface="Arial"/>
              </a:rPr>
              <a:t> с </a:t>
            </a:r>
            <a:r>
              <a:rPr b="1" lang="ru-RU" sz="2600" spc="-1" strike="noStrike" u="sng">
                <a:solidFill>
                  <a:srgbClr val="ffff00"/>
                </a:solidFill>
                <a:uFillTx/>
                <a:latin typeface="Arial"/>
              </a:rPr>
              <a:t>увеличением</a:t>
            </a:r>
            <a:r>
              <a:rPr b="1" lang="ru-RU" sz="2600" spc="-1" strike="noStrike">
                <a:solidFill>
                  <a:srgbClr val="ffff00"/>
                </a:solidFill>
                <a:latin typeface="Arial"/>
              </a:rPr>
              <a:t> количества скважи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23840" y="5757840"/>
            <a:ext cx="8796240" cy="35424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The engineer bases his analysis on reservoir flow rates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412920" y="727200"/>
            <a:ext cx="8451720" cy="505296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1512720" y="954000"/>
            <a:ext cx="4846680" cy="36828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ervoir level analy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43760" y="1476360"/>
            <a:ext cx="1747800" cy="1067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ata appear reliable at reservoir level in this examp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0" y="0"/>
            <a:ext cx="443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Reservoir-level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’ analysis with 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increasing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well-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363920" y="0"/>
            <a:ext cx="466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ализ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 масштабе коллектора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с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увеличением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количества скваж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361040" y="934920"/>
            <a:ext cx="3827160" cy="36828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в масштабе коллекто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391000" y="5329080"/>
            <a:ext cx="2295720" cy="21564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ремя (годы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029280" y="3247920"/>
            <a:ext cx="1871640" cy="1554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этом примере данные в масштабе коллектора выглядят надёжным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62000" y="6176880"/>
            <a:ext cx="879624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работчик основывает свой анализ на дебитах коллектора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62000" y="5757840"/>
            <a:ext cx="879624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...and makes this convincing match, and a forecast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65200" y="765000"/>
            <a:ext cx="8327880" cy="498492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>
            <a:off x="1617840" y="963720"/>
            <a:ext cx="4674960" cy="36828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ervoir level analy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863960" y="2611440"/>
            <a:ext cx="2819520" cy="520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ecast at reservoir level looks good in this examp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361040" y="963720"/>
            <a:ext cx="3827160" cy="36828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в масштабе коллекто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553000" y="5319720"/>
            <a:ext cx="2295720" cy="21564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ремя (годы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35200" y="4049640"/>
            <a:ext cx="3333960" cy="520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гноз в масштабе коллектора выглядит неплохо на данном пример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71360" y="6148440"/>
            <a:ext cx="879660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..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оводит это убедительное сравнение и делает прогноз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0" y="0"/>
            <a:ext cx="443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Reservoir-level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’ analysis with 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increasing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well-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363920" y="0"/>
            <a:ext cx="466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ализ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 масштабе коллектора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с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увеличением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количества скваж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42920" y="5786280"/>
            <a:ext cx="879624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...but this is what actually may happe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412920" y="765000"/>
            <a:ext cx="8480160" cy="508032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1569960" y="963720"/>
            <a:ext cx="4722840" cy="36828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ervoir level analy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800440" y="1442880"/>
            <a:ext cx="39225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reservoir level DCA analysis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8000"/>
                </a:solidFill>
                <a:latin typeface="Arial"/>
              </a:rPr>
              <a:t>ac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535800" y="3230640"/>
            <a:ext cx="107928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ality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361040" y="934920"/>
            <a:ext cx="3827160" cy="36828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в масштабе коллекто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363920" y="0"/>
            <a:ext cx="466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ализ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 масштабе коллектора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с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увеличением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количества скваж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0" y="0"/>
            <a:ext cx="443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Reservoir-level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’ analysis with 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increasing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well-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448240" y="5357880"/>
            <a:ext cx="2295720" cy="21564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ремя (годы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819520" y="1795320"/>
            <a:ext cx="26938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АПД в масштабе коллектора </a:t>
            </a: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фактически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230880" y="3668760"/>
            <a:ext cx="165096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альность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33200" y="6157800"/>
            <a:ext cx="879660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..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о вот что может произойти на самом деле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5080" y="0"/>
            <a:ext cx="873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1.  Ideas on production forecas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9440" y="2749680"/>
            <a:ext cx="3578040" cy="3435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65800" y="2462040"/>
            <a:ext cx="2765520" cy="3857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57400" y="1355760"/>
            <a:ext cx="69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RT  ………  or  ………  SC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6280" y="571680"/>
            <a:ext cx="87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1.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деи по прогнозированию добыч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0680" y="1994040"/>
            <a:ext cx="82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кусство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………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ли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………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у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4480" y="5891040"/>
            <a:ext cx="8796240" cy="35424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The engineer did not account for the changing well count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1227240" y="708120"/>
            <a:ext cx="6875280" cy="397980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1332000" y="763560"/>
            <a:ext cx="4694040" cy="36828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ervoir level analy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4352760"/>
            <a:ext cx="3416400" cy="1493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rend is buoyed by continuous dril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538200" indent="-176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ncreasing well coun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538200" indent="-176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hanging condi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CA at reservoir level not valid in this case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160880" y="773280"/>
            <a:ext cx="3865680" cy="36828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в масштабе коллекто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363920" y="0"/>
            <a:ext cx="466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ализ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 масштабе коллектора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с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увеличением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количества скваж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0"/>
            <a:ext cx="443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Reservoir-level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’ analysis with 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increasing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well-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89640" y="4267080"/>
            <a:ext cx="3654360" cy="1706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ренд движется вверх из-за продолжающегося буре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538200" indent="-176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величение количества скважин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538200" indent="-176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зменение услови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ПД в масштабе коллектора недействителен в этом случае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3840" y="6348240"/>
            <a:ext cx="8796240" cy="35424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работчик не учёл увеличение количества скважин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23840" y="5805360"/>
            <a:ext cx="879624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Error in estimate of remaining recoverable volume: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136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642160" cy="518004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1332000" y="963720"/>
            <a:ext cx="4960800" cy="36828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ervoir level analy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8209080" y="1746360"/>
            <a:ext cx="52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996320" y="1635120"/>
            <a:ext cx="315720" cy="1920960"/>
          </a:xfrm>
          <a:custGeom>
            <a:avLst/>
            <a:gdLst>
              <a:gd name="textAreaLeft" fmla="*/ 0 w 315720"/>
              <a:gd name="textAreaRight" fmla="*/ 114120 w 315720"/>
              <a:gd name="textAreaTop" fmla="*/ 50040 h 1920960"/>
              <a:gd name="textAreaBottom" fmla="*/ 1870920 h 192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rot="16200000">
            <a:off x="-1601640" y="3127680"/>
            <a:ext cx="454032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maining recoverable volume (MMst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351320" y="954000"/>
            <a:ext cx="3827520" cy="36828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в масштабе коллекто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363920" y="0"/>
            <a:ext cx="466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ализ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 масштабе коллектора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с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увеличением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количества скваж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0"/>
            <a:ext cx="443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Reservoir-level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’ analysis with 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increasing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well-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rot="16200000">
            <a:off x="-2165400" y="3259080"/>
            <a:ext cx="4997520" cy="21564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аточный извлекаемый объём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MMst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381640" y="5472000"/>
            <a:ext cx="2028960" cy="21564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ремя (годы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14480" y="6205680"/>
            <a:ext cx="879624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шибка в оценке остаточного извлекамого объёма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136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92160" y="15840"/>
            <a:ext cx="8958240" cy="121752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50920" y="1959120"/>
            <a:ext cx="39700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eglecting to deal with changing well count is one of the greatest sources of error in DCA carried out at a ‘reservoir’ , or any other ‘high’ lev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SEC guidelines March 2001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Proved develope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il and gas reserves are reserves that can be expected to be recovered through </a:t>
            </a: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existing wells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0"/>
            <a:ext cx="4032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2600" spc="-1" strike="noStrike" u="sng">
                <a:solidFill>
                  <a:srgbClr val="ffff00"/>
                </a:solidFill>
                <a:uFillTx/>
                <a:latin typeface="Arial"/>
              </a:rPr>
              <a:t>Reservoir-level</a:t>
            </a:r>
            <a:r>
              <a:rPr b="1" lang="en-GB" sz="2600" spc="-1" strike="noStrike">
                <a:solidFill>
                  <a:srgbClr val="ffff00"/>
                </a:solidFill>
                <a:latin typeface="Arial"/>
              </a:rPr>
              <a:t>’ analysis with </a:t>
            </a:r>
            <a:r>
              <a:rPr b="1" lang="en-GB" sz="2600" spc="-1" strike="noStrike" u="sng">
                <a:solidFill>
                  <a:srgbClr val="ffff00"/>
                </a:solidFill>
                <a:uFillTx/>
                <a:latin typeface="Arial"/>
              </a:rPr>
              <a:t>increasing</a:t>
            </a:r>
            <a:r>
              <a:rPr b="1" lang="en-GB" sz="2600" spc="-1" strike="noStrike">
                <a:solidFill>
                  <a:srgbClr val="ffff00"/>
                </a:solidFill>
                <a:latin typeface="Arial"/>
              </a:rPr>
              <a:t> well-cou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597560" y="0"/>
            <a:ext cx="440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ализ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в масштабе коллектора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с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увеличением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количества скваж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413240" y="1482840"/>
            <a:ext cx="455148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небрежение изменениями в количествве скважин и непринятие их во внимание является одним из самых серьёзных источников ошибок в АПД, выполненном в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масштабе коллектор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’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 любом другом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ом масштаб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держка из руководства Комиссии по ценным бумагам и биржам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C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, март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2001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Доказанные освоенные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пасы нефти и газа – это запасы, извлечение которых ожидается посредством </a:t>
            </a: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существующего фонда скважин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92160" y="15840"/>
            <a:ext cx="8958240" cy="156996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08000" y="149400"/>
            <a:ext cx="892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2600" spc="-1" strike="noStrike" u="sng">
                <a:solidFill>
                  <a:srgbClr val="ffff00"/>
                </a:solidFill>
                <a:uFillTx/>
                <a:latin typeface="Arial"/>
              </a:rPr>
              <a:t>Reservoir-level</a:t>
            </a:r>
            <a:r>
              <a:rPr b="1" lang="en-GB" sz="2600" spc="-1" strike="noStrike">
                <a:solidFill>
                  <a:srgbClr val="ffff00"/>
                </a:solidFill>
                <a:latin typeface="Arial"/>
              </a:rPr>
              <a:t>’ analysis with </a:t>
            </a:r>
            <a:r>
              <a:rPr b="1" lang="en-GB" sz="2600" spc="-1" strike="noStrike" u="sng">
                <a:solidFill>
                  <a:srgbClr val="ffff00"/>
                </a:solidFill>
                <a:uFillTx/>
                <a:latin typeface="Arial"/>
              </a:rPr>
              <a:t>decreasing</a:t>
            </a:r>
            <a:r>
              <a:rPr b="1" lang="en-GB" sz="2600" spc="-1" strike="noStrike">
                <a:solidFill>
                  <a:srgbClr val="ffff00"/>
                </a:solidFill>
                <a:latin typeface="Arial"/>
              </a:rPr>
              <a:t> well-cou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733320"/>
            <a:ext cx="892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Arial"/>
              </a:rPr>
              <a:t>Анализ </a:t>
            </a:r>
            <a:r>
              <a:rPr b="1" lang="en-GB" sz="26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ru-RU" sz="2600" spc="-1" strike="noStrike" u="sng">
                <a:solidFill>
                  <a:srgbClr val="ffff00"/>
                </a:solidFill>
                <a:uFillTx/>
                <a:latin typeface="Arial"/>
              </a:rPr>
              <a:t>в масштабе коллектора</a:t>
            </a:r>
            <a:r>
              <a:rPr b="1" lang="en-GB" sz="2600" spc="-1" strike="noStrike">
                <a:solidFill>
                  <a:srgbClr val="ffff00"/>
                </a:solidFill>
                <a:latin typeface="Arial"/>
              </a:rPr>
              <a:t>’ </a:t>
            </a:r>
            <a:r>
              <a:rPr b="1" lang="ru-RU" sz="2600" spc="-1" strike="noStrike">
                <a:solidFill>
                  <a:srgbClr val="ffff00"/>
                </a:solidFill>
                <a:latin typeface="Arial"/>
              </a:rPr>
              <a:t>с </a:t>
            </a:r>
            <a:r>
              <a:rPr b="1" lang="ru-RU" sz="2600" spc="-1" strike="noStrike" u="sng">
                <a:solidFill>
                  <a:srgbClr val="ffff00"/>
                </a:solidFill>
                <a:uFillTx/>
                <a:latin typeface="Arial"/>
              </a:rPr>
              <a:t>уменьшением</a:t>
            </a:r>
            <a:r>
              <a:rPr b="1" lang="ru-RU" sz="2600" spc="-1" strike="noStrike">
                <a:solidFill>
                  <a:srgbClr val="ffff00"/>
                </a:solidFill>
                <a:latin typeface="Arial"/>
              </a:rPr>
              <a:t> количества скважи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427640" y="1812960"/>
            <a:ext cx="4444920" cy="322056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облема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принятие во внимание ограниченного срока эксплуатации скважин ведёт к слишком оптимистическим прогноза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31920" y="3755880"/>
            <a:ext cx="4492440" cy="248904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he problem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Failure to take account of finite life of individual wells leads to over-optimistic foreca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42920" y="5586480"/>
            <a:ext cx="879624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The engineer bases his analysis on reservoir flow rates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460440" y="679320"/>
            <a:ext cx="8204040" cy="490536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1522440" y="915840"/>
            <a:ext cx="4151160" cy="36828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ervoir level analy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638680" y="1371600"/>
            <a:ext cx="1986120" cy="1067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ata appear reliable at reservoir level in this examp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0"/>
            <a:ext cx="417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Reservoir-level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’ analysis with </a:t>
            </a: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decreasing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well-cou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42920" y="5986440"/>
            <a:ext cx="879624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работчик основывает свой анализ на дебитах коллектора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267160" y="5119560"/>
            <a:ext cx="2028960" cy="21564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ремя (годы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282920" y="0"/>
            <a:ext cx="472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ализ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 масштабе коллектора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’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уменьшением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количества скваж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543640" y="3286080"/>
            <a:ext cx="2071440" cy="1310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этом примере данные в масштабе коллектора выглядят надёжным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255920" y="915840"/>
            <a:ext cx="3846600" cy="36828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в масштабе коллекто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244440" y="593640"/>
            <a:ext cx="8621640" cy="517392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33200" y="5710320"/>
            <a:ext cx="879660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...and makes this convincing match, and a forecast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036960" y="744480"/>
            <a:ext cx="3027240" cy="36828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ervoir level analy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460840" y="2185920"/>
            <a:ext cx="2254320" cy="824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ecast at reservoir level looks good in this examp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236680" y="1049400"/>
            <a:ext cx="441828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в масштабе коллекто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0"/>
            <a:ext cx="417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Reservoir-level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’ analysis with </a:t>
            </a: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decreasing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well-cou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264200" y="0"/>
            <a:ext cx="472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ализ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 масштабе коллектора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’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уменьшением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количества скваж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794120" y="3100320"/>
            <a:ext cx="2949840" cy="824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ноз в масштабе коллектора выглядит неплохо на данном пример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286240" y="5310360"/>
            <a:ext cx="2028960" cy="21564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ремя (годы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33200" y="6110280"/>
            <a:ext cx="879660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..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оводит это убедительное сравнение и делает прогноз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227160" y="681120"/>
            <a:ext cx="8631000" cy="514836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42920" y="5748480"/>
            <a:ext cx="879624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...but this is what actually may happe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179880" y="792000"/>
            <a:ext cx="3027240" cy="36828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ervoir level analy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979880" y="2262240"/>
            <a:ext cx="278316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reservoir level DCA 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actu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799240" y="2800440"/>
            <a:ext cx="1079280" cy="337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ality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217600" y="1125360"/>
            <a:ext cx="441828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в масштабе коллекто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0"/>
            <a:ext cx="417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Reservoir-level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’ analysis with </a:t>
            </a: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decreasing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well-cou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264200" y="0"/>
            <a:ext cx="472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ализ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 масштабе коллектора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’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уменьшением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количества скваж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295960" y="5348160"/>
            <a:ext cx="2028600" cy="21564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ремя (годы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79880" y="3443400"/>
            <a:ext cx="27640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АПД в масштабе коллектор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фактически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370560" y="4048200"/>
            <a:ext cx="1336680" cy="307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альность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52280" y="6167520"/>
            <a:ext cx="879660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..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о вот что может произойти на самом деле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14480" y="5433840"/>
            <a:ext cx="8796240" cy="35424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The engineer did not account for finite life of individual well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1"/>
          <a:stretch/>
        </p:blipFill>
        <p:spPr>
          <a:xfrm>
            <a:off x="125280" y="1441440"/>
            <a:ext cx="6004080" cy="359892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208080" y="1192320"/>
            <a:ext cx="3055680" cy="3373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servoir level analy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121440" y="950760"/>
            <a:ext cx="3022560" cy="1843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dividual wells reach their economic limi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38200" indent="-176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clining well coun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538200" indent="-176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anging condi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CA at reservoir level not valid in this case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rot="19480800">
            <a:off x="3852720" y="2804760"/>
            <a:ext cx="306360" cy="1849320"/>
          </a:xfrm>
          <a:custGeom>
            <a:avLst/>
            <a:gdLst>
              <a:gd name="textAreaLeft" fmla="*/ 0 w 306360"/>
              <a:gd name="textAreaRight" fmla="*/ 110520 w 306360"/>
              <a:gd name="textAreaTop" fmla="*/ 47880 h 1849320"/>
              <a:gd name="textAreaBottom" fmla="*/ 1801440 h 184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4011480" y="1917720"/>
            <a:ext cx="2170080" cy="1703520"/>
          </a:xfrm>
          <a:prstGeom prst="line">
            <a:avLst/>
          </a:prstGeom>
          <a:ln w="19080">
            <a:solidFill>
              <a:srgbClr val="3333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070680" y="3341520"/>
            <a:ext cx="3073320" cy="1919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дельные скважины достигают своих экономических лими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538200" indent="-176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меньшение количества скважин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538200" indent="-176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менение услови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ПД в масштабе коллектора недействителен в этом случае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23840" y="5824440"/>
            <a:ext cx="8796240" cy="61452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работчик не принял во внимание ограниченный срок эксплуатации отдельных скважин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608200" y="1192320"/>
            <a:ext cx="3446640" cy="3373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ализ в масштабе коллектор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728720" y="1522440"/>
            <a:ext cx="3446640" cy="33660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 flipV="1">
            <a:off x="4175640" y="3726360"/>
            <a:ext cx="2052360" cy="376920"/>
          </a:xfrm>
          <a:prstGeom prst="line">
            <a:avLst/>
          </a:prstGeom>
          <a:ln w="19080">
            <a:solidFill>
              <a:srgbClr val="3333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0"/>
            <a:ext cx="417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Reservoir-level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’ analysis with </a:t>
            </a: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decreasing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well-cou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264200" y="0"/>
            <a:ext cx="472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ализ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 масштабе коллектора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’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уменьшением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количества скваж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657600" y="4700520"/>
            <a:ext cx="2028960" cy="2005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ремя (годы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23840" y="5786280"/>
            <a:ext cx="879624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Error in estimate of remaining recoverable volume: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72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250920" y="669960"/>
            <a:ext cx="8640720" cy="518004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1722600" y="792000"/>
            <a:ext cx="4074840" cy="36828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ervoir level analy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821120" y="3214800"/>
            <a:ext cx="29545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reservoir level DCA analy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00"/>
                </a:solidFill>
                <a:latin typeface="Arial"/>
              </a:rPr>
              <a:t>ac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792920" y="1563840"/>
            <a:ext cx="417600" cy="1444320"/>
          </a:xfrm>
          <a:custGeom>
            <a:avLst/>
            <a:gdLst>
              <a:gd name="textAreaLeft" fmla="*/ 0 w 417600"/>
              <a:gd name="textAreaRight" fmla="*/ 150840 w 417600"/>
              <a:gd name="textAreaTop" fmla="*/ 37440 h 1444320"/>
              <a:gd name="textAreaBottom" fmla="*/ 1406880 h 144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8118360" y="1512720"/>
            <a:ext cx="52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rot="16200000">
            <a:off x="-1692360" y="3127680"/>
            <a:ext cx="454032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maining recoverable volume (MMst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513240" y="1087560"/>
            <a:ext cx="441792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в масштабе коллекто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295960" y="5357880"/>
            <a:ext cx="2028600" cy="21564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ремя (годы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668840" y="4243320"/>
            <a:ext cx="31161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АПДв масштабе коллектор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фактическ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rot="16200000">
            <a:off x="-1598760" y="3142080"/>
            <a:ext cx="487368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аточный извлекаемый объём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MMst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14480" y="6138720"/>
            <a:ext cx="879624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шибка в оценке остаточного извлекаемого объёма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72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0"/>
            <a:ext cx="417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Reservoir-level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’ analysis with </a:t>
            </a: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decreasing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well-cou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264200" y="0"/>
            <a:ext cx="472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ализ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 масштабе коллектора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’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уменьшением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количества скваж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92160" y="15840"/>
            <a:ext cx="8958240" cy="97956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68240" y="0"/>
            <a:ext cx="247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 at ‘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well-level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84320" y="1482840"/>
            <a:ext cx="4244760" cy="454068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The probl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Poor allocation at well level leads to unreliable forecas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Interference between wells causes unreliable well-by well forecas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Danger of cumulative conservatis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Difficulty of matching field level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922560" y="0"/>
            <a:ext cx="52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Анализ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в масштабе скважины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594320" y="1415880"/>
            <a:ext cx="4425840" cy="480348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блема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лохое распределение в масштабе скважин ведёт к ненадёжным прогноз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заимодействие между скважинами является причиной ненадёжных прогнозов от скважины к скважин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асность излишнего консерватиз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жность в сопоставлении с данными в масштабе месторожд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384120" y="0"/>
            <a:ext cx="5440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Arial"/>
              </a:rPr>
              <a:t>We ‘forecast’ all the time....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845360" y="1752480"/>
            <a:ext cx="5342040" cy="4629960"/>
            <a:chOff x="1845360" y="1752480"/>
            <a:chExt cx="5342040" cy="4629960"/>
          </a:xfrm>
        </p:grpSpPr>
        <p:sp>
          <p:nvSpPr>
            <p:cNvPr id="58" name=""/>
            <p:cNvSpPr/>
            <p:nvPr/>
          </p:nvSpPr>
          <p:spPr>
            <a:xfrm>
              <a:off x="3443400" y="1752480"/>
              <a:ext cx="2152440" cy="2467080"/>
            </a:xfrm>
            <a:custGeom>
              <a:avLst/>
              <a:gdLst/>
              <a:ahLst/>
              <a:rect l="l" t="t" r="r" b="b"/>
              <a:pathLst>
                <a:path w="1356" h="1554">
                  <a:moveTo>
                    <a:pt x="678" y="0"/>
                  </a:moveTo>
                  <a:lnTo>
                    <a:pt x="1356" y="1176"/>
                  </a:lnTo>
                  <a:lnTo>
                    <a:pt x="681" y="1554"/>
                  </a:lnTo>
                  <a:lnTo>
                    <a:pt x="0" y="1167"/>
                  </a:lnTo>
                  <a:lnTo>
                    <a:pt x="67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7198800">
              <a:off x="4504680" y="3600000"/>
              <a:ext cx="2152440" cy="2467080"/>
            </a:xfrm>
            <a:custGeom>
              <a:avLst/>
              <a:gdLst/>
              <a:ahLst/>
              <a:rect l="l" t="t" r="r" b="b"/>
              <a:pathLst>
                <a:path w="1356" h="1554">
                  <a:moveTo>
                    <a:pt x="678" y="0"/>
                  </a:moveTo>
                  <a:lnTo>
                    <a:pt x="1356" y="1176"/>
                  </a:lnTo>
                  <a:lnTo>
                    <a:pt x="681" y="1554"/>
                  </a:lnTo>
                  <a:lnTo>
                    <a:pt x="0" y="1167"/>
                  </a:lnTo>
                  <a:lnTo>
                    <a:pt x="67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4387400">
              <a:off x="2376000" y="3595320"/>
              <a:ext cx="2152440" cy="2466720"/>
            </a:xfrm>
            <a:custGeom>
              <a:avLst/>
              <a:gdLst/>
              <a:ahLst/>
              <a:rect l="l" t="t" r="r" b="b"/>
              <a:pathLst>
                <a:path w="1356" h="1554">
                  <a:moveTo>
                    <a:pt x="678" y="0"/>
                  </a:moveTo>
                  <a:lnTo>
                    <a:pt x="1356" y="1176"/>
                  </a:lnTo>
                  <a:lnTo>
                    <a:pt x="681" y="1554"/>
                  </a:lnTo>
                  <a:lnTo>
                    <a:pt x="0" y="1167"/>
                  </a:lnTo>
                  <a:lnTo>
                    <a:pt x="67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261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400120" y="1762200"/>
              <a:ext cx="4238640" cy="36860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2590920"/>
            <a:ext cx="3029040" cy="2114280"/>
          </a:xfrm>
          <a:prstGeom prst="ellipse">
            <a:avLst/>
          </a:prstGeom>
          <a:solidFill>
            <a:srgbClr val="a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3840" y="3492360"/>
            <a:ext cx="150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ill the sun rise tomorrow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981680"/>
            <a:ext cx="524160" cy="257040"/>
          </a:xfrm>
          <a:prstGeom prst="ellipse">
            <a:avLst/>
          </a:prstGeom>
          <a:solidFill>
            <a:srgbClr val="a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905040" y="4628880"/>
            <a:ext cx="2133360" cy="60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028680" y="3657600"/>
            <a:ext cx="390600" cy="145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48000" y="2390760"/>
            <a:ext cx="524160" cy="257040"/>
          </a:xfrm>
          <a:prstGeom prst="ellipse">
            <a:avLst/>
          </a:prstGeom>
          <a:solidFill>
            <a:srgbClr val="a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91160" y="4962600"/>
            <a:ext cx="523800" cy="257040"/>
          </a:xfrm>
          <a:prstGeom prst="ellipse">
            <a:avLst/>
          </a:prstGeom>
          <a:solidFill>
            <a:srgbClr val="a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81800" y="952560"/>
            <a:ext cx="3124080" cy="1981080"/>
          </a:xfrm>
          <a:prstGeom prst="ellipse">
            <a:avLst/>
          </a:prstGeom>
          <a:solidFill>
            <a:srgbClr val="a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659640" y="1038240"/>
            <a:ext cx="1233360" cy="677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511960" y="1684440"/>
            <a:ext cx="174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ill this rocket reach the moon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1560" y="2649600"/>
            <a:ext cx="2876400" cy="303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295880" y="1161720"/>
            <a:ext cx="1904760" cy="12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3219480"/>
            <a:ext cx="3048120" cy="2019240"/>
          </a:xfrm>
          <a:prstGeom prst="ellipse">
            <a:avLst/>
          </a:prstGeom>
          <a:solidFill>
            <a:srgbClr val="a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81760" y="3911760"/>
            <a:ext cx="1666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ill stock prices continue to rise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24520" y="5219640"/>
            <a:ext cx="174312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600880" y="3924360"/>
            <a:ext cx="571320" cy="112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486560" y="3409920"/>
            <a:ext cx="876240" cy="833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073160" y="2784600"/>
            <a:ext cx="949320" cy="761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442880" y="1155600"/>
            <a:ext cx="3348360" cy="45972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from first principles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04760" y="5565600"/>
            <a:ext cx="264348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y comparis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33880" y="5565600"/>
            <a:ext cx="334800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y studying cause and eff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48440" y="1673280"/>
            <a:ext cx="165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летит ли эта ракета до Луны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47880" y="1631880"/>
            <a:ext cx="3348000" cy="45972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основным принцип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81800" y="4292640"/>
            <a:ext cx="158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должится ли рост цен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71760" y="3492360"/>
            <a:ext cx="121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зойдёт ли завтра солнце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01880" y="5952960"/>
            <a:ext cx="264312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сравне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33880" y="5937120"/>
            <a:ext cx="3367080" cy="6426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изучению причины и следств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68680" y="330120"/>
            <a:ext cx="59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ы всегда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елаем прогнозы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’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3" name="" descr=""/>
          <p:cNvPicPr/>
          <p:nvPr/>
        </p:nvPicPr>
        <p:blipFill>
          <a:blip r:embed="rId1"/>
          <a:stretch/>
        </p:blipFill>
        <p:spPr>
          <a:xfrm>
            <a:off x="314280" y="765000"/>
            <a:ext cx="4240080" cy="2459160"/>
          </a:xfrm>
          <a:prstGeom prst="rect">
            <a:avLst/>
          </a:prstGeom>
          <a:ln w="0">
            <a:noFill/>
          </a:ln>
        </p:spPr>
      </p:pic>
      <p:pic>
        <p:nvPicPr>
          <p:cNvPr id="834" name="" descr=""/>
          <p:cNvPicPr/>
          <p:nvPr/>
        </p:nvPicPr>
        <p:blipFill>
          <a:blip r:embed="rId2"/>
          <a:stretch/>
        </p:blipFill>
        <p:spPr>
          <a:xfrm>
            <a:off x="4772160" y="755640"/>
            <a:ext cx="4179600" cy="242568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3"/>
          <a:stretch/>
        </p:blipFill>
        <p:spPr>
          <a:xfrm>
            <a:off x="361800" y="3224160"/>
            <a:ext cx="4200840" cy="237024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4"/>
          <a:stretch/>
        </p:blipFill>
        <p:spPr>
          <a:xfrm>
            <a:off x="4724280" y="3195720"/>
            <a:ext cx="4172040" cy="242568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0" y="5649840"/>
            <a:ext cx="914400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The reservoir engineer does DCA on each well’s production data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744640" y="3514680"/>
            <a:ext cx="1735200" cy="641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nalysis at well level is problematic in this exam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314440" y="1050840"/>
            <a:ext cx="2181240" cy="55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terference between w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oor production allo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30320" y="14940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 at ‘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well-level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0" y="6049800"/>
            <a:ext cx="914400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работчик проводит АПД по данным добычи по каждой скважине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010200" y="1069920"/>
            <a:ext cx="2886120" cy="55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терференция между скважинам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лохое распределение добыч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751800" y="3524400"/>
            <a:ext cx="2077920" cy="824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нализ в масштабе скважины проблематичен в этом пример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778280" y="0"/>
            <a:ext cx="413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ализ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в масштабе скважины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5" name="" descr=""/>
          <p:cNvPicPr/>
          <p:nvPr/>
        </p:nvPicPr>
        <p:blipFill>
          <a:blip r:embed="rId1"/>
          <a:stretch/>
        </p:blipFill>
        <p:spPr>
          <a:xfrm>
            <a:off x="320760" y="717480"/>
            <a:ext cx="8634240" cy="5112000"/>
          </a:xfrm>
          <a:prstGeom prst="rect">
            <a:avLst/>
          </a:prstGeom>
          <a:ln w="0">
            <a:noFill/>
          </a:ln>
        </p:spPr>
      </p:pic>
      <p:sp>
        <p:nvSpPr>
          <p:cNvPr id="846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33200" y="5767560"/>
            <a:ext cx="879660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...and aggregates the forecasts to reservoir level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761080" y="1943280"/>
            <a:ext cx="2498760" cy="824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ata quality good at reservoir level in this examp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30320" y="149400"/>
            <a:ext cx="43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 at ‘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well-level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778280" y="0"/>
            <a:ext cx="413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ализ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в масштабе скважины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619280" y="1290600"/>
            <a:ext cx="6781680" cy="58068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ммарный прогноз в масштабе скважины и анализ в масштабе коллектор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23840" y="6157800"/>
            <a:ext cx="879624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..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суммирует прогнозы, выводя их на масштаб колектора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rot="16200000">
            <a:off x="-50760" y="4376520"/>
            <a:ext cx="143820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би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257800" y="5415120"/>
            <a:ext cx="200988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027760" y="3362400"/>
            <a:ext cx="3241440" cy="824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рошее качество данных в масштабе коллектора в этом пример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1"/>
          <a:stretch/>
        </p:blipFill>
        <p:spPr>
          <a:xfrm>
            <a:off x="250920" y="738360"/>
            <a:ext cx="8642160" cy="5162400"/>
          </a:xfrm>
          <a:prstGeom prst="rect">
            <a:avLst/>
          </a:prstGeom>
          <a:ln w="0">
            <a:noFill/>
          </a:ln>
        </p:spPr>
      </p:pic>
      <p:sp>
        <p:nvSpPr>
          <p:cNvPr id="858" name=""/>
          <p:cNvSpPr/>
          <p:nvPr/>
        </p:nvSpPr>
        <p:spPr>
          <a:xfrm>
            <a:off x="114480" y="5786280"/>
            <a:ext cx="879624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...while a field level-analysis would have given a better answ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468680" y="2208240"/>
            <a:ext cx="30481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reservoir level 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aggregated well level forecas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346480" y="1960560"/>
            <a:ext cx="214200" cy="7221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838600" y="1587600"/>
            <a:ext cx="11952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discontinu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2530080" y="1847880"/>
            <a:ext cx="335160" cy="2649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030640" y="3433680"/>
            <a:ext cx="22878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aggregated conservatis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5437080" y="3873600"/>
            <a:ext cx="1681200" cy="657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69720" y="773280"/>
            <a:ext cx="8418600" cy="36828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ggregated well level forecast and reservoir level analy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610400" y="1533600"/>
            <a:ext cx="214560" cy="449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7334280" y="1971720"/>
            <a:ext cx="326880" cy="15429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273640" y="4481640"/>
            <a:ext cx="214200" cy="3063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30320" y="149400"/>
            <a:ext cx="43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 at ‘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well-level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778280" y="0"/>
            <a:ext cx="413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ализ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в масштабе скважины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04720" y="1042920"/>
            <a:ext cx="7886880" cy="30708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ммарный прогноз в масштабе скважины и анализ в масштабе коллектор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790720" y="1987560"/>
            <a:ext cx="12240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несогласи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030560" y="2751120"/>
            <a:ext cx="32958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анализ в масштабе коллектор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умма прогнозов по скважина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802040" y="3767040"/>
            <a:ext cx="25257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накопленный консерватиз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14480" y="6195960"/>
            <a:ext cx="8791560" cy="35424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..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да как анализ в масштабе месторождения выдал бы лучший ответ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257800" y="5462640"/>
            <a:ext cx="200988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rot="16200000">
            <a:off x="-88920" y="4386600"/>
            <a:ext cx="143856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би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450720" y="695160"/>
            <a:ext cx="8271000" cy="495000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123840" y="5586480"/>
            <a:ext cx="879624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43 %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 under-prediction of remaining recoverable volumes in this cas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927920" y="1581120"/>
            <a:ext cx="316080" cy="1373040"/>
          </a:xfrm>
          <a:custGeom>
            <a:avLst/>
            <a:gdLst>
              <a:gd name="textAreaLeft" fmla="*/ 0 w 316080"/>
              <a:gd name="textAreaRight" fmla="*/ 114120 w 316080"/>
              <a:gd name="textAreaTop" fmla="*/ 35640 h 1373040"/>
              <a:gd name="textAreaBottom" fmla="*/ 1337400 h 13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344600" y="1446120"/>
            <a:ext cx="32799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reservoir level analy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aggregated well level forecas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000160" y="915840"/>
            <a:ext cx="1859040" cy="36828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ervoir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134200" y="1393920"/>
            <a:ext cx="52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rot="16200000">
            <a:off x="-1930680" y="3074760"/>
            <a:ext cx="479772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maining recoverable volume (MMst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30320" y="149400"/>
            <a:ext cx="43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 at ‘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well-level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778280" y="0"/>
            <a:ext cx="413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ализ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в масштабе скважины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307120" y="3579840"/>
            <a:ext cx="265104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Анализ в масштабе коллектор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уммарные прогнозы в масштабе скважин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rot="16200000">
            <a:off x="-1488960" y="3127680"/>
            <a:ext cx="454032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аточный извлекаемый объём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MMstb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23840" y="5977080"/>
            <a:ext cx="879624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43 %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дооценки остаточного извлекаемого объёма в этом случа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905280" y="906480"/>
            <a:ext cx="2716200" cy="36828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штаб коллекто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200560" y="5243400"/>
            <a:ext cx="200988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" descr=""/>
          <p:cNvPicPr/>
          <p:nvPr/>
        </p:nvPicPr>
        <p:blipFill>
          <a:blip r:embed="rId1">
            <a:lum contrast="100000"/>
          </a:blip>
          <a:srcRect l="5907" t="0" r="6498" b="5443"/>
          <a:stretch/>
        </p:blipFill>
        <p:spPr>
          <a:xfrm>
            <a:off x="855720" y="814320"/>
            <a:ext cx="3463920" cy="2281320"/>
          </a:xfrm>
          <a:prstGeom prst="rect">
            <a:avLst/>
          </a:prstGeom>
          <a:ln w="19080">
            <a:solidFill>
              <a:srgbClr val="800080"/>
            </a:solidFill>
            <a:miter/>
          </a:ln>
        </p:spPr>
      </p:pic>
      <p:pic>
        <p:nvPicPr>
          <p:cNvPr id="894" name="" descr=""/>
          <p:cNvPicPr/>
          <p:nvPr/>
        </p:nvPicPr>
        <p:blipFill>
          <a:blip r:embed="rId2">
            <a:lum contrast="100000"/>
          </a:blip>
          <a:srcRect l="6187" t="0" r="5624" b="4604"/>
          <a:stretch/>
        </p:blipFill>
        <p:spPr>
          <a:xfrm>
            <a:off x="5305320" y="816120"/>
            <a:ext cx="3414960" cy="2234880"/>
          </a:xfrm>
          <a:prstGeom prst="rect">
            <a:avLst/>
          </a:prstGeom>
          <a:ln w="19080">
            <a:solidFill>
              <a:srgbClr val="800080"/>
            </a:solidFill>
            <a:miter/>
          </a:ln>
        </p:spPr>
      </p:pic>
      <p:pic>
        <p:nvPicPr>
          <p:cNvPr id="895" name="" descr=""/>
          <p:cNvPicPr/>
          <p:nvPr/>
        </p:nvPicPr>
        <p:blipFill>
          <a:blip r:embed="rId3">
            <a:lum contrast="100000"/>
          </a:blip>
          <a:srcRect l="5973" t="0" r="5430" b="3487"/>
          <a:stretch/>
        </p:blipFill>
        <p:spPr>
          <a:xfrm>
            <a:off x="5410080" y="3197160"/>
            <a:ext cx="3349800" cy="2197080"/>
          </a:xfrm>
          <a:prstGeom prst="rect">
            <a:avLst/>
          </a:prstGeom>
          <a:ln w="19080">
            <a:solidFill>
              <a:srgbClr val="800080"/>
            </a:solidFill>
            <a:miter/>
          </a:ln>
        </p:spPr>
      </p:pic>
      <p:sp>
        <p:nvSpPr>
          <p:cNvPr id="896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47760" y="5489640"/>
            <a:ext cx="8796240" cy="35424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peated (20*) fitting of straight lines to rate vs. Np plots on log ax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30320" y="149400"/>
            <a:ext cx="40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 at ‘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well-level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4">
            <a:lum contrast="100000"/>
          </a:blip>
          <a:srcRect l="3362" t="0" r="5604" b="3985"/>
          <a:stretch/>
        </p:blipFill>
        <p:spPr>
          <a:xfrm>
            <a:off x="852480" y="3182760"/>
            <a:ext cx="3441600" cy="2264040"/>
          </a:xfrm>
          <a:prstGeom prst="rect">
            <a:avLst/>
          </a:prstGeom>
          <a:ln w="19080">
            <a:solidFill>
              <a:srgbClr val="800080"/>
            </a:solidFill>
            <a:miter/>
          </a:ln>
        </p:spPr>
      </p:pic>
      <p:sp>
        <p:nvSpPr>
          <p:cNvPr id="900" name=""/>
          <p:cNvSpPr/>
          <p:nvPr/>
        </p:nvSpPr>
        <p:spPr>
          <a:xfrm>
            <a:off x="6654960" y="1982880"/>
            <a:ext cx="66600" cy="253800"/>
          </a:xfrm>
          <a:custGeom>
            <a:avLst/>
            <a:gdLst/>
            <a:ahLst/>
            <a:rect l="l" t="t" r="r" b="b"/>
            <a:pathLst>
              <a:path w="42" h="160">
                <a:moveTo>
                  <a:pt x="42" y="133"/>
                </a:moveTo>
                <a:lnTo>
                  <a:pt x="34" y="24"/>
                </a:lnTo>
                <a:lnTo>
                  <a:pt x="20" y="0"/>
                </a:lnTo>
                <a:lnTo>
                  <a:pt x="0" y="5"/>
                </a:lnTo>
                <a:lnTo>
                  <a:pt x="22" y="160"/>
                </a:lnTo>
                <a:lnTo>
                  <a:pt x="42" y="1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570040" y="2249640"/>
            <a:ext cx="55800" cy="699840"/>
          </a:xfrm>
          <a:custGeom>
            <a:avLst/>
            <a:gdLst/>
            <a:ahLst/>
            <a:rect l="l" t="t" r="r" b="b"/>
            <a:pathLst>
              <a:path w="35" h="441">
                <a:moveTo>
                  <a:pt x="2" y="0"/>
                </a:moveTo>
                <a:cubicBezTo>
                  <a:pt x="7" y="0"/>
                  <a:pt x="18" y="1"/>
                  <a:pt x="18" y="1"/>
                </a:cubicBezTo>
                <a:lnTo>
                  <a:pt x="35" y="47"/>
                </a:lnTo>
                <a:lnTo>
                  <a:pt x="32" y="441"/>
                </a:lnTo>
                <a:lnTo>
                  <a:pt x="0" y="437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221440" y="3808440"/>
            <a:ext cx="1944360" cy="1077840"/>
          </a:xfrm>
          <a:custGeom>
            <a:avLst/>
            <a:gdLst/>
            <a:ahLst/>
            <a:rect l="l" t="t" r="r" b="b"/>
            <a:pathLst>
              <a:path w="1225" h="679">
                <a:moveTo>
                  <a:pt x="0" y="255"/>
                </a:moveTo>
                <a:lnTo>
                  <a:pt x="7" y="179"/>
                </a:lnTo>
                <a:lnTo>
                  <a:pt x="13" y="117"/>
                </a:lnTo>
                <a:lnTo>
                  <a:pt x="43" y="99"/>
                </a:lnTo>
                <a:lnTo>
                  <a:pt x="66" y="93"/>
                </a:lnTo>
                <a:lnTo>
                  <a:pt x="96" y="65"/>
                </a:lnTo>
                <a:lnTo>
                  <a:pt x="126" y="21"/>
                </a:lnTo>
                <a:lnTo>
                  <a:pt x="155" y="67"/>
                </a:lnTo>
                <a:lnTo>
                  <a:pt x="186" y="47"/>
                </a:lnTo>
                <a:lnTo>
                  <a:pt x="207" y="95"/>
                </a:lnTo>
                <a:lnTo>
                  <a:pt x="255" y="65"/>
                </a:lnTo>
                <a:lnTo>
                  <a:pt x="276" y="98"/>
                </a:lnTo>
                <a:lnTo>
                  <a:pt x="303" y="111"/>
                </a:lnTo>
                <a:lnTo>
                  <a:pt x="327" y="158"/>
                </a:lnTo>
                <a:lnTo>
                  <a:pt x="348" y="161"/>
                </a:lnTo>
                <a:lnTo>
                  <a:pt x="375" y="158"/>
                </a:lnTo>
                <a:lnTo>
                  <a:pt x="390" y="156"/>
                </a:lnTo>
                <a:lnTo>
                  <a:pt x="403" y="174"/>
                </a:lnTo>
                <a:lnTo>
                  <a:pt x="409" y="679"/>
                </a:lnTo>
                <a:lnTo>
                  <a:pt x="445" y="7"/>
                </a:lnTo>
                <a:lnTo>
                  <a:pt x="478" y="0"/>
                </a:lnTo>
                <a:lnTo>
                  <a:pt x="510" y="29"/>
                </a:lnTo>
                <a:lnTo>
                  <a:pt x="523" y="180"/>
                </a:lnTo>
                <a:lnTo>
                  <a:pt x="543" y="206"/>
                </a:lnTo>
                <a:lnTo>
                  <a:pt x="556" y="209"/>
                </a:lnTo>
                <a:lnTo>
                  <a:pt x="568" y="570"/>
                </a:lnTo>
                <a:lnTo>
                  <a:pt x="575" y="354"/>
                </a:lnTo>
                <a:lnTo>
                  <a:pt x="599" y="79"/>
                </a:lnTo>
                <a:lnTo>
                  <a:pt x="628" y="87"/>
                </a:lnTo>
                <a:lnTo>
                  <a:pt x="642" y="135"/>
                </a:lnTo>
                <a:lnTo>
                  <a:pt x="681" y="68"/>
                </a:lnTo>
                <a:lnTo>
                  <a:pt x="683" y="108"/>
                </a:lnTo>
                <a:lnTo>
                  <a:pt x="709" y="80"/>
                </a:lnTo>
                <a:lnTo>
                  <a:pt x="735" y="120"/>
                </a:lnTo>
                <a:lnTo>
                  <a:pt x="755" y="193"/>
                </a:lnTo>
                <a:lnTo>
                  <a:pt x="772" y="127"/>
                </a:lnTo>
                <a:lnTo>
                  <a:pt x="787" y="197"/>
                </a:lnTo>
                <a:lnTo>
                  <a:pt x="804" y="239"/>
                </a:lnTo>
                <a:lnTo>
                  <a:pt x="826" y="144"/>
                </a:lnTo>
                <a:lnTo>
                  <a:pt x="847" y="138"/>
                </a:lnTo>
                <a:lnTo>
                  <a:pt x="861" y="192"/>
                </a:lnTo>
                <a:lnTo>
                  <a:pt x="876" y="222"/>
                </a:lnTo>
                <a:lnTo>
                  <a:pt x="889" y="211"/>
                </a:lnTo>
                <a:lnTo>
                  <a:pt x="905" y="211"/>
                </a:lnTo>
                <a:lnTo>
                  <a:pt x="925" y="168"/>
                </a:lnTo>
                <a:lnTo>
                  <a:pt x="940" y="150"/>
                </a:lnTo>
                <a:lnTo>
                  <a:pt x="961" y="342"/>
                </a:lnTo>
                <a:lnTo>
                  <a:pt x="975" y="354"/>
                </a:lnTo>
                <a:lnTo>
                  <a:pt x="987" y="320"/>
                </a:lnTo>
                <a:lnTo>
                  <a:pt x="1000" y="228"/>
                </a:lnTo>
                <a:lnTo>
                  <a:pt x="1013" y="284"/>
                </a:lnTo>
                <a:lnTo>
                  <a:pt x="1021" y="410"/>
                </a:lnTo>
                <a:lnTo>
                  <a:pt x="1030" y="365"/>
                </a:lnTo>
                <a:lnTo>
                  <a:pt x="1036" y="321"/>
                </a:lnTo>
                <a:lnTo>
                  <a:pt x="1048" y="300"/>
                </a:lnTo>
                <a:lnTo>
                  <a:pt x="1065" y="305"/>
                </a:lnTo>
                <a:lnTo>
                  <a:pt x="1084" y="336"/>
                </a:lnTo>
                <a:lnTo>
                  <a:pt x="1092" y="474"/>
                </a:lnTo>
                <a:lnTo>
                  <a:pt x="1099" y="449"/>
                </a:lnTo>
                <a:lnTo>
                  <a:pt x="1103" y="389"/>
                </a:lnTo>
                <a:lnTo>
                  <a:pt x="1114" y="347"/>
                </a:lnTo>
                <a:lnTo>
                  <a:pt x="1123" y="349"/>
                </a:lnTo>
                <a:lnTo>
                  <a:pt x="1132" y="407"/>
                </a:lnTo>
                <a:lnTo>
                  <a:pt x="1139" y="396"/>
                </a:lnTo>
                <a:lnTo>
                  <a:pt x="1147" y="471"/>
                </a:lnTo>
                <a:lnTo>
                  <a:pt x="1155" y="517"/>
                </a:lnTo>
                <a:lnTo>
                  <a:pt x="1157" y="636"/>
                </a:lnTo>
                <a:lnTo>
                  <a:pt x="1157" y="429"/>
                </a:lnTo>
                <a:lnTo>
                  <a:pt x="1162" y="517"/>
                </a:lnTo>
                <a:lnTo>
                  <a:pt x="1173" y="453"/>
                </a:lnTo>
                <a:lnTo>
                  <a:pt x="1188" y="468"/>
                </a:lnTo>
                <a:lnTo>
                  <a:pt x="1197" y="506"/>
                </a:lnTo>
                <a:lnTo>
                  <a:pt x="1207" y="461"/>
                </a:lnTo>
                <a:lnTo>
                  <a:pt x="1210" y="523"/>
                </a:lnTo>
                <a:lnTo>
                  <a:pt x="1218" y="468"/>
                </a:lnTo>
                <a:lnTo>
                  <a:pt x="1225" y="498"/>
                </a:ln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020600" y="1082520"/>
            <a:ext cx="1757520" cy="12718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190520" y="1150920"/>
            <a:ext cx="1571760" cy="1354320"/>
          </a:xfrm>
          <a:custGeom>
            <a:avLst/>
            <a:gdLst/>
            <a:ahLst/>
            <a:rect l="l" t="t" r="r" b="b"/>
            <a:pathLst>
              <a:path w="990" h="853">
                <a:moveTo>
                  <a:pt x="0" y="0"/>
                </a:moveTo>
                <a:lnTo>
                  <a:pt x="65" y="75"/>
                </a:lnTo>
                <a:lnTo>
                  <a:pt x="127" y="116"/>
                </a:lnTo>
                <a:lnTo>
                  <a:pt x="176" y="161"/>
                </a:lnTo>
                <a:lnTo>
                  <a:pt x="250" y="207"/>
                </a:lnTo>
                <a:lnTo>
                  <a:pt x="280" y="235"/>
                </a:lnTo>
                <a:lnTo>
                  <a:pt x="332" y="150"/>
                </a:lnTo>
                <a:lnTo>
                  <a:pt x="373" y="176"/>
                </a:lnTo>
                <a:lnTo>
                  <a:pt x="413" y="251"/>
                </a:lnTo>
                <a:lnTo>
                  <a:pt x="432" y="362"/>
                </a:lnTo>
                <a:lnTo>
                  <a:pt x="450" y="428"/>
                </a:lnTo>
                <a:lnTo>
                  <a:pt x="467" y="432"/>
                </a:lnTo>
                <a:lnTo>
                  <a:pt x="481" y="475"/>
                </a:lnTo>
                <a:lnTo>
                  <a:pt x="490" y="438"/>
                </a:lnTo>
                <a:lnTo>
                  <a:pt x="508" y="396"/>
                </a:lnTo>
                <a:lnTo>
                  <a:pt x="533" y="378"/>
                </a:lnTo>
                <a:lnTo>
                  <a:pt x="546" y="451"/>
                </a:lnTo>
                <a:lnTo>
                  <a:pt x="553" y="469"/>
                </a:lnTo>
                <a:lnTo>
                  <a:pt x="566" y="465"/>
                </a:lnTo>
                <a:lnTo>
                  <a:pt x="581" y="457"/>
                </a:lnTo>
                <a:lnTo>
                  <a:pt x="590" y="475"/>
                </a:lnTo>
                <a:lnTo>
                  <a:pt x="602" y="522"/>
                </a:lnTo>
                <a:lnTo>
                  <a:pt x="613" y="545"/>
                </a:lnTo>
                <a:lnTo>
                  <a:pt x="632" y="552"/>
                </a:lnTo>
                <a:lnTo>
                  <a:pt x="647" y="410"/>
                </a:lnTo>
                <a:lnTo>
                  <a:pt x="666" y="413"/>
                </a:lnTo>
                <a:lnTo>
                  <a:pt x="680" y="441"/>
                </a:lnTo>
                <a:lnTo>
                  <a:pt x="696" y="415"/>
                </a:lnTo>
                <a:lnTo>
                  <a:pt x="707" y="396"/>
                </a:lnTo>
                <a:lnTo>
                  <a:pt x="726" y="433"/>
                </a:lnTo>
                <a:lnTo>
                  <a:pt x="743" y="515"/>
                </a:lnTo>
                <a:lnTo>
                  <a:pt x="752" y="545"/>
                </a:lnTo>
                <a:lnTo>
                  <a:pt x="758" y="576"/>
                </a:lnTo>
                <a:lnTo>
                  <a:pt x="782" y="594"/>
                </a:lnTo>
                <a:lnTo>
                  <a:pt x="790" y="655"/>
                </a:lnTo>
                <a:lnTo>
                  <a:pt x="798" y="638"/>
                </a:lnTo>
                <a:lnTo>
                  <a:pt x="810" y="656"/>
                </a:lnTo>
                <a:lnTo>
                  <a:pt x="823" y="615"/>
                </a:lnTo>
                <a:lnTo>
                  <a:pt x="830" y="653"/>
                </a:lnTo>
                <a:lnTo>
                  <a:pt x="840" y="642"/>
                </a:lnTo>
                <a:lnTo>
                  <a:pt x="847" y="650"/>
                </a:lnTo>
                <a:lnTo>
                  <a:pt x="857" y="665"/>
                </a:lnTo>
                <a:lnTo>
                  <a:pt x="862" y="641"/>
                </a:lnTo>
                <a:lnTo>
                  <a:pt x="881" y="644"/>
                </a:lnTo>
                <a:lnTo>
                  <a:pt x="888" y="690"/>
                </a:lnTo>
                <a:lnTo>
                  <a:pt x="894" y="673"/>
                </a:lnTo>
                <a:lnTo>
                  <a:pt x="904" y="703"/>
                </a:lnTo>
                <a:lnTo>
                  <a:pt x="911" y="677"/>
                </a:lnTo>
                <a:lnTo>
                  <a:pt x="922" y="725"/>
                </a:lnTo>
                <a:lnTo>
                  <a:pt x="918" y="667"/>
                </a:lnTo>
                <a:lnTo>
                  <a:pt x="935" y="651"/>
                </a:lnTo>
                <a:lnTo>
                  <a:pt x="944" y="691"/>
                </a:lnTo>
                <a:lnTo>
                  <a:pt x="952" y="821"/>
                </a:lnTo>
                <a:lnTo>
                  <a:pt x="953" y="812"/>
                </a:lnTo>
                <a:lnTo>
                  <a:pt x="958" y="821"/>
                </a:lnTo>
                <a:lnTo>
                  <a:pt x="966" y="816"/>
                </a:lnTo>
                <a:lnTo>
                  <a:pt x="966" y="842"/>
                </a:lnTo>
                <a:lnTo>
                  <a:pt x="976" y="853"/>
                </a:lnTo>
                <a:lnTo>
                  <a:pt x="990" y="726"/>
                </a:lnTo>
                <a:lnTo>
                  <a:pt x="989" y="751"/>
                </a:ln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 flipV="1">
            <a:off x="6144840" y="1143000"/>
            <a:ext cx="552600" cy="8352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487840" y="1122480"/>
            <a:ext cx="1220760" cy="866520"/>
          </a:xfrm>
          <a:custGeom>
            <a:avLst/>
            <a:gdLst/>
            <a:ahLst/>
            <a:rect l="l" t="t" r="r" b="b"/>
            <a:pathLst>
              <a:path w="769" h="546">
                <a:moveTo>
                  <a:pt x="0" y="0"/>
                </a:moveTo>
                <a:lnTo>
                  <a:pt x="21" y="81"/>
                </a:lnTo>
                <a:lnTo>
                  <a:pt x="35" y="18"/>
                </a:lnTo>
                <a:lnTo>
                  <a:pt x="53" y="108"/>
                </a:lnTo>
                <a:lnTo>
                  <a:pt x="71" y="107"/>
                </a:lnTo>
                <a:lnTo>
                  <a:pt x="89" y="93"/>
                </a:lnTo>
                <a:lnTo>
                  <a:pt x="103" y="137"/>
                </a:lnTo>
                <a:lnTo>
                  <a:pt x="120" y="96"/>
                </a:lnTo>
                <a:lnTo>
                  <a:pt x="137" y="127"/>
                </a:lnTo>
                <a:lnTo>
                  <a:pt x="159" y="129"/>
                </a:lnTo>
                <a:lnTo>
                  <a:pt x="173" y="127"/>
                </a:lnTo>
                <a:lnTo>
                  <a:pt x="189" y="162"/>
                </a:lnTo>
                <a:lnTo>
                  <a:pt x="204" y="140"/>
                </a:lnTo>
                <a:lnTo>
                  <a:pt x="215" y="151"/>
                </a:lnTo>
                <a:lnTo>
                  <a:pt x="226" y="260"/>
                </a:lnTo>
                <a:lnTo>
                  <a:pt x="237" y="269"/>
                </a:lnTo>
                <a:lnTo>
                  <a:pt x="246" y="240"/>
                </a:lnTo>
                <a:lnTo>
                  <a:pt x="253" y="277"/>
                </a:lnTo>
                <a:lnTo>
                  <a:pt x="262" y="366"/>
                </a:lnTo>
                <a:lnTo>
                  <a:pt x="282" y="278"/>
                </a:lnTo>
                <a:lnTo>
                  <a:pt x="283" y="294"/>
                </a:lnTo>
                <a:lnTo>
                  <a:pt x="294" y="296"/>
                </a:lnTo>
                <a:lnTo>
                  <a:pt x="303" y="314"/>
                </a:lnTo>
                <a:lnTo>
                  <a:pt x="311" y="314"/>
                </a:lnTo>
                <a:lnTo>
                  <a:pt x="323" y="283"/>
                </a:lnTo>
                <a:lnTo>
                  <a:pt x="330" y="289"/>
                </a:lnTo>
                <a:lnTo>
                  <a:pt x="342" y="313"/>
                </a:lnTo>
                <a:lnTo>
                  <a:pt x="352" y="306"/>
                </a:lnTo>
                <a:lnTo>
                  <a:pt x="357" y="415"/>
                </a:lnTo>
                <a:lnTo>
                  <a:pt x="371" y="450"/>
                </a:lnTo>
                <a:lnTo>
                  <a:pt x="381" y="391"/>
                </a:lnTo>
                <a:lnTo>
                  <a:pt x="389" y="438"/>
                </a:lnTo>
                <a:lnTo>
                  <a:pt x="396" y="432"/>
                </a:lnTo>
                <a:lnTo>
                  <a:pt x="408" y="432"/>
                </a:lnTo>
                <a:lnTo>
                  <a:pt x="419" y="419"/>
                </a:lnTo>
                <a:lnTo>
                  <a:pt x="420" y="449"/>
                </a:lnTo>
                <a:lnTo>
                  <a:pt x="435" y="33"/>
                </a:lnTo>
                <a:lnTo>
                  <a:pt x="454" y="111"/>
                </a:lnTo>
                <a:lnTo>
                  <a:pt x="472" y="107"/>
                </a:lnTo>
                <a:lnTo>
                  <a:pt x="485" y="116"/>
                </a:lnTo>
                <a:lnTo>
                  <a:pt x="493" y="149"/>
                </a:lnTo>
                <a:lnTo>
                  <a:pt x="503" y="188"/>
                </a:lnTo>
                <a:lnTo>
                  <a:pt x="511" y="192"/>
                </a:lnTo>
                <a:lnTo>
                  <a:pt x="527" y="242"/>
                </a:lnTo>
                <a:lnTo>
                  <a:pt x="539" y="224"/>
                </a:lnTo>
                <a:lnTo>
                  <a:pt x="555" y="224"/>
                </a:lnTo>
                <a:lnTo>
                  <a:pt x="575" y="263"/>
                </a:lnTo>
                <a:lnTo>
                  <a:pt x="583" y="305"/>
                </a:lnTo>
                <a:lnTo>
                  <a:pt x="587" y="247"/>
                </a:lnTo>
                <a:lnTo>
                  <a:pt x="615" y="255"/>
                </a:lnTo>
                <a:lnTo>
                  <a:pt x="618" y="281"/>
                </a:lnTo>
                <a:lnTo>
                  <a:pt x="633" y="323"/>
                </a:lnTo>
                <a:lnTo>
                  <a:pt x="640" y="336"/>
                </a:lnTo>
                <a:lnTo>
                  <a:pt x="649" y="331"/>
                </a:lnTo>
                <a:lnTo>
                  <a:pt x="664" y="335"/>
                </a:lnTo>
                <a:lnTo>
                  <a:pt x="671" y="347"/>
                </a:lnTo>
                <a:lnTo>
                  <a:pt x="678" y="368"/>
                </a:lnTo>
                <a:lnTo>
                  <a:pt x="688" y="371"/>
                </a:lnTo>
                <a:lnTo>
                  <a:pt x="690" y="385"/>
                </a:lnTo>
                <a:lnTo>
                  <a:pt x="696" y="408"/>
                </a:lnTo>
                <a:lnTo>
                  <a:pt x="700" y="434"/>
                </a:lnTo>
                <a:lnTo>
                  <a:pt x="709" y="411"/>
                </a:lnTo>
                <a:lnTo>
                  <a:pt x="719" y="449"/>
                </a:lnTo>
                <a:lnTo>
                  <a:pt x="729" y="445"/>
                </a:lnTo>
                <a:lnTo>
                  <a:pt x="735" y="456"/>
                </a:lnTo>
                <a:lnTo>
                  <a:pt x="739" y="446"/>
                </a:lnTo>
                <a:lnTo>
                  <a:pt x="754" y="509"/>
                </a:lnTo>
                <a:lnTo>
                  <a:pt x="760" y="530"/>
                </a:lnTo>
                <a:lnTo>
                  <a:pt x="769" y="546"/>
                </a:ln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 flipV="1">
            <a:off x="6816240" y="3851280"/>
            <a:ext cx="552600" cy="998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169040" y="4570560"/>
            <a:ext cx="193680" cy="334800"/>
          </a:xfrm>
          <a:custGeom>
            <a:avLst/>
            <a:gdLst/>
            <a:ahLst/>
            <a:rect l="l" t="t" r="r" b="b"/>
            <a:pathLst>
              <a:path w="122" h="211">
                <a:moveTo>
                  <a:pt x="0" y="18"/>
                </a:moveTo>
                <a:lnTo>
                  <a:pt x="10" y="15"/>
                </a:lnTo>
                <a:lnTo>
                  <a:pt x="19" y="0"/>
                </a:lnTo>
                <a:lnTo>
                  <a:pt x="21" y="19"/>
                </a:lnTo>
                <a:lnTo>
                  <a:pt x="31" y="18"/>
                </a:lnTo>
                <a:lnTo>
                  <a:pt x="43" y="6"/>
                </a:lnTo>
                <a:lnTo>
                  <a:pt x="50" y="23"/>
                </a:lnTo>
                <a:lnTo>
                  <a:pt x="54" y="55"/>
                </a:lnTo>
                <a:lnTo>
                  <a:pt x="62" y="92"/>
                </a:lnTo>
                <a:lnTo>
                  <a:pt x="67" y="77"/>
                </a:lnTo>
                <a:lnTo>
                  <a:pt x="81" y="66"/>
                </a:lnTo>
                <a:lnTo>
                  <a:pt x="81" y="105"/>
                </a:lnTo>
                <a:lnTo>
                  <a:pt x="91" y="96"/>
                </a:lnTo>
                <a:lnTo>
                  <a:pt x="93" y="78"/>
                </a:lnTo>
                <a:lnTo>
                  <a:pt x="102" y="85"/>
                </a:lnTo>
                <a:lnTo>
                  <a:pt x="104" y="102"/>
                </a:lnTo>
                <a:lnTo>
                  <a:pt x="104" y="147"/>
                </a:lnTo>
                <a:lnTo>
                  <a:pt x="104" y="203"/>
                </a:lnTo>
                <a:lnTo>
                  <a:pt x="116" y="200"/>
                </a:lnTo>
                <a:lnTo>
                  <a:pt x="118" y="170"/>
                </a:lnTo>
                <a:lnTo>
                  <a:pt x="122" y="211"/>
                </a:ln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 flipV="1">
            <a:off x="1679040" y="3718080"/>
            <a:ext cx="876600" cy="5601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692360" y="3705120"/>
            <a:ext cx="857160" cy="600120"/>
          </a:xfrm>
          <a:custGeom>
            <a:avLst/>
            <a:gdLst/>
            <a:ahLst/>
            <a:rect l="l" t="t" r="r" b="b"/>
            <a:pathLst>
              <a:path w="540" h="378">
                <a:moveTo>
                  <a:pt x="0" y="0"/>
                </a:moveTo>
                <a:lnTo>
                  <a:pt x="14" y="20"/>
                </a:lnTo>
                <a:lnTo>
                  <a:pt x="30" y="53"/>
                </a:lnTo>
                <a:lnTo>
                  <a:pt x="50" y="42"/>
                </a:lnTo>
                <a:lnTo>
                  <a:pt x="67" y="72"/>
                </a:lnTo>
                <a:lnTo>
                  <a:pt x="84" y="82"/>
                </a:lnTo>
                <a:lnTo>
                  <a:pt x="105" y="84"/>
                </a:lnTo>
                <a:lnTo>
                  <a:pt x="123" y="84"/>
                </a:lnTo>
                <a:lnTo>
                  <a:pt x="140" y="72"/>
                </a:lnTo>
                <a:lnTo>
                  <a:pt x="159" y="122"/>
                </a:lnTo>
                <a:lnTo>
                  <a:pt x="176" y="114"/>
                </a:lnTo>
                <a:lnTo>
                  <a:pt x="193" y="127"/>
                </a:lnTo>
                <a:lnTo>
                  <a:pt x="213" y="131"/>
                </a:lnTo>
                <a:lnTo>
                  <a:pt x="222" y="150"/>
                </a:lnTo>
                <a:lnTo>
                  <a:pt x="241" y="150"/>
                </a:lnTo>
                <a:lnTo>
                  <a:pt x="261" y="154"/>
                </a:lnTo>
                <a:lnTo>
                  <a:pt x="262" y="186"/>
                </a:lnTo>
                <a:lnTo>
                  <a:pt x="296" y="199"/>
                </a:lnTo>
                <a:lnTo>
                  <a:pt x="308" y="223"/>
                </a:lnTo>
                <a:lnTo>
                  <a:pt x="322" y="230"/>
                </a:lnTo>
                <a:lnTo>
                  <a:pt x="334" y="224"/>
                </a:lnTo>
                <a:lnTo>
                  <a:pt x="343" y="251"/>
                </a:lnTo>
                <a:lnTo>
                  <a:pt x="372" y="250"/>
                </a:lnTo>
                <a:lnTo>
                  <a:pt x="375" y="280"/>
                </a:lnTo>
                <a:lnTo>
                  <a:pt x="387" y="288"/>
                </a:lnTo>
                <a:lnTo>
                  <a:pt x="404" y="295"/>
                </a:lnTo>
                <a:lnTo>
                  <a:pt x="415" y="334"/>
                </a:lnTo>
                <a:lnTo>
                  <a:pt x="421" y="299"/>
                </a:lnTo>
                <a:lnTo>
                  <a:pt x="430" y="289"/>
                </a:lnTo>
                <a:lnTo>
                  <a:pt x="436" y="326"/>
                </a:lnTo>
                <a:lnTo>
                  <a:pt x="447" y="320"/>
                </a:lnTo>
                <a:lnTo>
                  <a:pt x="458" y="325"/>
                </a:lnTo>
                <a:lnTo>
                  <a:pt x="478" y="324"/>
                </a:lnTo>
                <a:lnTo>
                  <a:pt x="484" y="318"/>
                </a:lnTo>
                <a:lnTo>
                  <a:pt x="496" y="350"/>
                </a:lnTo>
                <a:lnTo>
                  <a:pt x="505" y="348"/>
                </a:lnTo>
                <a:lnTo>
                  <a:pt x="510" y="378"/>
                </a:lnTo>
                <a:lnTo>
                  <a:pt x="535" y="313"/>
                </a:lnTo>
                <a:lnTo>
                  <a:pt x="540" y="326"/>
                </a:lnTo>
                <a:lnTo>
                  <a:pt x="536" y="358"/>
                </a:ln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47760" y="5889600"/>
            <a:ext cx="8796240" cy="61452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огократное наложение прямых линий на кривые дебита по сравнению с графиками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 N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351320" y="0"/>
            <a:ext cx="479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ализ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 масштабе скважины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" descr=""/>
          <p:cNvPicPr/>
          <p:nvPr/>
        </p:nvPicPr>
        <p:blipFill>
          <a:blip r:embed="rId1"/>
          <a:stretch/>
        </p:blipFill>
        <p:spPr>
          <a:xfrm>
            <a:off x="4591080" y="3373560"/>
            <a:ext cx="4481640" cy="264780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2"/>
          <a:stretch/>
        </p:blipFill>
        <p:spPr>
          <a:xfrm>
            <a:off x="4592520" y="752400"/>
            <a:ext cx="4472280" cy="267660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3"/>
          <a:stretch/>
        </p:blipFill>
        <p:spPr>
          <a:xfrm>
            <a:off x="0" y="3371760"/>
            <a:ext cx="4475160" cy="2656080"/>
          </a:xfrm>
          <a:prstGeom prst="rect">
            <a:avLst/>
          </a:prstGeom>
          <a:ln w="0">
            <a:noFill/>
          </a:ln>
        </p:spPr>
      </p:pic>
      <p:pic>
        <p:nvPicPr>
          <p:cNvPr id="916" name="" descr=""/>
          <p:cNvPicPr/>
          <p:nvPr/>
        </p:nvPicPr>
        <p:blipFill>
          <a:blip r:embed="rId4"/>
          <a:stretch/>
        </p:blipFill>
        <p:spPr>
          <a:xfrm>
            <a:off x="95400" y="752400"/>
            <a:ext cx="4470120" cy="267660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23840" y="5943600"/>
            <a:ext cx="8902800" cy="32508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massive over-prediction of remaining recoverable volumes in this ca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995560" y="2422440"/>
            <a:ext cx="7920" cy="4730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3166560" y="2465280"/>
            <a:ext cx="3240" cy="4222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143240" y="2394000"/>
            <a:ext cx="0" cy="380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524720" y="2505240"/>
            <a:ext cx="0" cy="40788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7738920" y="2735280"/>
            <a:ext cx="6480" cy="1746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8645400" y="2719440"/>
            <a:ext cx="6480" cy="195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7872120" y="4923000"/>
            <a:ext cx="3240" cy="4870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8107200" y="4927680"/>
            <a:ext cx="6480" cy="47952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663040" y="4935600"/>
            <a:ext cx="0" cy="4730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585200" y="4630680"/>
            <a:ext cx="4680" cy="77796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727440" y="5049720"/>
            <a:ext cx="0" cy="381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3327120" y="5059440"/>
            <a:ext cx="3240" cy="4222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870280" y="4673520"/>
            <a:ext cx="4680" cy="8114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5273280" y="4952880"/>
            <a:ext cx="3535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00640" y="3473280"/>
            <a:ext cx="3645000" cy="25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overestimate/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ереоценка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: 210% to 370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162400" y="833400"/>
            <a:ext cx="3638880" cy="25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overestimate: 530%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переоценка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530%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82480" y="833400"/>
            <a:ext cx="3759480" cy="25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overestimate: 620%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переоценка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: 620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73120" y="3454560"/>
            <a:ext cx="3530520" cy="25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overestimate: 190%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переоценка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19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0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30320" y="149400"/>
            <a:ext cx="44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 at ‘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well-level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351320" y="0"/>
            <a:ext cx="479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ализ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 масштабе скважины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23840" y="6257880"/>
            <a:ext cx="8902800" cy="32508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Чрезмерные прогнозы остаточных извлекаемых объёмов в этом случа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30320" y="149400"/>
            <a:ext cx="44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 at ‘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well-level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041720" y="2843280"/>
            <a:ext cx="5102280" cy="36792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ff"/>
                </a:solidFill>
                <a:latin typeface="Arial"/>
              </a:rPr>
              <a:t>    ‘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Большие ошибки, так же как «толстые канаты», зачастую состоят из тонких волокон</a:t>
            </a:r>
            <a:r>
              <a:rPr b="1" i="1" lang="en-GB" sz="36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ктор Гю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0" y="795240"/>
            <a:ext cx="4597560" cy="3191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ff"/>
                </a:solidFill>
                <a:latin typeface="Arial"/>
              </a:rPr>
              <a:t>‘</a:t>
            </a:r>
            <a:r>
              <a:rPr b="1" i="1" lang="en-GB" sz="3600" spc="-1" strike="noStrike">
                <a:solidFill>
                  <a:srgbClr val="0000ff"/>
                </a:solidFill>
                <a:latin typeface="Arial"/>
              </a:rPr>
              <a:t>Great blunders are often made, like large ropes, of a multitude of fibres’</a:t>
            </a: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ictor Hug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351320" y="0"/>
            <a:ext cx="479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ализ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 масштабе скважины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92160" y="15840"/>
            <a:ext cx="8958240" cy="1370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26880" y="1565280"/>
            <a:ext cx="3843360" cy="424188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he solu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ritically review data before deciding at which level to carry out analy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At what level is the drive mechanism eviden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elect the lowest level for which a sound dataset is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Account for changing well cou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30320" y="0"/>
            <a:ext cx="88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‘well-level’ vs. ‘reservoir-level’ analysis deb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492120"/>
            <a:ext cx="925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змышления об анализе «в масштабе скважины» по сравнению с анализом «в масштабе коллектор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641840" y="1527120"/>
            <a:ext cx="4253040" cy="451368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шение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чень важна оценка данных до принятия решения относительно того, в каком масштабе будет проводиться анали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аком масштабе очевиден механизм вытеснения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бор самого низкого уровня по которому имеется в наличии набор дан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ятие во внимание изменение количества скважи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92160" y="15840"/>
            <a:ext cx="8958240" cy="145584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30320" y="0"/>
            <a:ext cx="416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ing the correct equations for foreca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387680" y="0"/>
            <a:ext cx="463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спользование правильных уравнений для прогнозиров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118040" y="3432240"/>
            <a:ext cx="4854600" cy="312768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блема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шибки по временным интервалам могуть быть вызваны использованием неправильных форм уравнения для прогнозиро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74680" y="1622520"/>
            <a:ext cx="4749840" cy="26712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 proble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ime-step errors can be caused by using the wrong form of the equations for foreca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0"/>
            <a:ext cx="437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ing the correct equations for foreca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2887560" y="1066680"/>
            <a:ext cx="6048360" cy="504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58" name=""/>
          <p:cNvSpPr/>
          <p:nvPr/>
        </p:nvSpPr>
        <p:spPr>
          <a:xfrm>
            <a:off x="122400" y="804960"/>
            <a:ext cx="2288880" cy="824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ventional form: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 instantaneous rate as a function of ti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16080" y="3587760"/>
            <a:ext cx="1984320" cy="1067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gral form: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 cumulative production as a function of ti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408400" y="4052880"/>
            <a:ext cx="360360" cy="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482920" y="1484280"/>
            <a:ext cx="360360" cy="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168280" y="2271600"/>
            <a:ext cx="196956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д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4598280" y="2325600"/>
            <a:ext cx="2906640" cy="152640"/>
            <a:chOff x="4598280" y="2325600"/>
            <a:chExt cx="2906640" cy="152640"/>
          </a:xfrm>
        </p:grpSpPr>
        <p:sp>
          <p:nvSpPr>
            <p:cNvPr id="964" name=""/>
            <p:cNvSpPr/>
            <p:nvPr/>
          </p:nvSpPr>
          <p:spPr>
            <a:xfrm>
              <a:off x="6062400" y="2325600"/>
              <a:ext cx="1442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094000" y="2325600"/>
              <a:ext cx="22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времени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039640" y="2325600"/>
              <a:ext cx="1436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653000" y="2325600"/>
              <a:ext cx="1771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при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598280" y="2325600"/>
              <a:ext cx="1436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3948840" y="2325600"/>
            <a:ext cx="19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би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4015800" y="2798640"/>
            <a:ext cx="5002200" cy="247320"/>
            <a:chOff x="4015800" y="2798640"/>
            <a:chExt cx="5002200" cy="247320"/>
          </a:xfrm>
        </p:grpSpPr>
        <p:sp>
          <p:nvSpPr>
            <p:cNvPr id="971" name=""/>
            <p:cNvSpPr/>
            <p:nvPr/>
          </p:nvSpPr>
          <p:spPr>
            <a:xfrm>
              <a:off x="7413120" y="2798640"/>
              <a:ext cx="1442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487640" y="2954520"/>
              <a:ext cx="1415160" cy="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560360" y="2798640"/>
              <a:ext cx="145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298280" y="2798640"/>
              <a:ext cx="1500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413040" y="2798640"/>
              <a:ext cx="22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времени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357240" y="2798640"/>
              <a:ext cx="1436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88520" y="2798640"/>
              <a:ext cx="145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72040" y="2798640"/>
              <a:ext cx="1771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пр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833440" y="2798640"/>
              <a:ext cx="1436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223240" y="2798640"/>
              <a:ext cx="199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дебит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164920" y="2798640"/>
              <a:ext cx="1436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015800" y="2798640"/>
              <a:ext cx="254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начальный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3795840" y="3108240"/>
            <a:ext cx="5483880" cy="265680"/>
            <a:chOff x="3795840" y="3108240"/>
            <a:chExt cx="5483880" cy="265680"/>
          </a:xfrm>
        </p:grpSpPr>
        <p:sp>
          <p:nvSpPr>
            <p:cNvPr id="984" name=""/>
            <p:cNvSpPr/>
            <p:nvPr/>
          </p:nvSpPr>
          <p:spPr>
            <a:xfrm>
              <a:off x="6865200" y="3108240"/>
              <a:ext cx="1501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624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777800" y="3108240"/>
              <a:ext cx="1501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624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322400" y="3221280"/>
              <a:ext cx="1500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673040" y="3221280"/>
              <a:ext cx="1500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949440" y="3221280"/>
              <a:ext cx="1500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706000" y="3221280"/>
              <a:ext cx="2477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экспонент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646240" y="3221280"/>
              <a:ext cx="1436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045760" y="3221280"/>
              <a:ext cx="199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еский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795840" y="3221280"/>
              <a:ext cx="263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гиперболич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473960" y="3191040"/>
              <a:ext cx="157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094520" y="3191040"/>
              <a:ext cx="157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2203200" y="5440320"/>
            <a:ext cx="196956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д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3434040" y="3693960"/>
            <a:ext cx="5823720" cy="152640"/>
            <a:chOff x="3434040" y="3693960"/>
            <a:chExt cx="5823720" cy="152640"/>
          </a:xfrm>
        </p:grpSpPr>
        <p:sp>
          <p:nvSpPr>
            <p:cNvPr id="997" name=""/>
            <p:cNvSpPr/>
            <p:nvPr/>
          </p:nvSpPr>
          <p:spPr>
            <a:xfrm>
              <a:off x="7005960" y="3693960"/>
              <a:ext cx="225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падени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949440" y="3693960"/>
              <a:ext cx="1436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011640" y="3693960"/>
              <a:ext cx="2332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скорость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956920" y="3693960"/>
              <a:ext cx="1436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847840" y="3693960"/>
              <a:ext cx="148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564440" y="3693960"/>
              <a:ext cx="267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номинальн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509360" y="3693960"/>
              <a:ext cx="1436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434040" y="3693960"/>
              <a:ext cx="246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начальна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4120920" y="5491080"/>
            <a:ext cx="4811040" cy="152640"/>
            <a:chOff x="4120920" y="5491080"/>
            <a:chExt cx="4811040" cy="152640"/>
          </a:xfrm>
        </p:grpSpPr>
        <p:sp>
          <p:nvSpPr>
            <p:cNvPr id="1006" name=""/>
            <p:cNvSpPr/>
            <p:nvPr/>
          </p:nvSpPr>
          <p:spPr>
            <a:xfrm>
              <a:off x="7489440" y="5491080"/>
              <a:ext cx="1442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438320" y="5491080"/>
              <a:ext cx="1436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552720" y="5491080"/>
              <a:ext cx="22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времени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496920" y="5491080"/>
              <a:ext cx="1436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379920" y="5491080"/>
              <a:ext cx="1495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323760" y="5491080"/>
              <a:ext cx="1436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527440" y="5491080"/>
              <a:ext cx="2170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добыч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469840" y="5491080"/>
              <a:ext cx="1436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360760" y="5491080"/>
              <a:ext cx="148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120920" y="5491080"/>
              <a:ext cx="2631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накопленн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4694400" y="0"/>
            <a:ext cx="444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спользование правильных уравнений для прогнозирова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0" y="1766880"/>
            <a:ext cx="2382840" cy="824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ндартная форма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гновенный дебит как функция времен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479680" y="2166840"/>
            <a:ext cx="360360" cy="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432160" y="5253120"/>
            <a:ext cx="360360" cy="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77920" y="4816440"/>
            <a:ext cx="2050920" cy="1310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копленная добыча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копленная добыче как функция времен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2160" y="15840"/>
            <a:ext cx="8958240" cy="988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165240" y="130320"/>
            <a:ext cx="464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ikewise in the oil business.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683360" y="1685880"/>
            <a:ext cx="5342040" cy="4629960"/>
            <a:chOff x="1683360" y="1685880"/>
            <a:chExt cx="5342040" cy="4629960"/>
          </a:xfrm>
        </p:grpSpPr>
        <p:sp>
          <p:nvSpPr>
            <p:cNvPr id="93" name=""/>
            <p:cNvSpPr/>
            <p:nvPr/>
          </p:nvSpPr>
          <p:spPr>
            <a:xfrm>
              <a:off x="3281400" y="1685880"/>
              <a:ext cx="2152440" cy="2467080"/>
            </a:xfrm>
            <a:custGeom>
              <a:avLst/>
              <a:gdLst/>
              <a:ahLst/>
              <a:rect l="l" t="t" r="r" b="b"/>
              <a:pathLst>
                <a:path w="1356" h="1554">
                  <a:moveTo>
                    <a:pt x="678" y="0"/>
                  </a:moveTo>
                  <a:lnTo>
                    <a:pt x="1356" y="1176"/>
                  </a:lnTo>
                  <a:lnTo>
                    <a:pt x="681" y="1554"/>
                  </a:lnTo>
                  <a:lnTo>
                    <a:pt x="0" y="1167"/>
                  </a:lnTo>
                  <a:lnTo>
                    <a:pt x="67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7198800">
              <a:off x="4342680" y="3533400"/>
              <a:ext cx="2152440" cy="2467080"/>
            </a:xfrm>
            <a:custGeom>
              <a:avLst/>
              <a:gdLst/>
              <a:ahLst/>
              <a:rect l="l" t="t" r="r" b="b"/>
              <a:pathLst>
                <a:path w="1356" h="1554">
                  <a:moveTo>
                    <a:pt x="678" y="0"/>
                  </a:moveTo>
                  <a:lnTo>
                    <a:pt x="1356" y="1176"/>
                  </a:lnTo>
                  <a:lnTo>
                    <a:pt x="681" y="1554"/>
                  </a:lnTo>
                  <a:lnTo>
                    <a:pt x="0" y="1167"/>
                  </a:lnTo>
                  <a:lnTo>
                    <a:pt x="67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4387400">
              <a:off x="2214000" y="3528720"/>
              <a:ext cx="2152440" cy="2466720"/>
            </a:xfrm>
            <a:custGeom>
              <a:avLst/>
              <a:gdLst/>
              <a:ahLst/>
              <a:rect l="l" t="t" r="r" b="b"/>
              <a:pathLst>
                <a:path w="1356" h="1554">
                  <a:moveTo>
                    <a:pt x="678" y="0"/>
                  </a:moveTo>
                  <a:lnTo>
                    <a:pt x="1356" y="1176"/>
                  </a:lnTo>
                  <a:lnTo>
                    <a:pt x="681" y="1554"/>
                  </a:lnTo>
                  <a:lnTo>
                    <a:pt x="0" y="1167"/>
                  </a:lnTo>
                  <a:lnTo>
                    <a:pt x="67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261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38120" y="1695600"/>
              <a:ext cx="4238640" cy="36860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452760" y="2593800"/>
            <a:ext cx="18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numerical simul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86400" y="4537080"/>
            <a:ext cx="19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D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5000" y="4518000"/>
            <a:ext cx="25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analog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66960" y="1279440"/>
            <a:ext cx="3348000" cy="45972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rom first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6640" y="5451480"/>
            <a:ext cx="2643120" cy="3988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by compar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43480" y="5432400"/>
            <a:ext cx="3938400" cy="3988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by studying cause and eff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41640" y="162000"/>
            <a:ext cx="520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ак же и в нефтяном бизнесе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.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14840" y="1279440"/>
            <a:ext cx="4395960" cy="45972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 основным принципа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1400" y="3165480"/>
            <a:ext cx="22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исленное моделиров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14720" y="4870440"/>
            <a:ext cx="25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нало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95760" y="488952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П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6640" y="5870520"/>
            <a:ext cx="2643120" cy="3988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сравнени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43480" y="5842080"/>
            <a:ext cx="3938400" cy="7038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изучению причины и следств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0"/>
            <a:ext cx="436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ing the correct equations for foreca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3" name="" descr=""/>
          <p:cNvPicPr/>
          <p:nvPr/>
        </p:nvPicPr>
        <p:blipFill>
          <a:blip r:embed="rId1"/>
          <a:stretch/>
        </p:blipFill>
        <p:spPr>
          <a:xfrm>
            <a:off x="324000" y="776160"/>
            <a:ext cx="8496000" cy="5148360"/>
          </a:xfrm>
          <a:prstGeom prst="rect">
            <a:avLst/>
          </a:prstGeom>
          <a:ln w="0">
            <a:noFill/>
          </a:ln>
        </p:spPr>
      </p:pic>
      <p:sp>
        <p:nvSpPr>
          <p:cNvPr id="1024" name=""/>
          <p:cNvSpPr/>
          <p:nvPr/>
        </p:nvSpPr>
        <p:spPr>
          <a:xfrm>
            <a:off x="162000" y="5776920"/>
            <a:ext cx="8796240" cy="41436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The engineer uses q</a:t>
            </a:r>
            <a:r>
              <a:rPr b="1" lang="en-GB" sz="1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 and d</a:t>
            </a:r>
            <a:r>
              <a:rPr b="1" lang="en-GB" sz="1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 to forecast rate as a function of time,...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464000" y="0"/>
            <a:ext cx="452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спользование правильных уравнений для прогнозирова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333440" y="1386000"/>
            <a:ext cx="677232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онентный прогноз по дебиту относительно времен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105440" y="2946240"/>
            <a:ext cx="2990520" cy="459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457200"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гновенный дебит по стандартной форме уравнения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448240" y="5524560"/>
            <a:ext cx="310536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енные интервал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rot="16200000">
            <a:off x="18720" y="4389840"/>
            <a:ext cx="128592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би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52280" y="6129360"/>
            <a:ext cx="8796600" cy="35676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Разработчик использует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 q</a:t>
            </a:r>
            <a:r>
              <a:rPr b="1" lang="en-GB" sz="16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 d</a:t>
            </a:r>
            <a:r>
              <a:rPr b="1" lang="en-GB" sz="16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для прогнозирования дебита как функции времени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...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0" y="0"/>
            <a:ext cx="389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ing the correct equations for foreca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23840" y="5700600"/>
            <a:ext cx="8796240" cy="4230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...he then calculates his N</a:t>
            </a:r>
            <a:r>
              <a:rPr b="1" lang="en-GB" sz="2000" spc="-1" strike="noStrike" baseline="-25000">
                <a:solidFill>
                  <a:srgbClr val="0000ff"/>
                </a:solidFill>
                <a:latin typeface="Arial"/>
              </a:rPr>
              <a:t>p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 from this rate profile.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4" name="" descr=""/>
          <p:cNvPicPr/>
          <p:nvPr/>
        </p:nvPicPr>
        <p:blipFill>
          <a:blip r:embed="rId1"/>
          <a:stretch/>
        </p:blipFill>
        <p:spPr>
          <a:xfrm>
            <a:off x="146160" y="681120"/>
            <a:ext cx="8664480" cy="5145120"/>
          </a:xfrm>
          <a:prstGeom prst="rect">
            <a:avLst/>
          </a:prstGeom>
          <a:ln w="0">
            <a:noFill/>
          </a:ln>
        </p:spPr>
      </p:pic>
      <p:sp>
        <p:nvSpPr>
          <p:cNvPr id="1035" name=""/>
          <p:cNvSpPr/>
          <p:nvPr/>
        </p:nvSpPr>
        <p:spPr>
          <a:xfrm>
            <a:off x="4397400" y="0"/>
            <a:ext cx="459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спользование правильных уравнений для прогнозирова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266840" y="1214280"/>
            <a:ext cx="677232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онентный прогноз по дебиту относительно времен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381640" y="5372280"/>
            <a:ext cx="310500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енные интервал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rot="16200000">
            <a:off x="-181080" y="4399200"/>
            <a:ext cx="128592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би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23840" y="6053040"/>
            <a:ext cx="8796240" cy="4230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..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тем он рассчитывает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lang="en-GB" sz="2000" spc="-1" strike="noStrike" baseline="-25000">
                <a:solidFill>
                  <a:srgbClr val="0000ff"/>
                </a:solidFill>
                <a:latin typeface="Arial"/>
              </a:rPr>
              <a:t>p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 профилю дебита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838760" y="3548160"/>
            <a:ext cx="2943000" cy="459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.. по которому рассчитываются эти кривы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2" name="" descr=""/>
          <p:cNvPicPr/>
          <p:nvPr/>
        </p:nvPicPr>
        <p:blipFill>
          <a:blip r:embed="rId1"/>
          <a:stretch/>
        </p:blipFill>
        <p:spPr>
          <a:xfrm>
            <a:off x="314280" y="652320"/>
            <a:ext cx="8496360" cy="5148360"/>
          </a:xfrm>
          <a:prstGeom prst="rect">
            <a:avLst/>
          </a:prstGeom>
          <a:ln w="0">
            <a:noFill/>
          </a:ln>
        </p:spPr>
      </p:pic>
      <p:sp>
        <p:nvSpPr>
          <p:cNvPr id="1043" name=""/>
          <p:cNvSpPr/>
          <p:nvPr/>
        </p:nvSpPr>
        <p:spPr>
          <a:xfrm>
            <a:off x="5419800" y="5362560"/>
            <a:ext cx="310500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енные интервал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0" y="0"/>
            <a:ext cx="389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ing the correct equations for foreca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397400" y="0"/>
            <a:ext cx="459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спользование правильных уравнений для прогнозирова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343160" y="1224000"/>
            <a:ext cx="668628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онентный прогноз по дебиту относительно времен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rot="16200000">
            <a:off x="18720" y="4389840"/>
            <a:ext cx="128592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би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838760" y="2303640"/>
            <a:ext cx="2714400" cy="459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..где имеется в виду использование этого профил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23840" y="5986440"/>
            <a:ext cx="8796240" cy="5562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еверное предположение о том, что средний дебит по интервалу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дебиту в начале интервала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33200" y="5624640"/>
            <a:ext cx="8796600" cy="35424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Incorrect assumption that average rate for interval = rate at start of interval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2" name="" descr=""/>
          <p:cNvPicPr/>
          <p:nvPr/>
        </p:nvPicPr>
        <p:blipFill>
          <a:blip r:embed="rId1"/>
          <a:stretch/>
        </p:blipFill>
        <p:spPr>
          <a:xfrm>
            <a:off x="324000" y="662040"/>
            <a:ext cx="8496000" cy="5148360"/>
          </a:xfrm>
          <a:prstGeom prst="rect">
            <a:avLst/>
          </a:prstGeom>
          <a:ln w="0">
            <a:noFill/>
          </a:ln>
        </p:spPr>
      </p:pic>
      <p:sp>
        <p:nvSpPr>
          <p:cNvPr id="1053" name=""/>
          <p:cNvSpPr/>
          <p:nvPr/>
        </p:nvSpPr>
        <p:spPr>
          <a:xfrm>
            <a:off x="5448240" y="5410080"/>
            <a:ext cx="310536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енные интервал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0" y="0"/>
            <a:ext cx="389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ing the correct equations for foreca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397400" y="0"/>
            <a:ext cx="459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спользование правильных уравнений для прогнозирова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343160" y="1300320"/>
            <a:ext cx="669600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онентный прогноз по дебиту относительно времен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rot="16200000">
            <a:off x="18720" y="4389840"/>
            <a:ext cx="128592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би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23840" y="5710320"/>
            <a:ext cx="879624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The average rate for the interval is non-trivial as decline is non-linear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23840" y="6062760"/>
            <a:ext cx="8796240" cy="5562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редний дебит по интервалу является нетривиальным, тогда как спад является нелинейны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886280" y="3429000"/>
            <a:ext cx="2438280" cy="58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.. в то время как правильный профиль – вот этот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90440" y="5767560"/>
            <a:ext cx="879624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20%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 error in this case!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1"/>
          <a:stretch/>
        </p:blipFill>
        <p:spPr>
          <a:xfrm>
            <a:off x="324000" y="766800"/>
            <a:ext cx="8496000" cy="5148360"/>
          </a:xfrm>
          <a:prstGeom prst="rect">
            <a:avLst/>
          </a:prstGeom>
          <a:ln w="0">
            <a:noFill/>
          </a:ln>
        </p:spPr>
      </p:pic>
      <p:sp>
        <p:nvSpPr>
          <p:cNvPr id="1064" name=""/>
          <p:cNvSpPr/>
          <p:nvPr/>
        </p:nvSpPr>
        <p:spPr>
          <a:xfrm>
            <a:off x="5467320" y="5448240"/>
            <a:ext cx="310536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енные интервал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0" y="0"/>
            <a:ext cx="389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ing the correct equations for foreca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397400" y="0"/>
            <a:ext cx="459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спользование правильных уравнений для прогнозирова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333440" y="1319040"/>
            <a:ext cx="670572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онентный прогноз по дебиту относительно времен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rot="16200000">
            <a:off x="18720" y="4389840"/>
            <a:ext cx="128592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би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71360" y="6129360"/>
            <a:ext cx="879660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20%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неточности с данном случае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!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238720" y="3705120"/>
            <a:ext cx="2552760" cy="58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..рассчитанный по интегральной форме уравнений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92160" y="15840"/>
            <a:ext cx="8958240" cy="9604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0" y="0"/>
            <a:ext cx="466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Using the correct equations for forecas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0" y="1308240"/>
            <a:ext cx="4329000" cy="480348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The solu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Use the integral form of the equations to calculate the cumulative production at the start and end of each time interv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Calculate the average rate for the interval (precisely!) from the cumula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Use the conventional form to calculate the rate at any specific tim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preadsheets are particularly prone to this err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568760" y="0"/>
            <a:ext cx="434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Использование правильных уравнений для прогнозирования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00720" y="1317600"/>
            <a:ext cx="4643280" cy="50778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шение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пользовать интегральную форму уравнений для расчёта накопленной добыче в начале и конце каждого временного интервал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считывать средний дебит для интервала (точно!) по накопленном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пользовать стандартную форму для расчёта дебита в любое конкретное врем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акие ошибки чаще встречаются в таблиц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0" y="0"/>
            <a:ext cx="371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ccommodating downtime in your foreca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87360" y="1036800"/>
            <a:ext cx="3556080" cy="512604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The probl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Wells do not all flow 24 hours a day, seven days a week.  This causes difficulties for DC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The dilemm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using </a:t>
            </a:r>
            <a:r>
              <a:rPr b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calendar day (monthly average) rates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 avoids downtime problems but causes real trends to be mask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using </a:t>
            </a:r>
            <a:r>
              <a:rPr b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producing day (instantaneous) rates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 gives great trends but downtime must be incorporated into the forecasts correct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210200" y="177840"/>
            <a:ext cx="46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чёт времени простоя в прогноза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584600" y="1050840"/>
            <a:ext cx="4167360" cy="50778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шение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пользовать интегральную форму уравнений для расчёта накопленной добыче в начале и конце каждого временного интервал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считывать средний дебит для интервала (точно!) по накопленном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пользовать стандартную форму для расчёта дебита в любое конкретное врем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акие ошибки чаще встречаются в таблиц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92160" y="15840"/>
            <a:ext cx="8958240" cy="1046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30320" y="0"/>
            <a:ext cx="88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ccommodating downtime in your foreca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50920" y="1197000"/>
            <a:ext cx="39132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xample is of a well in a field in a hostile environment with an FPSO and dedicated tanker that detaches for offloading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41280" y="3638520"/>
            <a:ext cx="36417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downtime during offlo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extreme winter down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periodic well down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30320" y="453960"/>
            <a:ext cx="88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Учёт времени простоя в прогноза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476600" y="1197000"/>
            <a:ext cx="4543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мер по скважине на месторождении с неблагоприятными условиями с плавучей системой добычи, хранении и отгрузки нефти и с приписанным танкером для отгруз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380200" y="3666960"/>
            <a:ext cx="31366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Время простоя во время отгруз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Зимние просто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Периодические простои скважин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8" name="" descr=""/>
          <p:cNvPicPr/>
          <p:nvPr/>
        </p:nvPicPr>
        <p:blipFill>
          <a:blip r:embed="rId1"/>
          <a:stretch/>
        </p:blipFill>
        <p:spPr>
          <a:xfrm>
            <a:off x="228600" y="689040"/>
            <a:ext cx="8569440" cy="5219640"/>
          </a:xfrm>
          <a:prstGeom prst="rect">
            <a:avLst/>
          </a:prstGeom>
          <a:ln w="0">
            <a:noFill/>
          </a:ln>
        </p:spPr>
      </p:pic>
      <p:sp>
        <p:nvSpPr>
          <p:cNvPr id="1089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39680" y="0"/>
            <a:ext cx="38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ccommodating downtime in your foreca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42920" y="5738760"/>
            <a:ext cx="879624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The well’s calendar day rates are affected by excessive downtime...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651640" y="1557360"/>
            <a:ext cx="219384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 clear trend in calendar day r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14480" y="6076800"/>
            <a:ext cx="8796240" cy="64368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дебиты по скважине по календарным дням влияет чрезмерное время простоя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...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343160" y="1257480"/>
            <a:ext cx="638172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биты по календарным дням (в среднем по месяцу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937040" y="2548080"/>
            <a:ext cx="2870280" cy="916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 явных трендов в дебитах по календарным дня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133960" y="5495760"/>
            <a:ext cx="184788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яц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rot="16200000">
            <a:off x="-212760" y="4433760"/>
            <a:ext cx="1409760" cy="21564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би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187960" y="0"/>
            <a:ext cx="348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чёт времени простоя в прогноза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" descr=""/>
          <p:cNvPicPr/>
          <p:nvPr/>
        </p:nvPicPr>
        <p:blipFill>
          <a:blip r:embed="rId1"/>
          <a:stretch/>
        </p:blipFill>
        <p:spPr>
          <a:xfrm>
            <a:off x="324000" y="679320"/>
            <a:ext cx="8569080" cy="5216760"/>
          </a:xfrm>
          <a:prstGeom prst="rect">
            <a:avLst/>
          </a:prstGeom>
          <a:ln w="0">
            <a:noFill/>
          </a:ln>
        </p:spPr>
      </p:pic>
      <p:sp>
        <p:nvSpPr>
          <p:cNvPr id="1100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33200" y="5834160"/>
            <a:ext cx="879660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...making DCA very difficult indeed!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889440" y="1557360"/>
            <a:ext cx="219384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 reliable trend analysis pos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084720" y="3933720"/>
            <a:ext cx="0" cy="1150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380360" y="3933720"/>
            <a:ext cx="0" cy="1150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rot="16200000">
            <a:off x="6588720" y="3140640"/>
            <a:ext cx="287280" cy="1295640"/>
          </a:xfrm>
          <a:custGeom>
            <a:avLst/>
            <a:gdLst>
              <a:gd name="textAreaLeft" fmla="*/ 0 w 287280"/>
              <a:gd name="textAreaRight" fmla="*/ 103680 w 287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372360" y="2276640"/>
            <a:ext cx="10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39680" y="0"/>
            <a:ext cx="38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ccommodating downtime in your foreca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187960" y="0"/>
            <a:ext cx="348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чёт времени простоя в прогноза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343160" y="1181160"/>
            <a:ext cx="638172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биты по календарным дням (в среднем по месяцу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rot="16200000">
            <a:off x="-79200" y="4491000"/>
            <a:ext cx="1409760" cy="21564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би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743440" y="5505480"/>
            <a:ext cx="184788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яц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175440" y="1547640"/>
            <a:ext cx="2193840" cy="916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озможен надёжный анализ тренд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33200" y="6262560"/>
            <a:ext cx="879660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..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оторое очень серьёзно затрудняет проведение АПД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!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7840" y="0"/>
            <a:ext cx="403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Numerical simulation from first principles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867000" y="1820520"/>
            <a:ext cx="2032200" cy="427212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62080" y="1841400"/>
            <a:ext cx="2001600" cy="426240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84160" y="4325760"/>
            <a:ext cx="7461360" cy="955800"/>
          </a:xfrm>
          <a:prstGeom prst="rect">
            <a:avLst/>
          </a:prstGeom>
          <a:solidFill>
            <a:srgbClr val="85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2.  The governing equ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199800">
              <a:lnSpc>
                <a:spcPct val="100000"/>
              </a:lnSpc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arcy’s law, the fluid flow differential equ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8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2.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пределяющие уравне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1998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 закон Дарси, дифференциальные уравнения потока флюид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57200" y="3137040"/>
            <a:ext cx="6459480" cy="1047600"/>
          </a:xfrm>
          <a:prstGeom prst="rect">
            <a:avLst/>
          </a:prstGeom>
          <a:solidFill>
            <a:srgbClr val="b7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3.  Description of the physical doma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199800">
              <a:lnSpc>
                <a:spcPct val="100000"/>
              </a:lnSpc>
              <a:buClr>
                <a:srgbClr val="ff0000"/>
              </a:buClr>
              <a:buFont typeface="Arial"/>
              <a:buChar char="-"/>
              <a:tabLst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sophisticated static and dynamic mode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3.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писание физической обла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1998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   сложные статические и динамические модел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59040" y="1960560"/>
            <a:ext cx="5376960" cy="986400"/>
          </a:xfrm>
          <a:prstGeom prst="rect">
            <a:avLst/>
          </a:prstGeom>
          <a:solidFill>
            <a:srgbClr val="d1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4.  A numerical solution metho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199800">
              <a:lnSpc>
                <a:spcPct val="100000"/>
              </a:lnSpc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sophisticated numerical simul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4.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Метод численного реше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1998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  сложное численное моделировани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57560" y="803160"/>
            <a:ext cx="4630680" cy="986040"/>
          </a:xfrm>
          <a:prstGeom prst="rect">
            <a:avLst/>
          </a:prstGeom>
          <a:solidFill>
            <a:srgbClr val="e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5. 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Solve and make forecas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199800">
              <a:lnSpc>
                <a:spcPct val="100000"/>
              </a:lnSpc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history match and forec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5.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Решение и прогно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1998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  адаптация и прогно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894800" y="5138640"/>
            <a:ext cx="28872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56520" y="4043520"/>
            <a:ext cx="288720" cy="285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27960" y="2854440"/>
            <a:ext cx="288720" cy="285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440" y="1692360"/>
            <a:ext cx="28872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4440" y="5427720"/>
            <a:ext cx="8674200" cy="1047600"/>
          </a:xfrm>
          <a:prstGeom prst="rect">
            <a:avLst/>
          </a:prstGeom>
          <a:solidFill>
            <a:srgbClr val="00f8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1.  The laws of the physical worl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890640">
              <a:lnSpc>
                <a:spcPct val="100000"/>
              </a:lnSpc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mass balance and conservation la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1.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Законы материального мир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8906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вновесие масс и законы сохране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47680" y="1155600"/>
            <a:ext cx="2001960" cy="426240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6888240" y="1155240"/>
            <a:ext cx="2031840" cy="427212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05440" y="0"/>
            <a:ext cx="503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исленное моделирование по основным принципам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48080" y="1670040"/>
            <a:ext cx="28872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90880" y="2841480"/>
            <a:ext cx="288720" cy="287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85800" y="4049640"/>
            <a:ext cx="289080" cy="285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90440" y="5192640"/>
            <a:ext cx="289080" cy="285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569080" cy="5222880"/>
          </a:xfrm>
          <a:prstGeom prst="rect">
            <a:avLst/>
          </a:prstGeom>
          <a:ln w="0">
            <a:noFill/>
          </a:ln>
        </p:spPr>
      </p:pic>
      <p:sp>
        <p:nvSpPr>
          <p:cNvPr id="1115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23840" y="5834160"/>
            <a:ext cx="8796240" cy="35424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owever, producing day (instantaneous) rates look better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068880" y="2979720"/>
            <a:ext cx="22305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producing day r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00"/>
                </a:solidFill>
                <a:latin typeface="Arial"/>
              </a:rPr>
              <a:t>calendar day r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668680" y="1643040"/>
            <a:ext cx="2841480" cy="58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ing day rates reflect reservoir respon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39680" y="0"/>
            <a:ext cx="38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ccommodating downtime in your foreca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187960" y="0"/>
            <a:ext cx="348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чёт времени простоя в прогноза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343160" y="1257480"/>
            <a:ext cx="638172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биты по календарным дням (в среднем по месяцу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rot="16200000">
            <a:off x="-69480" y="4586040"/>
            <a:ext cx="1409400" cy="21564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би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381640" y="5572080"/>
            <a:ext cx="184788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яц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697360" y="1576440"/>
            <a:ext cx="2556000" cy="824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биты по дню добычи отражают данные по коллектору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316480" y="3665520"/>
            <a:ext cx="29448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ебиты по дню добыч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дебиты по календарному дню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42920" y="6215040"/>
            <a:ext cx="8796240" cy="35424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ко, дебиты по дню добычи (мнговенные) выглядят лучше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" descr=""/>
          <p:cNvPicPr/>
          <p:nvPr/>
        </p:nvPicPr>
        <p:blipFill>
          <a:blip r:embed="rId1"/>
          <a:stretch/>
        </p:blipFill>
        <p:spPr>
          <a:xfrm>
            <a:off x="277920" y="758880"/>
            <a:ext cx="8572320" cy="5229000"/>
          </a:xfrm>
          <a:prstGeom prst="rect">
            <a:avLst/>
          </a:prstGeom>
          <a:ln w="0">
            <a:noFill/>
          </a:ln>
        </p:spPr>
      </p:pic>
      <p:sp>
        <p:nvSpPr>
          <p:cNvPr id="1128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3840" y="5856120"/>
            <a:ext cx="8796240" cy="35424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...and DCA using producing day rates with modified equations is easy!..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259080" y="1719360"/>
            <a:ext cx="2498760" cy="58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CA using producing day rates looks reli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857920" y="2514600"/>
            <a:ext cx="2481120" cy="100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THE RELATIONSHIP BETWEEN PRODUCING DAY RATE AND CUMULATIVE PRODUCTION IS NOT OBVIO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39680" y="0"/>
            <a:ext cx="38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ccommodating downtime in your foreca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187960" y="0"/>
            <a:ext cx="348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чёт времени простоя в прогноза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343160" y="1314360"/>
            <a:ext cx="703872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биты по календарным дням (в среднем по месяцу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rot="16200000">
            <a:off x="-117360" y="4653000"/>
            <a:ext cx="1409760" cy="21564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би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745240" y="1566720"/>
            <a:ext cx="2574720" cy="733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ПД с использованием дебитов по дням добычи выглядит надёжны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334200" y="3533760"/>
            <a:ext cx="19954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Зависимость между дебитом по дню добычи и накопленной добычей неочевид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23840" y="6276960"/>
            <a:ext cx="8796240" cy="5562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...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 АПД с использованием дебитов по дням добычи с модифицированными уравнениями лёгок в проведении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!..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" descr=""/>
          <p:cNvPicPr/>
          <p:nvPr/>
        </p:nvPicPr>
        <p:blipFill>
          <a:blip r:embed="rId1"/>
          <a:stretch/>
        </p:blipFill>
        <p:spPr>
          <a:xfrm>
            <a:off x="287280" y="704880"/>
            <a:ext cx="8575560" cy="5234040"/>
          </a:xfrm>
          <a:prstGeom prst="rect">
            <a:avLst/>
          </a:prstGeom>
          <a:ln w="0">
            <a:noFill/>
          </a:ln>
        </p:spPr>
      </p:pic>
      <p:sp>
        <p:nvSpPr>
          <p:cNvPr id="1140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23840" y="5811840"/>
            <a:ext cx="8897760" cy="29628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....giving consistent forecasts of producing and calendar day rates, and cumulative production...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030400" y="1557360"/>
            <a:ext cx="230832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producing day r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calendar day r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umulative produ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903920" y="3228840"/>
            <a:ext cx="27367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dots and squares are real data, lines are forecas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39680" y="0"/>
            <a:ext cx="38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ccommodating downtime in your foreca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187960" y="0"/>
            <a:ext cx="348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чёт времени простоя в прогноза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343160" y="1257480"/>
            <a:ext cx="638172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биты по календарным дням (в среднем по месяцу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rot="16200000">
            <a:off x="-88920" y="4633920"/>
            <a:ext cx="1409760" cy="21564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би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343480" y="5543640"/>
            <a:ext cx="184788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яц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30680" y="1566720"/>
            <a:ext cx="303228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ебиты по дням добыч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дебиты по календарным дня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копленная добыч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856040" y="3848040"/>
            <a:ext cx="27370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точки и кружки – реальные данные. Линии – прогноз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23840" y="6192720"/>
            <a:ext cx="8897760" cy="4986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....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с предоставлением последовательных прогнозов по дебитам календарных дней и дней добычи и по накопленной добыч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"/>
          <p:cNvSpPr/>
          <p:nvPr/>
        </p:nvSpPr>
        <p:spPr>
          <a:xfrm>
            <a:off x="92160" y="15840"/>
            <a:ext cx="8958240" cy="108432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39680" y="139680"/>
            <a:ext cx="88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ccommodating downtime in your foreca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22120" y="1339920"/>
            <a:ext cx="3986280" cy="231156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The solu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Use producing day rates to establish a reliable tr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Use the integral form of the equation, with an uptime modif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5" name="" descr=""/>
          <p:cNvPicPr/>
          <p:nvPr/>
        </p:nvPicPr>
        <p:blipFill>
          <a:blip r:embed="rId1"/>
          <a:stretch/>
        </p:blipFill>
        <p:spPr>
          <a:xfrm>
            <a:off x="1290600" y="3978360"/>
            <a:ext cx="6391440" cy="210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56" name=""/>
          <p:cNvSpPr/>
          <p:nvPr/>
        </p:nvSpPr>
        <p:spPr>
          <a:xfrm>
            <a:off x="5295960" y="4203720"/>
            <a:ext cx="358560" cy="576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49400" y="549360"/>
            <a:ext cx="88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ёт времени простоя в прогноза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727520" y="1149480"/>
            <a:ext cx="4262400" cy="259596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шение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спользовать дебиты по дням добычи для получения надёжных тренд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спользовать интегральную форму уравнения с модификатором полезного рабочего времен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1861200" y="5500800"/>
            <a:ext cx="5599080" cy="145080"/>
            <a:chOff x="1861200" y="5500800"/>
            <a:chExt cx="5599080" cy="145080"/>
          </a:xfrm>
        </p:grpSpPr>
        <p:sp>
          <p:nvSpPr>
            <p:cNvPr id="1160" name=""/>
            <p:cNvSpPr/>
            <p:nvPr/>
          </p:nvSpPr>
          <p:spPr>
            <a:xfrm>
              <a:off x="6027120" y="5500800"/>
              <a:ext cx="1433160" cy="1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188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190840" y="5500800"/>
              <a:ext cx="2232000" cy="1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188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времени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141160" y="5500800"/>
              <a:ext cx="1433160" cy="1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188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128120" y="5500800"/>
              <a:ext cx="2413080" cy="1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188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полезного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075920" y="5500800"/>
              <a:ext cx="1433160" cy="1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188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371400" y="5500800"/>
              <a:ext cx="2097720" cy="1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188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фактор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321720" y="5500800"/>
              <a:ext cx="1433160" cy="1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188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044160" y="5500800"/>
              <a:ext cx="1663560" cy="1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188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ый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861200" y="5500800"/>
              <a:ext cx="2593080" cy="1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457200">
                <a:lnSpc>
                  <a:spcPct val="50000"/>
                </a:lnSpc>
                <a:spcBef>
                  <a:spcPts val="1188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кумулятивн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700200" y="5276880"/>
            <a:ext cx="192564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д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/>
          <p:nvPr/>
        </p:nvSpPr>
        <p:spPr>
          <a:xfrm>
            <a:off x="92160" y="15840"/>
            <a:ext cx="8958240" cy="134136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30320" y="149400"/>
            <a:ext cx="88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hoosing the historical interval for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84040" y="679320"/>
            <a:ext cx="88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ыбор временного интервала для анали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579840" y="3279600"/>
            <a:ext cx="5378400" cy="26712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блема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едостаток данных по истории является причиной неопределённости в параметрах спа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50840" y="1479600"/>
            <a:ext cx="4987800" cy="22446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 proble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Insufficient history causes uncertainty in the decline parame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" descr=""/>
          <p:cNvPicPr/>
          <p:nvPr/>
        </p:nvPicPr>
        <p:blipFill>
          <a:blip r:embed="rId1"/>
          <a:stretch/>
        </p:blipFill>
        <p:spPr>
          <a:xfrm>
            <a:off x="324000" y="763560"/>
            <a:ext cx="8496000" cy="5154480"/>
          </a:xfrm>
          <a:prstGeom prst="rect">
            <a:avLst/>
          </a:prstGeom>
          <a:ln w="0">
            <a:noFill/>
          </a:ln>
        </p:spPr>
      </p:pic>
      <p:sp>
        <p:nvSpPr>
          <p:cNvPr id="1176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23840" y="5796000"/>
            <a:ext cx="879624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A forecast is being made with the benefit of nine years of data.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rot="16200000">
            <a:off x="2439000" y="3690000"/>
            <a:ext cx="255600" cy="2447640"/>
          </a:xfrm>
          <a:custGeom>
            <a:avLst/>
            <a:gdLst>
              <a:gd name="textAreaLeft" fmla="*/ 0 w 255600"/>
              <a:gd name="textAreaRight" fmla="*/ 92160 w 255600"/>
              <a:gd name="textAreaTop" fmla="*/ 63720 h 2447640"/>
              <a:gd name="textAreaBottom" fmla="*/ 238392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789360" y="3213000"/>
            <a:ext cx="0" cy="18003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789200" y="4197240"/>
            <a:ext cx="164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Period of active develop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422520" y="1430280"/>
            <a:ext cx="4938840" cy="307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te vs. time on linear ax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0" y="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hoosing the historical interval for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521240" y="0"/>
            <a:ext cx="45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бор временного интервала для анали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23840" y="6253200"/>
            <a:ext cx="879624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лается прогноз по наличию данных девятилетней истор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779480" y="3616200"/>
            <a:ext cx="176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ериод активной разработк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022640" y="1887480"/>
            <a:ext cx="4110120" cy="520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бит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сравнении с временем на линейных осях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847880" y="988920"/>
            <a:ext cx="5724360" cy="24624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irst 9 years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ые девять л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514840" y="5541840"/>
            <a:ext cx="145764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9" name="" descr=""/>
          <p:cNvPicPr/>
          <p:nvPr/>
        </p:nvPicPr>
        <p:blipFill>
          <a:blip r:embed="rId1"/>
          <a:stretch/>
        </p:blipFill>
        <p:spPr>
          <a:xfrm>
            <a:off x="324000" y="758880"/>
            <a:ext cx="8496000" cy="5165640"/>
          </a:xfrm>
          <a:prstGeom prst="rect">
            <a:avLst/>
          </a:prstGeom>
          <a:ln w="0">
            <a:noFill/>
          </a:ln>
        </p:spPr>
      </p:pic>
      <p:sp>
        <p:nvSpPr>
          <p:cNvPr id="1190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23840" y="5824440"/>
            <a:ext cx="879624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A very convincing exponential decline is identified...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525920" y="2270160"/>
            <a:ext cx="164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imes New Roman"/>
              </a:rPr>
              <a:t>Historical interval for trend 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rot="16200000">
            <a:off x="5191920" y="2640600"/>
            <a:ext cx="255600" cy="517680"/>
          </a:xfrm>
          <a:custGeom>
            <a:avLst/>
            <a:gdLst>
              <a:gd name="textAreaLeft" fmla="*/ 0 w 255600"/>
              <a:gd name="textAreaRight" fmla="*/ 92160 w 255600"/>
              <a:gd name="textAreaTop" fmla="*/ 13320 h 517680"/>
              <a:gd name="textAreaBottom" fmla="*/ 504360 h 51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060880" y="3083040"/>
            <a:ext cx="0" cy="19206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583240" y="3102120"/>
            <a:ext cx="0" cy="191124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667400" y="2868480"/>
            <a:ext cx="677880" cy="102420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273560" y="2622600"/>
            <a:ext cx="677880" cy="102384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573360" y="2141640"/>
            <a:ext cx="677880" cy="102384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973240" y="1766880"/>
            <a:ext cx="677880" cy="102384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322360" y="1693800"/>
            <a:ext cx="677880" cy="102384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011320" y="3106800"/>
            <a:ext cx="2127240" cy="736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Exponential decline rate of 29% p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EUR = 17.1 MMst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080040" y="3262320"/>
            <a:ext cx="2241720" cy="641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Straight line of Qo vs. Np plot with linear axes =&gt; exponential dec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411360" y="1430280"/>
            <a:ext cx="4950000" cy="307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te vs. cumulative production on linear ax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0" y="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hoosing the historical interval for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521240" y="0"/>
            <a:ext cx="45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бор временного интервала для анали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47880" y="988920"/>
            <a:ext cx="5724360" cy="24624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irst 9 years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ые девять л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516560" y="1744560"/>
            <a:ext cx="3835440" cy="459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ремя по сравнению с накопленной добычей на линейных ося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326280" y="2279520"/>
            <a:ext cx="184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Интервал времени для анализа тренд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060960" y="3967200"/>
            <a:ext cx="2260800" cy="824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рямая линия на графике дебита и накопленной добычи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 =&gt;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экспоненциальный спа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859040" y="3859200"/>
            <a:ext cx="2517840" cy="1101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корость экспоненциального спада в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 29% p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онечные извлекаемые запасы 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= 17.1 MMst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0" y="6281640"/>
            <a:ext cx="902016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дентифицирован весьма убедительный экспоненциальный спад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...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42920" y="5881680"/>
            <a:ext cx="879624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...and a very convincing forecast is made...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4" name="" descr=""/>
          <p:cNvPicPr/>
          <p:nvPr/>
        </p:nvPicPr>
        <p:blipFill>
          <a:blip r:embed="rId1"/>
          <a:stretch/>
        </p:blipFill>
        <p:spPr>
          <a:xfrm>
            <a:off x="324000" y="758880"/>
            <a:ext cx="8496000" cy="5165640"/>
          </a:xfrm>
          <a:prstGeom prst="rect">
            <a:avLst/>
          </a:prstGeom>
          <a:ln w="0">
            <a:noFill/>
          </a:ln>
        </p:spPr>
      </p:pic>
      <p:sp>
        <p:nvSpPr>
          <p:cNvPr id="1215" name=""/>
          <p:cNvSpPr/>
          <p:nvPr/>
        </p:nvSpPr>
        <p:spPr>
          <a:xfrm>
            <a:off x="4376880" y="3170160"/>
            <a:ext cx="164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Exponential dec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5059440" y="3672000"/>
            <a:ext cx="738000" cy="798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411360" y="1430280"/>
            <a:ext cx="4950000" cy="307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te vs. time on linear ax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0" y="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hoosing the historical interval for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21240" y="0"/>
            <a:ext cx="45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бор временного интервала для анали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847880" y="988920"/>
            <a:ext cx="5724360" cy="24624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irst 9 years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ые девять л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33200" y="6300720"/>
            <a:ext cx="879660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..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сделан очень убедительный прогноз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...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919840" y="3198960"/>
            <a:ext cx="209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Экспоненциальный спад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477040" y="5570640"/>
            <a:ext cx="145728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446640" y="1808280"/>
            <a:ext cx="4949640" cy="307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бит и время на линейных осях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19240" y="5862600"/>
            <a:ext cx="879624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...but the reality is quite differen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7" name="" descr=""/>
          <p:cNvPicPr/>
          <p:nvPr/>
        </p:nvPicPr>
        <p:blipFill>
          <a:blip r:embed="rId1"/>
          <a:stretch/>
        </p:blipFill>
        <p:spPr>
          <a:xfrm>
            <a:off x="324000" y="754200"/>
            <a:ext cx="8496000" cy="5173560"/>
          </a:xfrm>
          <a:prstGeom prst="rect">
            <a:avLst/>
          </a:prstGeom>
          <a:ln w="0">
            <a:noFill/>
          </a:ln>
        </p:spPr>
      </p:pic>
      <p:sp>
        <p:nvSpPr>
          <p:cNvPr id="1228" name=""/>
          <p:cNvSpPr/>
          <p:nvPr/>
        </p:nvSpPr>
        <p:spPr>
          <a:xfrm>
            <a:off x="4010040" y="2716200"/>
            <a:ext cx="164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Exponential decline forec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970600" y="360828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>
            <a:off x="7056000" y="3819600"/>
            <a:ext cx="181080" cy="77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>
            <a:off x="5049360" y="3294000"/>
            <a:ext cx="567000" cy="1236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411360" y="1430280"/>
            <a:ext cx="4950000" cy="307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te vs. time on linear ax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0" y="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hoosing the historical interval for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521240" y="0"/>
            <a:ext cx="45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бор временного интервала для анали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800360" y="979560"/>
            <a:ext cx="5724360" cy="24624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next 11 years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ледующи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л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514840" y="5570640"/>
            <a:ext cx="145764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19240" y="6224760"/>
            <a:ext cx="879624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..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о действительность выглядит совсем по-другому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657760" y="2735280"/>
            <a:ext cx="1952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гноз экспоненциального спад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018200" y="3608280"/>
            <a:ext cx="164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альност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427560" y="1817640"/>
            <a:ext cx="4949640" cy="307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бит и время на линейных осях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95120" y="5853240"/>
            <a:ext cx="879660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o what went wrong?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3" name="" descr=""/>
          <p:cNvPicPr/>
          <p:nvPr/>
        </p:nvPicPr>
        <p:blipFill>
          <a:blip r:embed="rId1"/>
          <a:stretch/>
        </p:blipFill>
        <p:spPr>
          <a:xfrm>
            <a:off x="324000" y="754200"/>
            <a:ext cx="8496000" cy="517356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5969160" y="2651040"/>
            <a:ext cx="2288880" cy="733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Straight line of Qo vs. Np plot with linear axes no longer convincing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411360" y="1430280"/>
            <a:ext cx="4950000" cy="307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te vs. cumulative production on linear ax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0" y="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hoosing the historical interval for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521240" y="0"/>
            <a:ext cx="45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бор временного интервала для анали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800360" y="979560"/>
            <a:ext cx="5724360" cy="24624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next 11 years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ледующи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л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71360" y="6310440"/>
            <a:ext cx="879660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Что же пошло не так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397560" y="3479760"/>
            <a:ext cx="1832040" cy="946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ямая линия на графике дебита и добычи уже не так убедительна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713040" y="1798560"/>
            <a:ext cx="4692600" cy="307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бит и накопленная добыча на линейных осях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16080" y="450720"/>
            <a:ext cx="1373040" cy="746280"/>
          </a:xfrm>
          <a:custGeom>
            <a:avLst/>
            <a:gdLst/>
            <a:ahLst/>
            <a:rect l="l" t="t" r="r" b="b"/>
            <a:pathLst>
              <a:path w="807" h="429">
                <a:moveTo>
                  <a:pt x="70" y="105"/>
                </a:moveTo>
                <a:lnTo>
                  <a:pt x="0" y="276"/>
                </a:lnTo>
                <a:lnTo>
                  <a:pt x="0" y="276"/>
                </a:lnTo>
                <a:lnTo>
                  <a:pt x="9" y="276"/>
                </a:lnTo>
                <a:lnTo>
                  <a:pt x="15" y="279"/>
                </a:lnTo>
                <a:lnTo>
                  <a:pt x="27" y="284"/>
                </a:lnTo>
                <a:lnTo>
                  <a:pt x="30" y="284"/>
                </a:lnTo>
                <a:lnTo>
                  <a:pt x="39" y="287"/>
                </a:lnTo>
                <a:lnTo>
                  <a:pt x="46" y="287"/>
                </a:lnTo>
                <a:lnTo>
                  <a:pt x="52" y="290"/>
                </a:lnTo>
                <a:lnTo>
                  <a:pt x="61" y="293"/>
                </a:lnTo>
                <a:lnTo>
                  <a:pt x="70" y="296"/>
                </a:lnTo>
                <a:lnTo>
                  <a:pt x="76" y="296"/>
                </a:lnTo>
                <a:lnTo>
                  <a:pt x="89" y="298"/>
                </a:lnTo>
                <a:lnTo>
                  <a:pt x="98" y="304"/>
                </a:lnTo>
                <a:lnTo>
                  <a:pt x="107" y="304"/>
                </a:lnTo>
                <a:lnTo>
                  <a:pt x="116" y="307"/>
                </a:lnTo>
                <a:lnTo>
                  <a:pt x="125" y="310"/>
                </a:lnTo>
                <a:lnTo>
                  <a:pt x="131" y="313"/>
                </a:lnTo>
                <a:lnTo>
                  <a:pt x="144" y="316"/>
                </a:lnTo>
                <a:lnTo>
                  <a:pt x="153" y="316"/>
                </a:lnTo>
                <a:lnTo>
                  <a:pt x="165" y="318"/>
                </a:lnTo>
                <a:lnTo>
                  <a:pt x="174" y="324"/>
                </a:lnTo>
                <a:lnTo>
                  <a:pt x="184" y="324"/>
                </a:lnTo>
                <a:lnTo>
                  <a:pt x="193" y="327"/>
                </a:lnTo>
                <a:lnTo>
                  <a:pt x="202" y="330"/>
                </a:lnTo>
                <a:lnTo>
                  <a:pt x="211" y="333"/>
                </a:lnTo>
                <a:lnTo>
                  <a:pt x="220" y="333"/>
                </a:lnTo>
                <a:lnTo>
                  <a:pt x="230" y="335"/>
                </a:lnTo>
                <a:lnTo>
                  <a:pt x="239" y="338"/>
                </a:lnTo>
                <a:lnTo>
                  <a:pt x="248" y="338"/>
                </a:lnTo>
                <a:lnTo>
                  <a:pt x="254" y="338"/>
                </a:lnTo>
                <a:lnTo>
                  <a:pt x="260" y="341"/>
                </a:lnTo>
                <a:lnTo>
                  <a:pt x="270" y="344"/>
                </a:lnTo>
                <a:lnTo>
                  <a:pt x="279" y="347"/>
                </a:lnTo>
                <a:lnTo>
                  <a:pt x="294" y="350"/>
                </a:lnTo>
                <a:lnTo>
                  <a:pt x="306" y="355"/>
                </a:lnTo>
                <a:lnTo>
                  <a:pt x="316" y="355"/>
                </a:lnTo>
                <a:lnTo>
                  <a:pt x="328" y="358"/>
                </a:lnTo>
                <a:lnTo>
                  <a:pt x="340" y="361"/>
                </a:lnTo>
                <a:lnTo>
                  <a:pt x="349" y="364"/>
                </a:lnTo>
                <a:lnTo>
                  <a:pt x="359" y="364"/>
                </a:lnTo>
                <a:lnTo>
                  <a:pt x="368" y="364"/>
                </a:lnTo>
                <a:lnTo>
                  <a:pt x="380" y="364"/>
                </a:lnTo>
                <a:lnTo>
                  <a:pt x="389" y="364"/>
                </a:lnTo>
                <a:lnTo>
                  <a:pt x="398" y="361"/>
                </a:lnTo>
                <a:lnTo>
                  <a:pt x="408" y="358"/>
                </a:lnTo>
                <a:lnTo>
                  <a:pt x="417" y="355"/>
                </a:lnTo>
                <a:lnTo>
                  <a:pt x="420" y="350"/>
                </a:lnTo>
                <a:lnTo>
                  <a:pt x="426" y="347"/>
                </a:lnTo>
                <a:lnTo>
                  <a:pt x="429" y="338"/>
                </a:lnTo>
                <a:lnTo>
                  <a:pt x="435" y="335"/>
                </a:lnTo>
                <a:lnTo>
                  <a:pt x="441" y="327"/>
                </a:lnTo>
                <a:lnTo>
                  <a:pt x="444" y="318"/>
                </a:lnTo>
                <a:lnTo>
                  <a:pt x="454" y="313"/>
                </a:lnTo>
                <a:lnTo>
                  <a:pt x="457" y="304"/>
                </a:lnTo>
                <a:lnTo>
                  <a:pt x="463" y="296"/>
                </a:lnTo>
                <a:lnTo>
                  <a:pt x="466" y="284"/>
                </a:lnTo>
                <a:lnTo>
                  <a:pt x="472" y="273"/>
                </a:lnTo>
                <a:lnTo>
                  <a:pt x="478" y="264"/>
                </a:lnTo>
                <a:lnTo>
                  <a:pt x="481" y="253"/>
                </a:lnTo>
                <a:lnTo>
                  <a:pt x="487" y="242"/>
                </a:lnTo>
                <a:lnTo>
                  <a:pt x="494" y="233"/>
                </a:lnTo>
                <a:lnTo>
                  <a:pt x="500" y="222"/>
                </a:lnTo>
                <a:lnTo>
                  <a:pt x="503" y="210"/>
                </a:lnTo>
                <a:lnTo>
                  <a:pt x="509" y="196"/>
                </a:lnTo>
                <a:lnTo>
                  <a:pt x="512" y="188"/>
                </a:lnTo>
                <a:lnTo>
                  <a:pt x="518" y="179"/>
                </a:lnTo>
                <a:lnTo>
                  <a:pt x="521" y="171"/>
                </a:lnTo>
                <a:lnTo>
                  <a:pt x="527" y="162"/>
                </a:lnTo>
                <a:lnTo>
                  <a:pt x="530" y="151"/>
                </a:lnTo>
                <a:lnTo>
                  <a:pt x="537" y="142"/>
                </a:lnTo>
                <a:lnTo>
                  <a:pt x="537" y="136"/>
                </a:lnTo>
                <a:lnTo>
                  <a:pt x="543" y="131"/>
                </a:lnTo>
                <a:lnTo>
                  <a:pt x="546" y="122"/>
                </a:lnTo>
                <a:lnTo>
                  <a:pt x="549" y="119"/>
                </a:lnTo>
                <a:lnTo>
                  <a:pt x="555" y="114"/>
                </a:lnTo>
                <a:lnTo>
                  <a:pt x="558" y="114"/>
                </a:lnTo>
                <a:lnTo>
                  <a:pt x="561" y="117"/>
                </a:lnTo>
                <a:lnTo>
                  <a:pt x="564" y="119"/>
                </a:lnTo>
                <a:lnTo>
                  <a:pt x="564" y="125"/>
                </a:lnTo>
                <a:lnTo>
                  <a:pt x="567" y="134"/>
                </a:lnTo>
                <a:lnTo>
                  <a:pt x="570" y="142"/>
                </a:lnTo>
                <a:lnTo>
                  <a:pt x="573" y="153"/>
                </a:lnTo>
                <a:lnTo>
                  <a:pt x="576" y="165"/>
                </a:lnTo>
                <a:lnTo>
                  <a:pt x="576" y="173"/>
                </a:lnTo>
                <a:lnTo>
                  <a:pt x="580" y="188"/>
                </a:lnTo>
                <a:lnTo>
                  <a:pt x="580" y="193"/>
                </a:lnTo>
                <a:lnTo>
                  <a:pt x="583" y="202"/>
                </a:lnTo>
                <a:lnTo>
                  <a:pt x="583" y="208"/>
                </a:lnTo>
                <a:lnTo>
                  <a:pt x="586" y="216"/>
                </a:lnTo>
                <a:lnTo>
                  <a:pt x="586" y="222"/>
                </a:lnTo>
                <a:lnTo>
                  <a:pt x="589" y="227"/>
                </a:lnTo>
                <a:lnTo>
                  <a:pt x="589" y="236"/>
                </a:lnTo>
                <a:lnTo>
                  <a:pt x="589" y="242"/>
                </a:lnTo>
                <a:lnTo>
                  <a:pt x="592" y="247"/>
                </a:lnTo>
                <a:lnTo>
                  <a:pt x="595" y="256"/>
                </a:lnTo>
                <a:lnTo>
                  <a:pt x="598" y="264"/>
                </a:lnTo>
                <a:lnTo>
                  <a:pt x="598" y="273"/>
                </a:lnTo>
                <a:lnTo>
                  <a:pt x="598" y="279"/>
                </a:lnTo>
                <a:lnTo>
                  <a:pt x="601" y="287"/>
                </a:lnTo>
                <a:lnTo>
                  <a:pt x="601" y="293"/>
                </a:lnTo>
                <a:lnTo>
                  <a:pt x="604" y="301"/>
                </a:lnTo>
                <a:lnTo>
                  <a:pt x="607" y="307"/>
                </a:lnTo>
                <a:lnTo>
                  <a:pt x="607" y="316"/>
                </a:lnTo>
                <a:lnTo>
                  <a:pt x="607" y="321"/>
                </a:lnTo>
                <a:lnTo>
                  <a:pt x="610" y="330"/>
                </a:lnTo>
                <a:lnTo>
                  <a:pt x="610" y="335"/>
                </a:lnTo>
                <a:lnTo>
                  <a:pt x="610" y="341"/>
                </a:lnTo>
                <a:lnTo>
                  <a:pt x="610" y="347"/>
                </a:lnTo>
                <a:lnTo>
                  <a:pt x="613" y="355"/>
                </a:lnTo>
                <a:lnTo>
                  <a:pt x="616" y="367"/>
                </a:lnTo>
                <a:lnTo>
                  <a:pt x="619" y="378"/>
                </a:lnTo>
                <a:lnTo>
                  <a:pt x="622" y="387"/>
                </a:lnTo>
                <a:lnTo>
                  <a:pt x="626" y="398"/>
                </a:lnTo>
                <a:lnTo>
                  <a:pt x="629" y="406"/>
                </a:lnTo>
                <a:lnTo>
                  <a:pt x="632" y="415"/>
                </a:lnTo>
                <a:lnTo>
                  <a:pt x="635" y="421"/>
                </a:lnTo>
                <a:lnTo>
                  <a:pt x="635" y="426"/>
                </a:lnTo>
                <a:lnTo>
                  <a:pt x="638" y="426"/>
                </a:lnTo>
                <a:lnTo>
                  <a:pt x="641" y="429"/>
                </a:lnTo>
                <a:lnTo>
                  <a:pt x="647" y="426"/>
                </a:lnTo>
                <a:lnTo>
                  <a:pt x="653" y="421"/>
                </a:lnTo>
                <a:lnTo>
                  <a:pt x="665" y="415"/>
                </a:lnTo>
                <a:lnTo>
                  <a:pt x="678" y="406"/>
                </a:lnTo>
                <a:lnTo>
                  <a:pt x="684" y="401"/>
                </a:lnTo>
                <a:lnTo>
                  <a:pt x="690" y="395"/>
                </a:lnTo>
                <a:lnTo>
                  <a:pt x="696" y="389"/>
                </a:lnTo>
                <a:lnTo>
                  <a:pt x="705" y="384"/>
                </a:lnTo>
                <a:lnTo>
                  <a:pt x="711" y="378"/>
                </a:lnTo>
                <a:lnTo>
                  <a:pt x="718" y="372"/>
                </a:lnTo>
                <a:lnTo>
                  <a:pt x="727" y="367"/>
                </a:lnTo>
                <a:lnTo>
                  <a:pt x="733" y="361"/>
                </a:lnTo>
                <a:lnTo>
                  <a:pt x="739" y="355"/>
                </a:lnTo>
                <a:lnTo>
                  <a:pt x="748" y="347"/>
                </a:lnTo>
                <a:lnTo>
                  <a:pt x="754" y="338"/>
                </a:lnTo>
                <a:lnTo>
                  <a:pt x="761" y="333"/>
                </a:lnTo>
                <a:lnTo>
                  <a:pt x="773" y="324"/>
                </a:lnTo>
                <a:lnTo>
                  <a:pt x="785" y="313"/>
                </a:lnTo>
                <a:lnTo>
                  <a:pt x="791" y="304"/>
                </a:lnTo>
                <a:lnTo>
                  <a:pt x="797" y="296"/>
                </a:lnTo>
                <a:lnTo>
                  <a:pt x="804" y="293"/>
                </a:lnTo>
                <a:lnTo>
                  <a:pt x="807" y="293"/>
                </a:lnTo>
                <a:lnTo>
                  <a:pt x="804" y="290"/>
                </a:lnTo>
                <a:lnTo>
                  <a:pt x="804" y="287"/>
                </a:lnTo>
                <a:lnTo>
                  <a:pt x="797" y="276"/>
                </a:lnTo>
                <a:lnTo>
                  <a:pt x="791" y="267"/>
                </a:lnTo>
                <a:lnTo>
                  <a:pt x="785" y="262"/>
                </a:lnTo>
                <a:lnTo>
                  <a:pt x="785" y="256"/>
                </a:lnTo>
                <a:lnTo>
                  <a:pt x="779" y="247"/>
                </a:lnTo>
                <a:lnTo>
                  <a:pt x="776" y="244"/>
                </a:lnTo>
                <a:lnTo>
                  <a:pt x="770" y="236"/>
                </a:lnTo>
                <a:lnTo>
                  <a:pt x="767" y="227"/>
                </a:lnTo>
                <a:lnTo>
                  <a:pt x="761" y="222"/>
                </a:lnTo>
                <a:lnTo>
                  <a:pt x="758" y="216"/>
                </a:lnTo>
                <a:lnTo>
                  <a:pt x="751" y="205"/>
                </a:lnTo>
                <a:lnTo>
                  <a:pt x="745" y="196"/>
                </a:lnTo>
                <a:lnTo>
                  <a:pt x="739" y="188"/>
                </a:lnTo>
                <a:lnTo>
                  <a:pt x="733" y="182"/>
                </a:lnTo>
                <a:lnTo>
                  <a:pt x="727" y="171"/>
                </a:lnTo>
                <a:lnTo>
                  <a:pt x="724" y="165"/>
                </a:lnTo>
                <a:lnTo>
                  <a:pt x="718" y="153"/>
                </a:lnTo>
                <a:lnTo>
                  <a:pt x="711" y="148"/>
                </a:lnTo>
                <a:lnTo>
                  <a:pt x="708" y="139"/>
                </a:lnTo>
                <a:lnTo>
                  <a:pt x="702" y="131"/>
                </a:lnTo>
                <a:lnTo>
                  <a:pt x="696" y="122"/>
                </a:lnTo>
                <a:lnTo>
                  <a:pt x="690" y="117"/>
                </a:lnTo>
                <a:lnTo>
                  <a:pt x="687" y="111"/>
                </a:lnTo>
                <a:lnTo>
                  <a:pt x="681" y="102"/>
                </a:lnTo>
                <a:lnTo>
                  <a:pt x="675" y="97"/>
                </a:lnTo>
                <a:lnTo>
                  <a:pt x="672" y="91"/>
                </a:lnTo>
                <a:lnTo>
                  <a:pt x="665" y="82"/>
                </a:lnTo>
                <a:lnTo>
                  <a:pt x="659" y="74"/>
                </a:lnTo>
                <a:lnTo>
                  <a:pt x="656" y="71"/>
                </a:lnTo>
                <a:lnTo>
                  <a:pt x="653" y="65"/>
                </a:lnTo>
                <a:lnTo>
                  <a:pt x="644" y="54"/>
                </a:lnTo>
                <a:lnTo>
                  <a:pt x="641" y="48"/>
                </a:lnTo>
                <a:lnTo>
                  <a:pt x="632" y="40"/>
                </a:lnTo>
                <a:lnTo>
                  <a:pt x="629" y="31"/>
                </a:lnTo>
                <a:lnTo>
                  <a:pt x="622" y="23"/>
                </a:lnTo>
                <a:lnTo>
                  <a:pt x="619" y="20"/>
                </a:lnTo>
                <a:lnTo>
                  <a:pt x="610" y="9"/>
                </a:lnTo>
                <a:lnTo>
                  <a:pt x="601" y="3"/>
                </a:lnTo>
                <a:lnTo>
                  <a:pt x="589" y="0"/>
                </a:lnTo>
                <a:lnTo>
                  <a:pt x="576" y="3"/>
                </a:lnTo>
                <a:lnTo>
                  <a:pt x="570" y="3"/>
                </a:lnTo>
                <a:lnTo>
                  <a:pt x="564" y="11"/>
                </a:lnTo>
                <a:lnTo>
                  <a:pt x="555" y="17"/>
                </a:lnTo>
                <a:lnTo>
                  <a:pt x="546" y="28"/>
                </a:lnTo>
                <a:lnTo>
                  <a:pt x="540" y="34"/>
                </a:lnTo>
                <a:lnTo>
                  <a:pt x="530" y="48"/>
                </a:lnTo>
                <a:lnTo>
                  <a:pt x="524" y="51"/>
                </a:lnTo>
                <a:lnTo>
                  <a:pt x="521" y="60"/>
                </a:lnTo>
                <a:lnTo>
                  <a:pt x="518" y="65"/>
                </a:lnTo>
                <a:lnTo>
                  <a:pt x="512" y="71"/>
                </a:lnTo>
                <a:lnTo>
                  <a:pt x="509" y="80"/>
                </a:lnTo>
                <a:lnTo>
                  <a:pt x="506" y="85"/>
                </a:lnTo>
                <a:lnTo>
                  <a:pt x="500" y="94"/>
                </a:lnTo>
                <a:lnTo>
                  <a:pt x="497" y="99"/>
                </a:lnTo>
                <a:lnTo>
                  <a:pt x="494" y="105"/>
                </a:lnTo>
                <a:lnTo>
                  <a:pt x="491" y="114"/>
                </a:lnTo>
                <a:lnTo>
                  <a:pt x="487" y="119"/>
                </a:lnTo>
                <a:lnTo>
                  <a:pt x="481" y="125"/>
                </a:lnTo>
                <a:lnTo>
                  <a:pt x="478" y="134"/>
                </a:lnTo>
                <a:lnTo>
                  <a:pt x="475" y="139"/>
                </a:lnTo>
                <a:lnTo>
                  <a:pt x="472" y="148"/>
                </a:lnTo>
                <a:lnTo>
                  <a:pt x="469" y="153"/>
                </a:lnTo>
                <a:lnTo>
                  <a:pt x="466" y="165"/>
                </a:lnTo>
                <a:lnTo>
                  <a:pt x="460" y="176"/>
                </a:lnTo>
                <a:lnTo>
                  <a:pt x="457" y="185"/>
                </a:lnTo>
                <a:lnTo>
                  <a:pt x="451" y="193"/>
                </a:lnTo>
                <a:lnTo>
                  <a:pt x="441" y="202"/>
                </a:lnTo>
                <a:lnTo>
                  <a:pt x="435" y="213"/>
                </a:lnTo>
                <a:lnTo>
                  <a:pt x="429" y="222"/>
                </a:lnTo>
                <a:lnTo>
                  <a:pt x="423" y="233"/>
                </a:lnTo>
                <a:lnTo>
                  <a:pt x="414" y="239"/>
                </a:lnTo>
                <a:lnTo>
                  <a:pt x="408" y="247"/>
                </a:lnTo>
                <a:lnTo>
                  <a:pt x="402" y="256"/>
                </a:lnTo>
                <a:lnTo>
                  <a:pt x="392" y="262"/>
                </a:lnTo>
                <a:lnTo>
                  <a:pt x="386" y="264"/>
                </a:lnTo>
                <a:lnTo>
                  <a:pt x="383" y="273"/>
                </a:lnTo>
                <a:lnTo>
                  <a:pt x="371" y="279"/>
                </a:lnTo>
                <a:lnTo>
                  <a:pt x="371" y="284"/>
                </a:lnTo>
                <a:lnTo>
                  <a:pt x="368" y="279"/>
                </a:lnTo>
                <a:lnTo>
                  <a:pt x="365" y="276"/>
                </a:lnTo>
                <a:lnTo>
                  <a:pt x="356" y="273"/>
                </a:lnTo>
                <a:lnTo>
                  <a:pt x="349" y="267"/>
                </a:lnTo>
                <a:lnTo>
                  <a:pt x="337" y="259"/>
                </a:lnTo>
                <a:lnTo>
                  <a:pt x="325" y="253"/>
                </a:lnTo>
                <a:lnTo>
                  <a:pt x="319" y="247"/>
                </a:lnTo>
                <a:lnTo>
                  <a:pt x="313" y="244"/>
                </a:lnTo>
                <a:lnTo>
                  <a:pt x="306" y="239"/>
                </a:lnTo>
                <a:lnTo>
                  <a:pt x="300" y="236"/>
                </a:lnTo>
                <a:lnTo>
                  <a:pt x="291" y="230"/>
                </a:lnTo>
                <a:lnTo>
                  <a:pt x="285" y="225"/>
                </a:lnTo>
                <a:lnTo>
                  <a:pt x="279" y="222"/>
                </a:lnTo>
                <a:lnTo>
                  <a:pt x="270" y="216"/>
                </a:lnTo>
                <a:lnTo>
                  <a:pt x="263" y="210"/>
                </a:lnTo>
                <a:lnTo>
                  <a:pt x="257" y="205"/>
                </a:lnTo>
                <a:lnTo>
                  <a:pt x="248" y="202"/>
                </a:lnTo>
                <a:lnTo>
                  <a:pt x="242" y="196"/>
                </a:lnTo>
                <a:lnTo>
                  <a:pt x="230" y="185"/>
                </a:lnTo>
                <a:lnTo>
                  <a:pt x="217" y="176"/>
                </a:lnTo>
                <a:lnTo>
                  <a:pt x="205" y="171"/>
                </a:lnTo>
                <a:lnTo>
                  <a:pt x="202" y="165"/>
                </a:lnTo>
                <a:lnTo>
                  <a:pt x="193" y="156"/>
                </a:lnTo>
                <a:lnTo>
                  <a:pt x="184" y="151"/>
                </a:lnTo>
                <a:lnTo>
                  <a:pt x="174" y="142"/>
                </a:lnTo>
                <a:lnTo>
                  <a:pt x="165" y="139"/>
                </a:lnTo>
                <a:lnTo>
                  <a:pt x="153" y="134"/>
                </a:lnTo>
                <a:lnTo>
                  <a:pt x="141" y="128"/>
                </a:lnTo>
                <a:lnTo>
                  <a:pt x="131" y="122"/>
                </a:lnTo>
                <a:lnTo>
                  <a:pt x="122" y="119"/>
                </a:lnTo>
                <a:lnTo>
                  <a:pt x="110" y="117"/>
                </a:lnTo>
                <a:lnTo>
                  <a:pt x="104" y="114"/>
                </a:lnTo>
                <a:lnTo>
                  <a:pt x="95" y="111"/>
                </a:lnTo>
                <a:lnTo>
                  <a:pt x="85" y="108"/>
                </a:lnTo>
                <a:lnTo>
                  <a:pt x="76" y="105"/>
                </a:lnTo>
                <a:lnTo>
                  <a:pt x="73" y="105"/>
                </a:lnTo>
                <a:lnTo>
                  <a:pt x="70" y="105"/>
                </a:lnTo>
                <a:lnTo>
                  <a:pt x="70" y="1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209520" y="1874880"/>
            <a:ext cx="1847880" cy="3747960"/>
          </a:xfrm>
          <a:custGeom>
            <a:avLst/>
            <a:gdLst/>
            <a:ahLst/>
            <a:rect l="l" t="t" r="r" b="b"/>
            <a:pathLst>
              <a:path w="1086" h="2154">
                <a:moveTo>
                  <a:pt x="1016" y="0"/>
                </a:moveTo>
                <a:lnTo>
                  <a:pt x="1086" y="20"/>
                </a:lnTo>
                <a:lnTo>
                  <a:pt x="1065" y="179"/>
                </a:lnTo>
                <a:lnTo>
                  <a:pt x="1003" y="196"/>
                </a:lnTo>
                <a:lnTo>
                  <a:pt x="1000" y="196"/>
                </a:lnTo>
                <a:lnTo>
                  <a:pt x="994" y="196"/>
                </a:lnTo>
                <a:lnTo>
                  <a:pt x="985" y="193"/>
                </a:lnTo>
                <a:lnTo>
                  <a:pt x="973" y="196"/>
                </a:lnTo>
                <a:lnTo>
                  <a:pt x="963" y="196"/>
                </a:lnTo>
                <a:lnTo>
                  <a:pt x="957" y="196"/>
                </a:lnTo>
                <a:lnTo>
                  <a:pt x="948" y="196"/>
                </a:lnTo>
                <a:lnTo>
                  <a:pt x="942" y="199"/>
                </a:lnTo>
                <a:lnTo>
                  <a:pt x="930" y="199"/>
                </a:lnTo>
                <a:lnTo>
                  <a:pt x="920" y="201"/>
                </a:lnTo>
                <a:lnTo>
                  <a:pt x="908" y="204"/>
                </a:lnTo>
                <a:lnTo>
                  <a:pt x="899" y="210"/>
                </a:lnTo>
                <a:lnTo>
                  <a:pt x="890" y="210"/>
                </a:lnTo>
                <a:lnTo>
                  <a:pt x="884" y="216"/>
                </a:lnTo>
                <a:lnTo>
                  <a:pt x="877" y="216"/>
                </a:lnTo>
                <a:lnTo>
                  <a:pt x="871" y="219"/>
                </a:lnTo>
                <a:lnTo>
                  <a:pt x="865" y="219"/>
                </a:lnTo>
                <a:lnTo>
                  <a:pt x="859" y="221"/>
                </a:lnTo>
                <a:lnTo>
                  <a:pt x="850" y="224"/>
                </a:lnTo>
                <a:lnTo>
                  <a:pt x="844" y="227"/>
                </a:lnTo>
                <a:lnTo>
                  <a:pt x="834" y="230"/>
                </a:lnTo>
                <a:lnTo>
                  <a:pt x="828" y="236"/>
                </a:lnTo>
                <a:lnTo>
                  <a:pt x="822" y="238"/>
                </a:lnTo>
                <a:lnTo>
                  <a:pt x="813" y="241"/>
                </a:lnTo>
                <a:lnTo>
                  <a:pt x="807" y="244"/>
                </a:lnTo>
                <a:lnTo>
                  <a:pt x="801" y="247"/>
                </a:lnTo>
                <a:lnTo>
                  <a:pt x="791" y="253"/>
                </a:lnTo>
                <a:lnTo>
                  <a:pt x="785" y="258"/>
                </a:lnTo>
                <a:lnTo>
                  <a:pt x="779" y="264"/>
                </a:lnTo>
                <a:lnTo>
                  <a:pt x="770" y="267"/>
                </a:lnTo>
                <a:lnTo>
                  <a:pt x="761" y="273"/>
                </a:lnTo>
                <a:lnTo>
                  <a:pt x="755" y="278"/>
                </a:lnTo>
                <a:lnTo>
                  <a:pt x="745" y="284"/>
                </a:lnTo>
                <a:lnTo>
                  <a:pt x="736" y="290"/>
                </a:lnTo>
                <a:lnTo>
                  <a:pt x="730" y="298"/>
                </a:lnTo>
                <a:lnTo>
                  <a:pt x="724" y="304"/>
                </a:lnTo>
                <a:lnTo>
                  <a:pt x="712" y="309"/>
                </a:lnTo>
                <a:lnTo>
                  <a:pt x="706" y="318"/>
                </a:lnTo>
                <a:lnTo>
                  <a:pt x="693" y="324"/>
                </a:lnTo>
                <a:lnTo>
                  <a:pt x="687" y="332"/>
                </a:lnTo>
                <a:lnTo>
                  <a:pt x="678" y="338"/>
                </a:lnTo>
                <a:lnTo>
                  <a:pt x="672" y="346"/>
                </a:lnTo>
                <a:lnTo>
                  <a:pt x="663" y="358"/>
                </a:lnTo>
                <a:lnTo>
                  <a:pt x="656" y="366"/>
                </a:lnTo>
                <a:lnTo>
                  <a:pt x="647" y="375"/>
                </a:lnTo>
                <a:lnTo>
                  <a:pt x="638" y="383"/>
                </a:lnTo>
                <a:lnTo>
                  <a:pt x="629" y="392"/>
                </a:lnTo>
                <a:lnTo>
                  <a:pt x="620" y="400"/>
                </a:lnTo>
                <a:lnTo>
                  <a:pt x="614" y="409"/>
                </a:lnTo>
                <a:lnTo>
                  <a:pt x="604" y="420"/>
                </a:lnTo>
                <a:lnTo>
                  <a:pt x="595" y="429"/>
                </a:lnTo>
                <a:lnTo>
                  <a:pt x="589" y="437"/>
                </a:lnTo>
                <a:lnTo>
                  <a:pt x="583" y="446"/>
                </a:lnTo>
                <a:lnTo>
                  <a:pt x="574" y="457"/>
                </a:lnTo>
                <a:lnTo>
                  <a:pt x="567" y="466"/>
                </a:lnTo>
                <a:lnTo>
                  <a:pt x="561" y="474"/>
                </a:lnTo>
                <a:lnTo>
                  <a:pt x="552" y="483"/>
                </a:lnTo>
                <a:lnTo>
                  <a:pt x="543" y="494"/>
                </a:lnTo>
                <a:lnTo>
                  <a:pt x="540" y="503"/>
                </a:lnTo>
                <a:lnTo>
                  <a:pt x="531" y="514"/>
                </a:lnTo>
                <a:lnTo>
                  <a:pt x="525" y="523"/>
                </a:lnTo>
                <a:lnTo>
                  <a:pt x="518" y="531"/>
                </a:lnTo>
                <a:lnTo>
                  <a:pt x="512" y="540"/>
                </a:lnTo>
                <a:lnTo>
                  <a:pt x="506" y="551"/>
                </a:lnTo>
                <a:lnTo>
                  <a:pt x="500" y="560"/>
                </a:lnTo>
                <a:lnTo>
                  <a:pt x="494" y="571"/>
                </a:lnTo>
                <a:lnTo>
                  <a:pt x="488" y="580"/>
                </a:lnTo>
                <a:lnTo>
                  <a:pt x="482" y="588"/>
                </a:lnTo>
                <a:lnTo>
                  <a:pt x="475" y="599"/>
                </a:lnTo>
                <a:lnTo>
                  <a:pt x="469" y="608"/>
                </a:lnTo>
                <a:lnTo>
                  <a:pt x="463" y="614"/>
                </a:lnTo>
                <a:lnTo>
                  <a:pt x="460" y="625"/>
                </a:lnTo>
                <a:lnTo>
                  <a:pt x="454" y="636"/>
                </a:lnTo>
                <a:lnTo>
                  <a:pt x="448" y="645"/>
                </a:lnTo>
                <a:lnTo>
                  <a:pt x="445" y="653"/>
                </a:lnTo>
                <a:lnTo>
                  <a:pt x="442" y="662"/>
                </a:lnTo>
                <a:lnTo>
                  <a:pt x="432" y="670"/>
                </a:lnTo>
                <a:lnTo>
                  <a:pt x="429" y="679"/>
                </a:lnTo>
                <a:lnTo>
                  <a:pt x="423" y="690"/>
                </a:lnTo>
                <a:lnTo>
                  <a:pt x="420" y="699"/>
                </a:lnTo>
                <a:lnTo>
                  <a:pt x="417" y="707"/>
                </a:lnTo>
                <a:lnTo>
                  <a:pt x="411" y="716"/>
                </a:lnTo>
                <a:lnTo>
                  <a:pt x="408" y="724"/>
                </a:lnTo>
                <a:lnTo>
                  <a:pt x="405" y="733"/>
                </a:lnTo>
                <a:lnTo>
                  <a:pt x="399" y="742"/>
                </a:lnTo>
                <a:lnTo>
                  <a:pt x="396" y="750"/>
                </a:lnTo>
                <a:lnTo>
                  <a:pt x="393" y="756"/>
                </a:lnTo>
                <a:lnTo>
                  <a:pt x="389" y="767"/>
                </a:lnTo>
                <a:lnTo>
                  <a:pt x="386" y="776"/>
                </a:lnTo>
                <a:lnTo>
                  <a:pt x="383" y="784"/>
                </a:lnTo>
                <a:lnTo>
                  <a:pt x="377" y="793"/>
                </a:lnTo>
                <a:lnTo>
                  <a:pt x="377" y="801"/>
                </a:lnTo>
                <a:lnTo>
                  <a:pt x="374" y="810"/>
                </a:lnTo>
                <a:lnTo>
                  <a:pt x="368" y="815"/>
                </a:lnTo>
                <a:lnTo>
                  <a:pt x="368" y="821"/>
                </a:lnTo>
                <a:lnTo>
                  <a:pt x="365" y="833"/>
                </a:lnTo>
                <a:lnTo>
                  <a:pt x="362" y="838"/>
                </a:lnTo>
                <a:lnTo>
                  <a:pt x="362" y="847"/>
                </a:lnTo>
                <a:lnTo>
                  <a:pt x="356" y="852"/>
                </a:lnTo>
                <a:lnTo>
                  <a:pt x="356" y="861"/>
                </a:lnTo>
                <a:lnTo>
                  <a:pt x="353" y="867"/>
                </a:lnTo>
                <a:lnTo>
                  <a:pt x="353" y="872"/>
                </a:lnTo>
                <a:lnTo>
                  <a:pt x="350" y="881"/>
                </a:lnTo>
                <a:lnTo>
                  <a:pt x="350" y="887"/>
                </a:lnTo>
                <a:lnTo>
                  <a:pt x="347" y="892"/>
                </a:lnTo>
                <a:lnTo>
                  <a:pt x="347" y="901"/>
                </a:lnTo>
                <a:lnTo>
                  <a:pt x="343" y="906"/>
                </a:lnTo>
                <a:lnTo>
                  <a:pt x="343" y="915"/>
                </a:lnTo>
                <a:lnTo>
                  <a:pt x="343" y="918"/>
                </a:lnTo>
                <a:lnTo>
                  <a:pt x="340" y="923"/>
                </a:lnTo>
                <a:lnTo>
                  <a:pt x="340" y="932"/>
                </a:lnTo>
                <a:lnTo>
                  <a:pt x="340" y="938"/>
                </a:lnTo>
                <a:lnTo>
                  <a:pt x="340" y="946"/>
                </a:lnTo>
                <a:lnTo>
                  <a:pt x="337" y="952"/>
                </a:lnTo>
                <a:lnTo>
                  <a:pt x="337" y="960"/>
                </a:lnTo>
                <a:lnTo>
                  <a:pt x="337" y="969"/>
                </a:lnTo>
                <a:lnTo>
                  <a:pt x="334" y="977"/>
                </a:lnTo>
                <a:lnTo>
                  <a:pt x="334" y="986"/>
                </a:lnTo>
                <a:lnTo>
                  <a:pt x="334" y="995"/>
                </a:lnTo>
                <a:lnTo>
                  <a:pt x="334" y="1006"/>
                </a:lnTo>
                <a:lnTo>
                  <a:pt x="334" y="1014"/>
                </a:lnTo>
                <a:lnTo>
                  <a:pt x="337" y="1023"/>
                </a:lnTo>
                <a:lnTo>
                  <a:pt x="337" y="1034"/>
                </a:lnTo>
                <a:lnTo>
                  <a:pt x="340" y="1046"/>
                </a:lnTo>
                <a:lnTo>
                  <a:pt x="340" y="1057"/>
                </a:lnTo>
                <a:lnTo>
                  <a:pt x="340" y="1066"/>
                </a:lnTo>
                <a:lnTo>
                  <a:pt x="340" y="1077"/>
                </a:lnTo>
                <a:lnTo>
                  <a:pt x="340" y="1088"/>
                </a:lnTo>
                <a:lnTo>
                  <a:pt x="340" y="1097"/>
                </a:lnTo>
                <a:lnTo>
                  <a:pt x="343" y="1108"/>
                </a:lnTo>
                <a:lnTo>
                  <a:pt x="343" y="1120"/>
                </a:lnTo>
                <a:lnTo>
                  <a:pt x="343" y="1131"/>
                </a:lnTo>
                <a:lnTo>
                  <a:pt x="343" y="1145"/>
                </a:lnTo>
                <a:lnTo>
                  <a:pt x="347" y="1157"/>
                </a:lnTo>
                <a:lnTo>
                  <a:pt x="347" y="1168"/>
                </a:lnTo>
                <a:lnTo>
                  <a:pt x="350" y="1179"/>
                </a:lnTo>
                <a:lnTo>
                  <a:pt x="350" y="1191"/>
                </a:lnTo>
                <a:lnTo>
                  <a:pt x="353" y="1202"/>
                </a:lnTo>
                <a:lnTo>
                  <a:pt x="353" y="1216"/>
                </a:lnTo>
                <a:lnTo>
                  <a:pt x="356" y="1228"/>
                </a:lnTo>
                <a:lnTo>
                  <a:pt x="356" y="1239"/>
                </a:lnTo>
                <a:lnTo>
                  <a:pt x="356" y="1250"/>
                </a:lnTo>
                <a:lnTo>
                  <a:pt x="356" y="1262"/>
                </a:lnTo>
                <a:lnTo>
                  <a:pt x="362" y="1273"/>
                </a:lnTo>
                <a:lnTo>
                  <a:pt x="362" y="1284"/>
                </a:lnTo>
                <a:lnTo>
                  <a:pt x="362" y="1299"/>
                </a:lnTo>
                <a:lnTo>
                  <a:pt x="365" y="1310"/>
                </a:lnTo>
                <a:lnTo>
                  <a:pt x="365" y="1321"/>
                </a:lnTo>
                <a:lnTo>
                  <a:pt x="365" y="1333"/>
                </a:lnTo>
                <a:lnTo>
                  <a:pt x="368" y="1344"/>
                </a:lnTo>
                <a:lnTo>
                  <a:pt x="368" y="1356"/>
                </a:lnTo>
                <a:lnTo>
                  <a:pt x="371" y="1367"/>
                </a:lnTo>
                <a:lnTo>
                  <a:pt x="371" y="1378"/>
                </a:lnTo>
                <a:lnTo>
                  <a:pt x="374" y="1390"/>
                </a:lnTo>
                <a:lnTo>
                  <a:pt x="374" y="1401"/>
                </a:lnTo>
                <a:lnTo>
                  <a:pt x="377" y="1410"/>
                </a:lnTo>
                <a:lnTo>
                  <a:pt x="377" y="1421"/>
                </a:lnTo>
                <a:lnTo>
                  <a:pt x="377" y="1429"/>
                </a:lnTo>
                <a:lnTo>
                  <a:pt x="377" y="1441"/>
                </a:lnTo>
                <a:lnTo>
                  <a:pt x="380" y="1452"/>
                </a:lnTo>
                <a:lnTo>
                  <a:pt x="383" y="1461"/>
                </a:lnTo>
                <a:lnTo>
                  <a:pt x="383" y="1469"/>
                </a:lnTo>
                <a:lnTo>
                  <a:pt x="383" y="1478"/>
                </a:lnTo>
                <a:lnTo>
                  <a:pt x="386" y="1486"/>
                </a:lnTo>
                <a:lnTo>
                  <a:pt x="386" y="1495"/>
                </a:lnTo>
                <a:lnTo>
                  <a:pt x="386" y="1501"/>
                </a:lnTo>
                <a:lnTo>
                  <a:pt x="386" y="1512"/>
                </a:lnTo>
                <a:lnTo>
                  <a:pt x="386" y="1520"/>
                </a:lnTo>
                <a:lnTo>
                  <a:pt x="386" y="1526"/>
                </a:lnTo>
                <a:lnTo>
                  <a:pt x="386" y="1532"/>
                </a:lnTo>
                <a:lnTo>
                  <a:pt x="386" y="1540"/>
                </a:lnTo>
                <a:lnTo>
                  <a:pt x="389" y="1546"/>
                </a:lnTo>
                <a:lnTo>
                  <a:pt x="386" y="1555"/>
                </a:lnTo>
                <a:lnTo>
                  <a:pt x="386" y="1569"/>
                </a:lnTo>
                <a:lnTo>
                  <a:pt x="386" y="1574"/>
                </a:lnTo>
                <a:lnTo>
                  <a:pt x="386" y="1580"/>
                </a:lnTo>
                <a:lnTo>
                  <a:pt x="386" y="1589"/>
                </a:lnTo>
                <a:lnTo>
                  <a:pt x="386" y="1594"/>
                </a:lnTo>
                <a:lnTo>
                  <a:pt x="386" y="1600"/>
                </a:lnTo>
                <a:lnTo>
                  <a:pt x="386" y="1606"/>
                </a:lnTo>
                <a:lnTo>
                  <a:pt x="386" y="1611"/>
                </a:lnTo>
                <a:lnTo>
                  <a:pt x="386" y="1617"/>
                </a:lnTo>
                <a:lnTo>
                  <a:pt x="386" y="1626"/>
                </a:lnTo>
                <a:lnTo>
                  <a:pt x="386" y="1631"/>
                </a:lnTo>
                <a:lnTo>
                  <a:pt x="386" y="1637"/>
                </a:lnTo>
                <a:lnTo>
                  <a:pt x="386" y="1645"/>
                </a:lnTo>
                <a:lnTo>
                  <a:pt x="383" y="1651"/>
                </a:lnTo>
                <a:lnTo>
                  <a:pt x="383" y="1657"/>
                </a:lnTo>
                <a:lnTo>
                  <a:pt x="383" y="1665"/>
                </a:lnTo>
                <a:lnTo>
                  <a:pt x="383" y="1671"/>
                </a:lnTo>
                <a:lnTo>
                  <a:pt x="383" y="1677"/>
                </a:lnTo>
                <a:lnTo>
                  <a:pt x="380" y="1682"/>
                </a:lnTo>
                <a:lnTo>
                  <a:pt x="380" y="1688"/>
                </a:lnTo>
                <a:lnTo>
                  <a:pt x="380" y="1697"/>
                </a:lnTo>
                <a:lnTo>
                  <a:pt x="377" y="1702"/>
                </a:lnTo>
                <a:lnTo>
                  <a:pt x="377" y="1708"/>
                </a:lnTo>
                <a:lnTo>
                  <a:pt x="377" y="1717"/>
                </a:lnTo>
                <a:lnTo>
                  <a:pt x="377" y="1725"/>
                </a:lnTo>
                <a:lnTo>
                  <a:pt x="374" y="1731"/>
                </a:lnTo>
                <a:lnTo>
                  <a:pt x="374" y="1736"/>
                </a:lnTo>
                <a:lnTo>
                  <a:pt x="374" y="1745"/>
                </a:lnTo>
                <a:lnTo>
                  <a:pt x="374" y="1751"/>
                </a:lnTo>
                <a:lnTo>
                  <a:pt x="371" y="1756"/>
                </a:lnTo>
                <a:lnTo>
                  <a:pt x="371" y="1762"/>
                </a:lnTo>
                <a:lnTo>
                  <a:pt x="368" y="1768"/>
                </a:lnTo>
                <a:lnTo>
                  <a:pt x="368" y="1773"/>
                </a:lnTo>
                <a:lnTo>
                  <a:pt x="368" y="1779"/>
                </a:lnTo>
                <a:lnTo>
                  <a:pt x="368" y="1788"/>
                </a:lnTo>
                <a:lnTo>
                  <a:pt x="365" y="1793"/>
                </a:lnTo>
                <a:lnTo>
                  <a:pt x="365" y="1799"/>
                </a:lnTo>
                <a:lnTo>
                  <a:pt x="362" y="1810"/>
                </a:lnTo>
                <a:lnTo>
                  <a:pt x="359" y="1825"/>
                </a:lnTo>
                <a:lnTo>
                  <a:pt x="356" y="1827"/>
                </a:lnTo>
                <a:lnTo>
                  <a:pt x="356" y="1836"/>
                </a:lnTo>
                <a:lnTo>
                  <a:pt x="353" y="1842"/>
                </a:lnTo>
                <a:lnTo>
                  <a:pt x="353" y="1847"/>
                </a:lnTo>
                <a:lnTo>
                  <a:pt x="350" y="1859"/>
                </a:lnTo>
                <a:lnTo>
                  <a:pt x="347" y="1870"/>
                </a:lnTo>
                <a:lnTo>
                  <a:pt x="343" y="1881"/>
                </a:lnTo>
                <a:lnTo>
                  <a:pt x="340" y="1893"/>
                </a:lnTo>
                <a:lnTo>
                  <a:pt x="334" y="1901"/>
                </a:lnTo>
                <a:lnTo>
                  <a:pt x="331" y="1913"/>
                </a:lnTo>
                <a:lnTo>
                  <a:pt x="325" y="1924"/>
                </a:lnTo>
                <a:lnTo>
                  <a:pt x="322" y="1935"/>
                </a:lnTo>
                <a:lnTo>
                  <a:pt x="316" y="1941"/>
                </a:lnTo>
                <a:lnTo>
                  <a:pt x="310" y="1950"/>
                </a:lnTo>
                <a:lnTo>
                  <a:pt x="304" y="1961"/>
                </a:lnTo>
                <a:lnTo>
                  <a:pt x="297" y="1970"/>
                </a:lnTo>
                <a:lnTo>
                  <a:pt x="291" y="1978"/>
                </a:lnTo>
                <a:lnTo>
                  <a:pt x="285" y="1989"/>
                </a:lnTo>
                <a:lnTo>
                  <a:pt x="276" y="1998"/>
                </a:lnTo>
                <a:lnTo>
                  <a:pt x="270" y="2009"/>
                </a:lnTo>
                <a:lnTo>
                  <a:pt x="264" y="2018"/>
                </a:lnTo>
                <a:lnTo>
                  <a:pt x="258" y="2026"/>
                </a:lnTo>
                <a:lnTo>
                  <a:pt x="248" y="2035"/>
                </a:lnTo>
                <a:lnTo>
                  <a:pt x="242" y="2046"/>
                </a:lnTo>
                <a:lnTo>
                  <a:pt x="233" y="2052"/>
                </a:lnTo>
                <a:lnTo>
                  <a:pt x="227" y="2063"/>
                </a:lnTo>
                <a:lnTo>
                  <a:pt x="221" y="2069"/>
                </a:lnTo>
                <a:lnTo>
                  <a:pt x="215" y="2080"/>
                </a:lnTo>
                <a:lnTo>
                  <a:pt x="208" y="2086"/>
                </a:lnTo>
                <a:lnTo>
                  <a:pt x="199" y="2092"/>
                </a:lnTo>
                <a:lnTo>
                  <a:pt x="193" y="2100"/>
                </a:lnTo>
                <a:lnTo>
                  <a:pt x="187" y="2109"/>
                </a:lnTo>
                <a:lnTo>
                  <a:pt x="178" y="2115"/>
                </a:lnTo>
                <a:lnTo>
                  <a:pt x="175" y="2120"/>
                </a:lnTo>
                <a:lnTo>
                  <a:pt x="169" y="2129"/>
                </a:lnTo>
                <a:lnTo>
                  <a:pt x="165" y="2132"/>
                </a:lnTo>
                <a:lnTo>
                  <a:pt x="156" y="2140"/>
                </a:lnTo>
                <a:lnTo>
                  <a:pt x="150" y="2149"/>
                </a:lnTo>
                <a:lnTo>
                  <a:pt x="144" y="2151"/>
                </a:lnTo>
                <a:lnTo>
                  <a:pt x="144" y="2154"/>
                </a:lnTo>
                <a:lnTo>
                  <a:pt x="0" y="2043"/>
                </a:lnTo>
                <a:lnTo>
                  <a:pt x="3" y="2041"/>
                </a:lnTo>
                <a:lnTo>
                  <a:pt x="12" y="2032"/>
                </a:lnTo>
                <a:lnTo>
                  <a:pt x="21" y="2026"/>
                </a:lnTo>
                <a:lnTo>
                  <a:pt x="27" y="2018"/>
                </a:lnTo>
                <a:lnTo>
                  <a:pt x="40" y="2009"/>
                </a:lnTo>
                <a:lnTo>
                  <a:pt x="52" y="1998"/>
                </a:lnTo>
                <a:lnTo>
                  <a:pt x="58" y="1992"/>
                </a:lnTo>
                <a:lnTo>
                  <a:pt x="61" y="1987"/>
                </a:lnTo>
                <a:lnTo>
                  <a:pt x="67" y="1978"/>
                </a:lnTo>
                <a:lnTo>
                  <a:pt x="76" y="1975"/>
                </a:lnTo>
                <a:lnTo>
                  <a:pt x="83" y="1967"/>
                </a:lnTo>
                <a:lnTo>
                  <a:pt x="89" y="1961"/>
                </a:lnTo>
                <a:lnTo>
                  <a:pt x="98" y="1952"/>
                </a:lnTo>
                <a:lnTo>
                  <a:pt x="104" y="1947"/>
                </a:lnTo>
                <a:lnTo>
                  <a:pt x="113" y="1938"/>
                </a:lnTo>
                <a:lnTo>
                  <a:pt x="119" y="1930"/>
                </a:lnTo>
                <a:lnTo>
                  <a:pt x="126" y="1921"/>
                </a:lnTo>
                <a:lnTo>
                  <a:pt x="135" y="1910"/>
                </a:lnTo>
                <a:lnTo>
                  <a:pt x="141" y="1901"/>
                </a:lnTo>
                <a:lnTo>
                  <a:pt x="147" y="1893"/>
                </a:lnTo>
                <a:lnTo>
                  <a:pt x="156" y="1884"/>
                </a:lnTo>
                <a:lnTo>
                  <a:pt x="165" y="1876"/>
                </a:lnTo>
                <a:lnTo>
                  <a:pt x="169" y="1864"/>
                </a:lnTo>
                <a:lnTo>
                  <a:pt x="178" y="1856"/>
                </a:lnTo>
                <a:lnTo>
                  <a:pt x="187" y="1842"/>
                </a:lnTo>
                <a:lnTo>
                  <a:pt x="193" y="1830"/>
                </a:lnTo>
                <a:lnTo>
                  <a:pt x="199" y="1822"/>
                </a:lnTo>
                <a:lnTo>
                  <a:pt x="208" y="1810"/>
                </a:lnTo>
                <a:lnTo>
                  <a:pt x="215" y="1799"/>
                </a:lnTo>
                <a:lnTo>
                  <a:pt x="221" y="1788"/>
                </a:lnTo>
                <a:lnTo>
                  <a:pt x="227" y="1773"/>
                </a:lnTo>
                <a:lnTo>
                  <a:pt x="233" y="1762"/>
                </a:lnTo>
                <a:lnTo>
                  <a:pt x="239" y="1751"/>
                </a:lnTo>
                <a:lnTo>
                  <a:pt x="245" y="1736"/>
                </a:lnTo>
                <a:lnTo>
                  <a:pt x="251" y="1725"/>
                </a:lnTo>
                <a:lnTo>
                  <a:pt x="258" y="1708"/>
                </a:lnTo>
                <a:lnTo>
                  <a:pt x="264" y="1697"/>
                </a:lnTo>
                <a:lnTo>
                  <a:pt x="270" y="1685"/>
                </a:lnTo>
                <a:lnTo>
                  <a:pt x="273" y="1668"/>
                </a:lnTo>
                <a:lnTo>
                  <a:pt x="276" y="1657"/>
                </a:lnTo>
                <a:lnTo>
                  <a:pt x="279" y="1640"/>
                </a:lnTo>
                <a:lnTo>
                  <a:pt x="285" y="1626"/>
                </a:lnTo>
                <a:lnTo>
                  <a:pt x="288" y="1611"/>
                </a:lnTo>
                <a:lnTo>
                  <a:pt x="291" y="1597"/>
                </a:lnTo>
                <a:lnTo>
                  <a:pt x="291" y="1583"/>
                </a:lnTo>
                <a:lnTo>
                  <a:pt x="294" y="1566"/>
                </a:lnTo>
                <a:lnTo>
                  <a:pt x="297" y="1552"/>
                </a:lnTo>
                <a:lnTo>
                  <a:pt x="297" y="1537"/>
                </a:lnTo>
                <a:lnTo>
                  <a:pt x="297" y="1520"/>
                </a:lnTo>
                <a:lnTo>
                  <a:pt x="300" y="1503"/>
                </a:lnTo>
                <a:lnTo>
                  <a:pt x="297" y="1489"/>
                </a:lnTo>
                <a:lnTo>
                  <a:pt x="297" y="1472"/>
                </a:lnTo>
                <a:lnTo>
                  <a:pt x="297" y="1455"/>
                </a:lnTo>
                <a:lnTo>
                  <a:pt x="297" y="1441"/>
                </a:lnTo>
                <a:lnTo>
                  <a:pt x="294" y="1424"/>
                </a:lnTo>
                <a:lnTo>
                  <a:pt x="291" y="1407"/>
                </a:lnTo>
                <a:lnTo>
                  <a:pt x="291" y="1390"/>
                </a:lnTo>
                <a:lnTo>
                  <a:pt x="288" y="1373"/>
                </a:lnTo>
                <a:lnTo>
                  <a:pt x="288" y="1356"/>
                </a:lnTo>
                <a:lnTo>
                  <a:pt x="285" y="1341"/>
                </a:lnTo>
                <a:lnTo>
                  <a:pt x="285" y="1324"/>
                </a:lnTo>
                <a:lnTo>
                  <a:pt x="285" y="1310"/>
                </a:lnTo>
                <a:lnTo>
                  <a:pt x="279" y="1293"/>
                </a:lnTo>
                <a:lnTo>
                  <a:pt x="279" y="1279"/>
                </a:lnTo>
                <a:lnTo>
                  <a:pt x="279" y="1265"/>
                </a:lnTo>
                <a:lnTo>
                  <a:pt x="279" y="1250"/>
                </a:lnTo>
                <a:lnTo>
                  <a:pt x="276" y="1236"/>
                </a:lnTo>
                <a:lnTo>
                  <a:pt x="276" y="1222"/>
                </a:lnTo>
                <a:lnTo>
                  <a:pt x="276" y="1208"/>
                </a:lnTo>
                <a:lnTo>
                  <a:pt x="276" y="1196"/>
                </a:lnTo>
                <a:lnTo>
                  <a:pt x="276" y="1179"/>
                </a:lnTo>
                <a:lnTo>
                  <a:pt x="273" y="1165"/>
                </a:lnTo>
                <a:lnTo>
                  <a:pt x="273" y="1151"/>
                </a:lnTo>
                <a:lnTo>
                  <a:pt x="273" y="1140"/>
                </a:lnTo>
                <a:lnTo>
                  <a:pt x="273" y="1128"/>
                </a:lnTo>
                <a:lnTo>
                  <a:pt x="273" y="1117"/>
                </a:lnTo>
                <a:lnTo>
                  <a:pt x="273" y="1103"/>
                </a:lnTo>
                <a:lnTo>
                  <a:pt x="273" y="1091"/>
                </a:lnTo>
                <a:lnTo>
                  <a:pt x="273" y="1077"/>
                </a:lnTo>
                <a:lnTo>
                  <a:pt x="273" y="1066"/>
                </a:lnTo>
                <a:lnTo>
                  <a:pt x="273" y="1054"/>
                </a:lnTo>
                <a:lnTo>
                  <a:pt x="273" y="1046"/>
                </a:lnTo>
                <a:lnTo>
                  <a:pt x="273" y="1029"/>
                </a:lnTo>
                <a:lnTo>
                  <a:pt x="273" y="1020"/>
                </a:lnTo>
                <a:lnTo>
                  <a:pt x="273" y="1009"/>
                </a:lnTo>
                <a:lnTo>
                  <a:pt x="276" y="1000"/>
                </a:lnTo>
                <a:lnTo>
                  <a:pt x="276" y="989"/>
                </a:lnTo>
                <a:lnTo>
                  <a:pt x="276" y="980"/>
                </a:lnTo>
                <a:lnTo>
                  <a:pt x="276" y="969"/>
                </a:lnTo>
                <a:lnTo>
                  <a:pt x="276" y="958"/>
                </a:lnTo>
                <a:lnTo>
                  <a:pt x="276" y="949"/>
                </a:lnTo>
                <a:lnTo>
                  <a:pt x="276" y="941"/>
                </a:lnTo>
                <a:lnTo>
                  <a:pt x="276" y="932"/>
                </a:lnTo>
                <a:lnTo>
                  <a:pt x="279" y="923"/>
                </a:lnTo>
                <a:lnTo>
                  <a:pt x="279" y="915"/>
                </a:lnTo>
                <a:lnTo>
                  <a:pt x="279" y="906"/>
                </a:lnTo>
                <a:lnTo>
                  <a:pt x="279" y="898"/>
                </a:lnTo>
                <a:lnTo>
                  <a:pt x="282" y="889"/>
                </a:lnTo>
                <a:lnTo>
                  <a:pt x="282" y="881"/>
                </a:lnTo>
                <a:lnTo>
                  <a:pt x="285" y="875"/>
                </a:lnTo>
                <a:lnTo>
                  <a:pt x="285" y="867"/>
                </a:lnTo>
                <a:lnTo>
                  <a:pt x="288" y="861"/>
                </a:lnTo>
                <a:lnTo>
                  <a:pt x="288" y="852"/>
                </a:lnTo>
                <a:lnTo>
                  <a:pt x="288" y="847"/>
                </a:lnTo>
                <a:lnTo>
                  <a:pt x="288" y="841"/>
                </a:lnTo>
                <a:lnTo>
                  <a:pt x="291" y="835"/>
                </a:lnTo>
                <a:lnTo>
                  <a:pt x="291" y="821"/>
                </a:lnTo>
                <a:lnTo>
                  <a:pt x="297" y="813"/>
                </a:lnTo>
                <a:lnTo>
                  <a:pt x="300" y="801"/>
                </a:lnTo>
                <a:lnTo>
                  <a:pt x="304" y="796"/>
                </a:lnTo>
                <a:lnTo>
                  <a:pt x="307" y="787"/>
                </a:lnTo>
                <a:lnTo>
                  <a:pt x="310" y="781"/>
                </a:lnTo>
                <a:lnTo>
                  <a:pt x="313" y="773"/>
                </a:lnTo>
                <a:lnTo>
                  <a:pt x="316" y="764"/>
                </a:lnTo>
                <a:lnTo>
                  <a:pt x="319" y="753"/>
                </a:lnTo>
                <a:lnTo>
                  <a:pt x="322" y="742"/>
                </a:lnTo>
                <a:lnTo>
                  <a:pt x="325" y="733"/>
                </a:lnTo>
                <a:lnTo>
                  <a:pt x="328" y="727"/>
                </a:lnTo>
                <a:lnTo>
                  <a:pt x="331" y="719"/>
                </a:lnTo>
                <a:lnTo>
                  <a:pt x="334" y="713"/>
                </a:lnTo>
                <a:lnTo>
                  <a:pt x="334" y="705"/>
                </a:lnTo>
                <a:lnTo>
                  <a:pt x="340" y="696"/>
                </a:lnTo>
                <a:lnTo>
                  <a:pt x="343" y="685"/>
                </a:lnTo>
                <a:lnTo>
                  <a:pt x="347" y="679"/>
                </a:lnTo>
                <a:lnTo>
                  <a:pt x="347" y="670"/>
                </a:lnTo>
                <a:lnTo>
                  <a:pt x="350" y="659"/>
                </a:lnTo>
                <a:lnTo>
                  <a:pt x="353" y="651"/>
                </a:lnTo>
                <a:lnTo>
                  <a:pt x="356" y="642"/>
                </a:lnTo>
                <a:lnTo>
                  <a:pt x="362" y="631"/>
                </a:lnTo>
                <a:lnTo>
                  <a:pt x="365" y="619"/>
                </a:lnTo>
                <a:lnTo>
                  <a:pt x="368" y="611"/>
                </a:lnTo>
                <a:lnTo>
                  <a:pt x="371" y="602"/>
                </a:lnTo>
                <a:lnTo>
                  <a:pt x="374" y="591"/>
                </a:lnTo>
                <a:lnTo>
                  <a:pt x="377" y="580"/>
                </a:lnTo>
                <a:lnTo>
                  <a:pt x="383" y="568"/>
                </a:lnTo>
                <a:lnTo>
                  <a:pt x="386" y="560"/>
                </a:lnTo>
                <a:lnTo>
                  <a:pt x="389" y="545"/>
                </a:lnTo>
                <a:lnTo>
                  <a:pt x="396" y="534"/>
                </a:lnTo>
                <a:lnTo>
                  <a:pt x="399" y="523"/>
                </a:lnTo>
                <a:lnTo>
                  <a:pt x="405" y="514"/>
                </a:lnTo>
                <a:lnTo>
                  <a:pt x="408" y="500"/>
                </a:lnTo>
                <a:lnTo>
                  <a:pt x="414" y="491"/>
                </a:lnTo>
                <a:lnTo>
                  <a:pt x="420" y="477"/>
                </a:lnTo>
                <a:lnTo>
                  <a:pt x="423" y="466"/>
                </a:lnTo>
                <a:lnTo>
                  <a:pt x="429" y="452"/>
                </a:lnTo>
                <a:lnTo>
                  <a:pt x="432" y="443"/>
                </a:lnTo>
                <a:lnTo>
                  <a:pt x="439" y="432"/>
                </a:lnTo>
                <a:lnTo>
                  <a:pt x="445" y="420"/>
                </a:lnTo>
                <a:lnTo>
                  <a:pt x="451" y="406"/>
                </a:lnTo>
                <a:lnTo>
                  <a:pt x="454" y="395"/>
                </a:lnTo>
                <a:lnTo>
                  <a:pt x="460" y="386"/>
                </a:lnTo>
                <a:lnTo>
                  <a:pt x="466" y="375"/>
                </a:lnTo>
                <a:lnTo>
                  <a:pt x="472" y="361"/>
                </a:lnTo>
                <a:lnTo>
                  <a:pt x="478" y="352"/>
                </a:lnTo>
                <a:lnTo>
                  <a:pt x="488" y="341"/>
                </a:lnTo>
                <a:lnTo>
                  <a:pt x="494" y="329"/>
                </a:lnTo>
                <a:lnTo>
                  <a:pt x="500" y="318"/>
                </a:lnTo>
                <a:lnTo>
                  <a:pt x="506" y="307"/>
                </a:lnTo>
                <a:lnTo>
                  <a:pt x="515" y="298"/>
                </a:lnTo>
                <a:lnTo>
                  <a:pt x="521" y="287"/>
                </a:lnTo>
                <a:lnTo>
                  <a:pt x="528" y="275"/>
                </a:lnTo>
                <a:lnTo>
                  <a:pt x="537" y="267"/>
                </a:lnTo>
                <a:lnTo>
                  <a:pt x="543" y="258"/>
                </a:lnTo>
                <a:lnTo>
                  <a:pt x="552" y="247"/>
                </a:lnTo>
                <a:lnTo>
                  <a:pt x="558" y="238"/>
                </a:lnTo>
                <a:lnTo>
                  <a:pt x="564" y="230"/>
                </a:lnTo>
                <a:lnTo>
                  <a:pt x="574" y="221"/>
                </a:lnTo>
                <a:lnTo>
                  <a:pt x="583" y="213"/>
                </a:lnTo>
                <a:lnTo>
                  <a:pt x="592" y="204"/>
                </a:lnTo>
                <a:lnTo>
                  <a:pt x="601" y="196"/>
                </a:lnTo>
                <a:lnTo>
                  <a:pt x="607" y="190"/>
                </a:lnTo>
                <a:lnTo>
                  <a:pt x="617" y="184"/>
                </a:lnTo>
                <a:lnTo>
                  <a:pt x="626" y="176"/>
                </a:lnTo>
                <a:lnTo>
                  <a:pt x="635" y="167"/>
                </a:lnTo>
                <a:lnTo>
                  <a:pt x="644" y="162"/>
                </a:lnTo>
                <a:lnTo>
                  <a:pt x="653" y="156"/>
                </a:lnTo>
                <a:lnTo>
                  <a:pt x="660" y="147"/>
                </a:lnTo>
                <a:lnTo>
                  <a:pt x="672" y="142"/>
                </a:lnTo>
                <a:lnTo>
                  <a:pt x="678" y="136"/>
                </a:lnTo>
                <a:lnTo>
                  <a:pt x="690" y="128"/>
                </a:lnTo>
                <a:lnTo>
                  <a:pt x="696" y="122"/>
                </a:lnTo>
                <a:lnTo>
                  <a:pt x="706" y="116"/>
                </a:lnTo>
                <a:lnTo>
                  <a:pt x="715" y="113"/>
                </a:lnTo>
                <a:lnTo>
                  <a:pt x="724" y="108"/>
                </a:lnTo>
                <a:lnTo>
                  <a:pt x="733" y="102"/>
                </a:lnTo>
                <a:lnTo>
                  <a:pt x="742" y="96"/>
                </a:lnTo>
                <a:lnTo>
                  <a:pt x="752" y="93"/>
                </a:lnTo>
                <a:lnTo>
                  <a:pt x="761" y="88"/>
                </a:lnTo>
                <a:lnTo>
                  <a:pt x="767" y="85"/>
                </a:lnTo>
                <a:lnTo>
                  <a:pt x="779" y="79"/>
                </a:lnTo>
                <a:lnTo>
                  <a:pt x="785" y="74"/>
                </a:lnTo>
                <a:lnTo>
                  <a:pt x="795" y="71"/>
                </a:lnTo>
                <a:lnTo>
                  <a:pt x="801" y="65"/>
                </a:lnTo>
                <a:lnTo>
                  <a:pt x="810" y="62"/>
                </a:lnTo>
                <a:lnTo>
                  <a:pt x="816" y="59"/>
                </a:lnTo>
                <a:lnTo>
                  <a:pt x="825" y="57"/>
                </a:lnTo>
                <a:lnTo>
                  <a:pt x="834" y="54"/>
                </a:lnTo>
                <a:lnTo>
                  <a:pt x="841" y="51"/>
                </a:lnTo>
                <a:lnTo>
                  <a:pt x="850" y="45"/>
                </a:lnTo>
                <a:lnTo>
                  <a:pt x="859" y="42"/>
                </a:lnTo>
                <a:lnTo>
                  <a:pt x="865" y="39"/>
                </a:lnTo>
                <a:lnTo>
                  <a:pt x="871" y="37"/>
                </a:lnTo>
                <a:lnTo>
                  <a:pt x="880" y="34"/>
                </a:lnTo>
                <a:lnTo>
                  <a:pt x="887" y="34"/>
                </a:lnTo>
                <a:lnTo>
                  <a:pt x="899" y="28"/>
                </a:lnTo>
                <a:lnTo>
                  <a:pt x="911" y="22"/>
                </a:lnTo>
                <a:lnTo>
                  <a:pt x="927" y="20"/>
                </a:lnTo>
                <a:lnTo>
                  <a:pt x="939" y="17"/>
                </a:lnTo>
                <a:lnTo>
                  <a:pt x="948" y="14"/>
                </a:lnTo>
                <a:lnTo>
                  <a:pt x="960" y="11"/>
                </a:lnTo>
                <a:lnTo>
                  <a:pt x="969" y="5"/>
                </a:lnTo>
                <a:lnTo>
                  <a:pt x="979" y="5"/>
                </a:lnTo>
                <a:lnTo>
                  <a:pt x="985" y="2"/>
                </a:lnTo>
                <a:lnTo>
                  <a:pt x="994" y="0"/>
                </a:lnTo>
                <a:lnTo>
                  <a:pt x="1000" y="0"/>
                </a:lnTo>
                <a:lnTo>
                  <a:pt x="1003" y="0"/>
                </a:lnTo>
                <a:lnTo>
                  <a:pt x="1012" y="0"/>
                </a:lnTo>
                <a:lnTo>
                  <a:pt x="1016" y="0"/>
                </a:lnTo>
                <a:lnTo>
                  <a:pt x="101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-266760" y="5543640"/>
            <a:ext cx="4233960" cy="904680"/>
          </a:xfrm>
          <a:custGeom>
            <a:avLst/>
            <a:gdLst/>
            <a:ahLst/>
            <a:rect l="l" t="t" r="r" b="b"/>
            <a:pathLst>
              <a:path w="2489" h="520">
                <a:moveTo>
                  <a:pt x="0" y="102"/>
                </a:moveTo>
                <a:lnTo>
                  <a:pt x="187" y="0"/>
                </a:lnTo>
                <a:lnTo>
                  <a:pt x="187" y="3"/>
                </a:lnTo>
                <a:lnTo>
                  <a:pt x="190" y="11"/>
                </a:lnTo>
                <a:lnTo>
                  <a:pt x="193" y="14"/>
                </a:lnTo>
                <a:lnTo>
                  <a:pt x="199" y="23"/>
                </a:lnTo>
                <a:lnTo>
                  <a:pt x="203" y="31"/>
                </a:lnTo>
                <a:lnTo>
                  <a:pt x="212" y="40"/>
                </a:lnTo>
                <a:lnTo>
                  <a:pt x="215" y="48"/>
                </a:lnTo>
                <a:lnTo>
                  <a:pt x="224" y="60"/>
                </a:lnTo>
                <a:lnTo>
                  <a:pt x="233" y="68"/>
                </a:lnTo>
                <a:lnTo>
                  <a:pt x="242" y="79"/>
                </a:lnTo>
                <a:lnTo>
                  <a:pt x="249" y="91"/>
                </a:lnTo>
                <a:lnTo>
                  <a:pt x="261" y="105"/>
                </a:lnTo>
                <a:lnTo>
                  <a:pt x="270" y="114"/>
                </a:lnTo>
                <a:lnTo>
                  <a:pt x="285" y="128"/>
                </a:lnTo>
                <a:lnTo>
                  <a:pt x="292" y="131"/>
                </a:lnTo>
                <a:lnTo>
                  <a:pt x="298" y="136"/>
                </a:lnTo>
                <a:lnTo>
                  <a:pt x="304" y="142"/>
                </a:lnTo>
                <a:lnTo>
                  <a:pt x="310" y="148"/>
                </a:lnTo>
                <a:lnTo>
                  <a:pt x="319" y="156"/>
                </a:lnTo>
                <a:lnTo>
                  <a:pt x="325" y="162"/>
                </a:lnTo>
                <a:lnTo>
                  <a:pt x="331" y="165"/>
                </a:lnTo>
                <a:lnTo>
                  <a:pt x="341" y="173"/>
                </a:lnTo>
                <a:lnTo>
                  <a:pt x="347" y="176"/>
                </a:lnTo>
                <a:lnTo>
                  <a:pt x="353" y="182"/>
                </a:lnTo>
                <a:lnTo>
                  <a:pt x="365" y="185"/>
                </a:lnTo>
                <a:lnTo>
                  <a:pt x="374" y="193"/>
                </a:lnTo>
                <a:lnTo>
                  <a:pt x="381" y="196"/>
                </a:lnTo>
                <a:lnTo>
                  <a:pt x="390" y="202"/>
                </a:lnTo>
                <a:lnTo>
                  <a:pt x="399" y="204"/>
                </a:lnTo>
                <a:lnTo>
                  <a:pt x="408" y="207"/>
                </a:lnTo>
                <a:lnTo>
                  <a:pt x="417" y="213"/>
                </a:lnTo>
                <a:lnTo>
                  <a:pt x="427" y="216"/>
                </a:lnTo>
                <a:lnTo>
                  <a:pt x="433" y="219"/>
                </a:lnTo>
                <a:lnTo>
                  <a:pt x="445" y="224"/>
                </a:lnTo>
                <a:lnTo>
                  <a:pt x="457" y="227"/>
                </a:lnTo>
                <a:lnTo>
                  <a:pt x="466" y="230"/>
                </a:lnTo>
                <a:lnTo>
                  <a:pt x="476" y="233"/>
                </a:lnTo>
                <a:lnTo>
                  <a:pt x="488" y="233"/>
                </a:lnTo>
                <a:lnTo>
                  <a:pt x="497" y="236"/>
                </a:lnTo>
                <a:lnTo>
                  <a:pt x="509" y="236"/>
                </a:lnTo>
                <a:lnTo>
                  <a:pt x="522" y="236"/>
                </a:lnTo>
                <a:lnTo>
                  <a:pt x="534" y="239"/>
                </a:lnTo>
                <a:lnTo>
                  <a:pt x="543" y="239"/>
                </a:lnTo>
                <a:lnTo>
                  <a:pt x="555" y="239"/>
                </a:lnTo>
                <a:lnTo>
                  <a:pt x="568" y="239"/>
                </a:lnTo>
                <a:lnTo>
                  <a:pt x="580" y="239"/>
                </a:lnTo>
                <a:lnTo>
                  <a:pt x="592" y="236"/>
                </a:lnTo>
                <a:lnTo>
                  <a:pt x="605" y="236"/>
                </a:lnTo>
                <a:lnTo>
                  <a:pt x="617" y="233"/>
                </a:lnTo>
                <a:lnTo>
                  <a:pt x="626" y="233"/>
                </a:lnTo>
                <a:lnTo>
                  <a:pt x="635" y="233"/>
                </a:lnTo>
                <a:lnTo>
                  <a:pt x="648" y="233"/>
                </a:lnTo>
                <a:lnTo>
                  <a:pt x="660" y="233"/>
                </a:lnTo>
                <a:lnTo>
                  <a:pt x="669" y="233"/>
                </a:lnTo>
                <a:lnTo>
                  <a:pt x="678" y="233"/>
                </a:lnTo>
                <a:lnTo>
                  <a:pt x="687" y="233"/>
                </a:lnTo>
                <a:lnTo>
                  <a:pt x="697" y="233"/>
                </a:lnTo>
                <a:lnTo>
                  <a:pt x="706" y="233"/>
                </a:lnTo>
                <a:lnTo>
                  <a:pt x="712" y="233"/>
                </a:lnTo>
                <a:lnTo>
                  <a:pt x="721" y="233"/>
                </a:lnTo>
                <a:lnTo>
                  <a:pt x="730" y="236"/>
                </a:lnTo>
                <a:lnTo>
                  <a:pt x="740" y="236"/>
                </a:lnTo>
                <a:lnTo>
                  <a:pt x="746" y="236"/>
                </a:lnTo>
                <a:lnTo>
                  <a:pt x="752" y="236"/>
                </a:lnTo>
                <a:lnTo>
                  <a:pt x="761" y="239"/>
                </a:lnTo>
                <a:lnTo>
                  <a:pt x="767" y="239"/>
                </a:lnTo>
                <a:lnTo>
                  <a:pt x="773" y="239"/>
                </a:lnTo>
                <a:lnTo>
                  <a:pt x="779" y="244"/>
                </a:lnTo>
                <a:lnTo>
                  <a:pt x="786" y="244"/>
                </a:lnTo>
                <a:lnTo>
                  <a:pt x="792" y="247"/>
                </a:lnTo>
                <a:lnTo>
                  <a:pt x="807" y="250"/>
                </a:lnTo>
                <a:lnTo>
                  <a:pt x="819" y="253"/>
                </a:lnTo>
                <a:lnTo>
                  <a:pt x="829" y="256"/>
                </a:lnTo>
                <a:lnTo>
                  <a:pt x="841" y="261"/>
                </a:lnTo>
                <a:lnTo>
                  <a:pt x="850" y="264"/>
                </a:lnTo>
                <a:lnTo>
                  <a:pt x="862" y="270"/>
                </a:lnTo>
                <a:lnTo>
                  <a:pt x="872" y="273"/>
                </a:lnTo>
                <a:lnTo>
                  <a:pt x="884" y="278"/>
                </a:lnTo>
                <a:lnTo>
                  <a:pt x="893" y="284"/>
                </a:lnTo>
                <a:lnTo>
                  <a:pt x="902" y="290"/>
                </a:lnTo>
                <a:lnTo>
                  <a:pt x="914" y="295"/>
                </a:lnTo>
                <a:lnTo>
                  <a:pt x="927" y="304"/>
                </a:lnTo>
                <a:lnTo>
                  <a:pt x="936" y="307"/>
                </a:lnTo>
                <a:lnTo>
                  <a:pt x="948" y="312"/>
                </a:lnTo>
                <a:lnTo>
                  <a:pt x="954" y="315"/>
                </a:lnTo>
                <a:lnTo>
                  <a:pt x="961" y="318"/>
                </a:lnTo>
                <a:lnTo>
                  <a:pt x="970" y="321"/>
                </a:lnTo>
                <a:lnTo>
                  <a:pt x="976" y="324"/>
                </a:lnTo>
                <a:lnTo>
                  <a:pt x="982" y="327"/>
                </a:lnTo>
                <a:lnTo>
                  <a:pt x="988" y="327"/>
                </a:lnTo>
                <a:lnTo>
                  <a:pt x="997" y="330"/>
                </a:lnTo>
                <a:lnTo>
                  <a:pt x="1003" y="335"/>
                </a:lnTo>
                <a:lnTo>
                  <a:pt x="1010" y="338"/>
                </a:lnTo>
                <a:lnTo>
                  <a:pt x="1019" y="338"/>
                </a:lnTo>
                <a:lnTo>
                  <a:pt x="1028" y="344"/>
                </a:lnTo>
                <a:lnTo>
                  <a:pt x="1037" y="347"/>
                </a:lnTo>
                <a:lnTo>
                  <a:pt x="1043" y="347"/>
                </a:lnTo>
                <a:lnTo>
                  <a:pt x="1053" y="349"/>
                </a:lnTo>
                <a:lnTo>
                  <a:pt x="1059" y="352"/>
                </a:lnTo>
                <a:lnTo>
                  <a:pt x="1068" y="358"/>
                </a:lnTo>
                <a:lnTo>
                  <a:pt x="1074" y="358"/>
                </a:lnTo>
                <a:lnTo>
                  <a:pt x="1083" y="364"/>
                </a:lnTo>
                <a:lnTo>
                  <a:pt x="1089" y="364"/>
                </a:lnTo>
                <a:lnTo>
                  <a:pt x="1102" y="367"/>
                </a:lnTo>
                <a:lnTo>
                  <a:pt x="1108" y="369"/>
                </a:lnTo>
                <a:lnTo>
                  <a:pt x="1114" y="372"/>
                </a:lnTo>
                <a:lnTo>
                  <a:pt x="1123" y="375"/>
                </a:lnTo>
                <a:lnTo>
                  <a:pt x="1129" y="378"/>
                </a:lnTo>
                <a:lnTo>
                  <a:pt x="1135" y="381"/>
                </a:lnTo>
                <a:lnTo>
                  <a:pt x="1145" y="384"/>
                </a:lnTo>
                <a:lnTo>
                  <a:pt x="1151" y="386"/>
                </a:lnTo>
                <a:lnTo>
                  <a:pt x="1160" y="389"/>
                </a:lnTo>
                <a:lnTo>
                  <a:pt x="1166" y="392"/>
                </a:lnTo>
                <a:lnTo>
                  <a:pt x="1175" y="395"/>
                </a:lnTo>
                <a:lnTo>
                  <a:pt x="1185" y="395"/>
                </a:lnTo>
                <a:lnTo>
                  <a:pt x="1191" y="398"/>
                </a:lnTo>
                <a:lnTo>
                  <a:pt x="1197" y="403"/>
                </a:lnTo>
                <a:lnTo>
                  <a:pt x="1206" y="403"/>
                </a:lnTo>
                <a:lnTo>
                  <a:pt x="1212" y="406"/>
                </a:lnTo>
                <a:lnTo>
                  <a:pt x="1221" y="409"/>
                </a:lnTo>
                <a:lnTo>
                  <a:pt x="1228" y="409"/>
                </a:lnTo>
                <a:lnTo>
                  <a:pt x="1237" y="415"/>
                </a:lnTo>
                <a:lnTo>
                  <a:pt x="1243" y="415"/>
                </a:lnTo>
                <a:lnTo>
                  <a:pt x="1252" y="418"/>
                </a:lnTo>
                <a:lnTo>
                  <a:pt x="1258" y="418"/>
                </a:lnTo>
                <a:lnTo>
                  <a:pt x="1264" y="423"/>
                </a:lnTo>
                <a:lnTo>
                  <a:pt x="1274" y="426"/>
                </a:lnTo>
                <a:lnTo>
                  <a:pt x="1283" y="426"/>
                </a:lnTo>
                <a:lnTo>
                  <a:pt x="1292" y="426"/>
                </a:lnTo>
                <a:lnTo>
                  <a:pt x="1298" y="429"/>
                </a:lnTo>
                <a:lnTo>
                  <a:pt x="1304" y="429"/>
                </a:lnTo>
                <a:lnTo>
                  <a:pt x="1313" y="432"/>
                </a:lnTo>
                <a:lnTo>
                  <a:pt x="1320" y="432"/>
                </a:lnTo>
                <a:lnTo>
                  <a:pt x="1329" y="435"/>
                </a:lnTo>
                <a:lnTo>
                  <a:pt x="1338" y="435"/>
                </a:lnTo>
                <a:lnTo>
                  <a:pt x="1347" y="435"/>
                </a:lnTo>
                <a:lnTo>
                  <a:pt x="1353" y="435"/>
                </a:lnTo>
                <a:lnTo>
                  <a:pt x="1363" y="435"/>
                </a:lnTo>
                <a:lnTo>
                  <a:pt x="1372" y="435"/>
                </a:lnTo>
                <a:lnTo>
                  <a:pt x="1381" y="438"/>
                </a:lnTo>
                <a:lnTo>
                  <a:pt x="1390" y="438"/>
                </a:lnTo>
                <a:lnTo>
                  <a:pt x="1402" y="438"/>
                </a:lnTo>
                <a:lnTo>
                  <a:pt x="1409" y="438"/>
                </a:lnTo>
                <a:lnTo>
                  <a:pt x="1418" y="438"/>
                </a:lnTo>
                <a:lnTo>
                  <a:pt x="1427" y="435"/>
                </a:lnTo>
                <a:lnTo>
                  <a:pt x="1436" y="435"/>
                </a:lnTo>
                <a:lnTo>
                  <a:pt x="1445" y="432"/>
                </a:lnTo>
                <a:lnTo>
                  <a:pt x="1455" y="429"/>
                </a:lnTo>
                <a:lnTo>
                  <a:pt x="1464" y="429"/>
                </a:lnTo>
                <a:lnTo>
                  <a:pt x="1476" y="426"/>
                </a:lnTo>
                <a:lnTo>
                  <a:pt x="1485" y="426"/>
                </a:lnTo>
                <a:lnTo>
                  <a:pt x="1494" y="423"/>
                </a:lnTo>
                <a:lnTo>
                  <a:pt x="1507" y="418"/>
                </a:lnTo>
                <a:lnTo>
                  <a:pt x="1516" y="418"/>
                </a:lnTo>
                <a:lnTo>
                  <a:pt x="1525" y="415"/>
                </a:lnTo>
                <a:lnTo>
                  <a:pt x="1537" y="412"/>
                </a:lnTo>
                <a:lnTo>
                  <a:pt x="1550" y="406"/>
                </a:lnTo>
                <a:lnTo>
                  <a:pt x="1562" y="403"/>
                </a:lnTo>
                <a:lnTo>
                  <a:pt x="1574" y="401"/>
                </a:lnTo>
                <a:lnTo>
                  <a:pt x="1587" y="398"/>
                </a:lnTo>
                <a:lnTo>
                  <a:pt x="1599" y="392"/>
                </a:lnTo>
                <a:lnTo>
                  <a:pt x="1605" y="386"/>
                </a:lnTo>
                <a:lnTo>
                  <a:pt x="1620" y="384"/>
                </a:lnTo>
                <a:lnTo>
                  <a:pt x="1633" y="378"/>
                </a:lnTo>
                <a:lnTo>
                  <a:pt x="1642" y="375"/>
                </a:lnTo>
                <a:lnTo>
                  <a:pt x="1654" y="369"/>
                </a:lnTo>
                <a:lnTo>
                  <a:pt x="1663" y="367"/>
                </a:lnTo>
                <a:lnTo>
                  <a:pt x="1676" y="364"/>
                </a:lnTo>
                <a:lnTo>
                  <a:pt x="1688" y="358"/>
                </a:lnTo>
                <a:lnTo>
                  <a:pt x="1700" y="352"/>
                </a:lnTo>
                <a:lnTo>
                  <a:pt x="1709" y="347"/>
                </a:lnTo>
                <a:lnTo>
                  <a:pt x="1722" y="344"/>
                </a:lnTo>
                <a:lnTo>
                  <a:pt x="1731" y="341"/>
                </a:lnTo>
                <a:lnTo>
                  <a:pt x="1743" y="335"/>
                </a:lnTo>
                <a:lnTo>
                  <a:pt x="1752" y="332"/>
                </a:lnTo>
                <a:lnTo>
                  <a:pt x="1765" y="330"/>
                </a:lnTo>
                <a:lnTo>
                  <a:pt x="1774" y="324"/>
                </a:lnTo>
                <a:lnTo>
                  <a:pt x="1783" y="321"/>
                </a:lnTo>
                <a:lnTo>
                  <a:pt x="1792" y="315"/>
                </a:lnTo>
                <a:lnTo>
                  <a:pt x="1804" y="312"/>
                </a:lnTo>
                <a:lnTo>
                  <a:pt x="1814" y="310"/>
                </a:lnTo>
                <a:lnTo>
                  <a:pt x="1823" y="307"/>
                </a:lnTo>
                <a:lnTo>
                  <a:pt x="1832" y="304"/>
                </a:lnTo>
                <a:lnTo>
                  <a:pt x="1844" y="298"/>
                </a:lnTo>
                <a:lnTo>
                  <a:pt x="1854" y="295"/>
                </a:lnTo>
                <a:lnTo>
                  <a:pt x="1863" y="290"/>
                </a:lnTo>
                <a:lnTo>
                  <a:pt x="1872" y="287"/>
                </a:lnTo>
                <a:lnTo>
                  <a:pt x="1881" y="284"/>
                </a:lnTo>
                <a:lnTo>
                  <a:pt x="1887" y="278"/>
                </a:lnTo>
                <a:lnTo>
                  <a:pt x="1900" y="276"/>
                </a:lnTo>
                <a:lnTo>
                  <a:pt x="1909" y="273"/>
                </a:lnTo>
                <a:lnTo>
                  <a:pt x="1918" y="273"/>
                </a:lnTo>
                <a:lnTo>
                  <a:pt x="1927" y="267"/>
                </a:lnTo>
                <a:lnTo>
                  <a:pt x="1936" y="264"/>
                </a:lnTo>
                <a:lnTo>
                  <a:pt x="1943" y="261"/>
                </a:lnTo>
                <a:lnTo>
                  <a:pt x="1952" y="258"/>
                </a:lnTo>
                <a:lnTo>
                  <a:pt x="1961" y="256"/>
                </a:lnTo>
                <a:lnTo>
                  <a:pt x="1970" y="253"/>
                </a:lnTo>
                <a:lnTo>
                  <a:pt x="1976" y="250"/>
                </a:lnTo>
                <a:lnTo>
                  <a:pt x="1985" y="250"/>
                </a:lnTo>
                <a:lnTo>
                  <a:pt x="1995" y="247"/>
                </a:lnTo>
                <a:lnTo>
                  <a:pt x="2001" y="244"/>
                </a:lnTo>
                <a:lnTo>
                  <a:pt x="2007" y="241"/>
                </a:lnTo>
                <a:lnTo>
                  <a:pt x="2016" y="239"/>
                </a:lnTo>
                <a:lnTo>
                  <a:pt x="2025" y="236"/>
                </a:lnTo>
                <a:lnTo>
                  <a:pt x="2032" y="236"/>
                </a:lnTo>
                <a:lnTo>
                  <a:pt x="2038" y="233"/>
                </a:lnTo>
                <a:lnTo>
                  <a:pt x="2047" y="233"/>
                </a:lnTo>
                <a:lnTo>
                  <a:pt x="2059" y="230"/>
                </a:lnTo>
                <a:lnTo>
                  <a:pt x="2071" y="227"/>
                </a:lnTo>
                <a:lnTo>
                  <a:pt x="2084" y="224"/>
                </a:lnTo>
                <a:lnTo>
                  <a:pt x="2096" y="224"/>
                </a:lnTo>
                <a:lnTo>
                  <a:pt x="2105" y="224"/>
                </a:lnTo>
                <a:lnTo>
                  <a:pt x="2117" y="224"/>
                </a:lnTo>
                <a:lnTo>
                  <a:pt x="2127" y="224"/>
                </a:lnTo>
                <a:lnTo>
                  <a:pt x="2139" y="224"/>
                </a:lnTo>
                <a:lnTo>
                  <a:pt x="2148" y="224"/>
                </a:lnTo>
                <a:lnTo>
                  <a:pt x="2157" y="224"/>
                </a:lnTo>
                <a:lnTo>
                  <a:pt x="2167" y="224"/>
                </a:lnTo>
                <a:lnTo>
                  <a:pt x="2176" y="224"/>
                </a:lnTo>
                <a:lnTo>
                  <a:pt x="2185" y="224"/>
                </a:lnTo>
                <a:lnTo>
                  <a:pt x="2194" y="227"/>
                </a:lnTo>
                <a:lnTo>
                  <a:pt x="2203" y="227"/>
                </a:lnTo>
                <a:lnTo>
                  <a:pt x="2216" y="227"/>
                </a:lnTo>
                <a:lnTo>
                  <a:pt x="2225" y="227"/>
                </a:lnTo>
                <a:lnTo>
                  <a:pt x="2234" y="227"/>
                </a:lnTo>
                <a:lnTo>
                  <a:pt x="2243" y="227"/>
                </a:lnTo>
                <a:lnTo>
                  <a:pt x="2252" y="227"/>
                </a:lnTo>
                <a:lnTo>
                  <a:pt x="2262" y="227"/>
                </a:lnTo>
                <a:lnTo>
                  <a:pt x="2268" y="227"/>
                </a:lnTo>
                <a:lnTo>
                  <a:pt x="2280" y="227"/>
                </a:lnTo>
                <a:lnTo>
                  <a:pt x="2289" y="227"/>
                </a:lnTo>
                <a:lnTo>
                  <a:pt x="2295" y="227"/>
                </a:lnTo>
                <a:lnTo>
                  <a:pt x="2302" y="227"/>
                </a:lnTo>
                <a:lnTo>
                  <a:pt x="2311" y="227"/>
                </a:lnTo>
                <a:lnTo>
                  <a:pt x="2317" y="227"/>
                </a:lnTo>
                <a:lnTo>
                  <a:pt x="2332" y="227"/>
                </a:lnTo>
                <a:lnTo>
                  <a:pt x="2341" y="227"/>
                </a:lnTo>
                <a:lnTo>
                  <a:pt x="2351" y="227"/>
                </a:lnTo>
                <a:lnTo>
                  <a:pt x="2360" y="227"/>
                </a:lnTo>
                <a:lnTo>
                  <a:pt x="2363" y="227"/>
                </a:lnTo>
                <a:lnTo>
                  <a:pt x="2366" y="227"/>
                </a:lnTo>
                <a:lnTo>
                  <a:pt x="2489" y="318"/>
                </a:lnTo>
                <a:lnTo>
                  <a:pt x="2486" y="318"/>
                </a:lnTo>
                <a:lnTo>
                  <a:pt x="2483" y="321"/>
                </a:lnTo>
                <a:lnTo>
                  <a:pt x="2476" y="327"/>
                </a:lnTo>
                <a:lnTo>
                  <a:pt x="2470" y="332"/>
                </a:lnTo>
                <a:lnTo>
                  <a:pt x="2458" y="338"/>
                </a:lnTo>
                <a:lnTo>
                  <a:pt x="2449" y="347"/>
                </a:lnTo>
                <a:lnTo>
                  <a:pt x="2443" y="349"/>
                </a:lnTo>
                <a:lnTo>
                  <a:pt x="2434" y="355"/>
                </a:lnTo>
                <a:lnTo>
                  <a:pt x="2427" y="358"/>
                </a:lnTo>
                <a:lnTo>
                  <a:pt x="2421" y="367"/>
                </a:lnTo>
                <a:lnTo>
                  <a:pt x="2412" y="369"/>
                </a:lnTo>
                <a:lnTo>
                  <a:pt x="2403" y="372"/>
                </a:lnTo>
                <a:lnTo>
                  <a:pt x="2394" y="375"/>
                </a:lnTo>
                <a:lnTo>
                  <a:pt x="2387" y="381"/>
                </a:lnTo>
                <a:lnTo>
                  <a:pt x="2375" y="384"/>
                </a:lnTo>
                <a:lnTo>
                  <a:pt x="2366" y="386"/>
                </a:lnTo>
                <a:lnTo>
                  <a:pt x="2357" y="389"/>
                </a:lnTo>
                <a:lnTo>
                  <a:pt x="2345" y="395"/>
                </a:lnTo>
                <a:lnTo>
                  <a:pt x="2335" y="395"/>
                </a:lnTo>
                <a:lnTo>
                  <a:pt x="2323" y="398"/>
                </a:lnTo>
                <a:lnTo>
                  <a:pt x="2314" y="398"/>
                </a:lnTo>
                <a:lnTo>
                  <a:pt x="2302" y="403"/>
                </a:lnTo>
                <a:lnTo>
                  <a:pt x="2292" y="403"/>
                </a:lnTo>
                <a:lnTo>
                  <a:pt x="2280" y="403"/>
                </a:lnTo>
                <a:lnTo>
                  <a:pt x="2268" y="403"/>
                </a:lnTo>
                <a:lnTo>
                  <a:pt x="2256" y="403"/>
                </a:lnTo>
                <a:lnTo>
                  <a:pt x="2243" y="401"/>
                </a:lnTo>
                <a:lnTo>
                  <a:pt x="2231" y="398"/>
                </a:lnTo>
                <a:lnTo>
                  <a:pt x="2219" y="398"/>
                </a:lnTo>
                <a:lnTo>
                  <a:pt x="2206" y="398"/>
                </a:lnTo>
                <a:lnTo>
                  <a:pt x="2191" y="395"/>
                </a:lnTo>
                <a:lnTo>
                  <a:pt x="2179" y="395"/>
                </a:lnTo>
                <a:lnTo>
                  <a:pt x="2167" y="392"/>
                </a:lnTo>
                <a:lnTo>
                  <a:pt x="2154" y="392"/>
                </a:lnTo>
                <a:lnTo>
                  <a:pt x="2148" y="392"/>
                </a:lnTo>
                <a:lnTo>
                  <a:pt x="2139" y="392"/>
                </a:lnTo>
                <a:lnTo>
                  <a:pt x="2133" y="389"/>
                </a:lnTo>
                <a:lnTo>
                  <a:pt x="2127" y="389"/>
                </a:lnTo>
                <a:lnTo>
                  <a:pt x="2117" y="389"/>
                </a:lnTo>
                <a:lnTo>
                  <a:pt x="2111" y="389"/>
                </a:lnTo>
                <a:lnTo>
                  <a:pt x="2105" y="389"/>
                </a:lnTo>
                <a:lnTo>
                  <a:pt x="2099" y="389"/>
                </a:lnTo>
                <a:lnTo>
                  <a:pt x="2093" y="389"/>
                </a:lnTo>
                <a:lnTo>
                  <a:pt x="2084" y="389"/>
                </a:lnTo>
                <a:lnTo>
                  <a:pt x="2078" y="389"/>
                </a:lnTo>
                <a:lnTo>
                  <a:pt x="2071" y="389"/>
                </a:lnTo>
                <a:lnTo>
                  <a:pt x="2065" y="389"/>
                </a:lnTo>
                <a:lnTo>
                  <a:pt x="2059" y="389"/>
                </a:lnTo>
                <a:lnTo>
                  <a:pt x="2050" y="389"/>
                </a:lnTo>
                <a:lnTo>
                  <a:pt x="2044" y="389"/>
                </a:lnTo>
                <a:lnTo>
                  <a:pt x="2038" y="389"/>
                </a:lnTo>
                <a:lnTo>
                  <a:pt x="2028" y="389"/>
                </a:lnTo>
                <a:lnTo>
                  <a:pt x="2022" y="389"/>
                </a:lnTo>
                <a:lnTo>
                  <a:pt x="2016" y="389"/>
                </a:lnTo>
                <a:lnTo>
                  <a:pt x="2007" y="389"/>
                </a:lnTo>
                <a:lnTo>
                  <a:pt x="2001" y="392"/>
                </a:lnTo>
                <a:lnTo>
                  <a:pt x="1995" y="392"/>
                </a:lnTo>
                <a:lnTo>
                  <a:pt x="1989" y="395"/>
                </a:lnTo>
                <a:lnTo>
                  <a:pt x="1979" y="395"/>
                </a:lnTo>
                <a:lnTo>
                  <a:pt x="1973" y="395"/>
                </a:lnTo>
                <a:lnTo>
                  <a:pt x="1964" y="395"/>
                </a:lnTo>
                <a:lnTo>
                  <a:pt x="1958" y="395"/>
                </a:lnTo>
                <a:lnTo>
                  <a:pt x="1952" y="398"/>
                </a:lnTo>
                <a:lnTo>
                  <a:pt x="1943" y="398"/>
                </a:lnTo>
                <a:lnTo>
                  <a:pt x="1936" y="398"/>
                </a:lnTo>
                <a:lnTo>
                  <a:pt x="1930" y="403"/>
                </a:lnTo>
                <a:lnTo>
                  <a:pt x="1921" y="403"/>
                </a:lnTo>
                <a:lnTo>
                  <a:pt x="1912" y="403"/>
                </a:lnTo>
                <a:lnTo>
                  <a:pt x="1906" y="406"/>
                </a:lnTo>
                <a:lnTo>
                  <a:pt x="1896" y="406"/>
                </a:lnTo>
                <a:lnTo>
                  <a:pt x="1890" y="409"/>
                </a:lnTo>
                <a:lnTo>
                  <a:pt x="1884" y="409"/>
                </a:lnTo>
                <a:lnTo>
                  <a:pt x="1875" y="412"/>
                </a:lnTo>
                <a:lnTo>
                  <a:pt x="1869" y="415"/>
                </a:lnTo>
                <a:lnTo>
                  <a:pt x="1860" y="415"/>
                </a:lnTo>
                <a:lnTo>
                  <a:pt x="1854" y="418"/>
                </a:lnTo>
                <a:lnTo>
                  <a:pt x="1844" y="421"/>
                </a:lnTo>
                <a:lnTo>
                  <a:pt x="1838" y="426"/>
                </a:lnTo>
                <a:lnTo>
                  <a:pt x="1829" y="426"/>
                </a:lnTo>
                <a:lnTo>
                  <a:pt x="1823" y="429"/>
                </a:lnTo>
                <a:lnTo>
                  <a:pt x="1817" y="435"/>
                </a:lnTo>
                <a:lnTo>
                  <a:pt x="1811" y="438"/>
                </a:lnTo>
                <a:lnTo>
                  <a:pt x="1801" y="438"/>
                </a:lnTo>
                <a:lnTo>
                  <a:pt x="1792" y="440"/>
                </a:lnTo>
                <a:lnTo>
                  <a:pt x="1786" y="443"/>
                </a:lnTo>
                <a:lnTo>
                  <a:pt x="1777" y="446"/>
                </a:lnTo>
                <a:lnTo>
                  <a:pt x="1768" y="449"/>
                </a:lnTo>
                <a:lnTo>
                  <a:pt x="1758" y="452"/>
                </a:lnTo>
                <a:lnTo>
                  <a:pt x="1755" y="455"/>
                </a:lnTo>
                <a:lnTo>
                  <a:pt x="1746" y="457"/>
                </a:lnTo>
                <a:lnTo>
                  <a:pt x="1737" y="460"/>
                </a:lnTo>
                <a:lnTo>
                  <a:pt x="1731" y="463"/>
                </a:lnTo>
                <a:lnTo>
                  <a:pt x="1722" y="466"/>
                </a:lnTo>
                <a:lnTo>
                  <a:pt x="1715" y="469"/>
                </a:lnTo>
                <a:lnTo>
                  <a:pt x="1706" y="469"/>
                </a:lnTo>
                <a:lnTo>
                  <a:pt x="1700" y="475"/>
                </a:lnTo>
                <a:lnTo>
                  <a:pt x="1694" y="477"/>
                </a:lnTo>
                <a:lnTo>
                  <a:pt x="1685" y="480"/>
                </a:lnTo>
                <a:lnTo>
                  <a:pt x="1676" y="483"/>
                </a:lnTo>
                <a:lnTo>
                  <a:pt x="1669" y="486"/>
                </a:lnTo>
                <a:lnTo>
                  <a:pt x="1660" y="486"/>
                </a:lnTo>
                <a:lnTo>
                  <a:pt x="1654" y="489"/>
                </a:lnTo>
                <a:lnTo>
                  <a:pt x="1645" y="492"/>
                </a:lnTo>
                <a:lnTo>
                  <a:pt x="1639" y="494"/>
                </a:lnTo>
                <a:lnTo>
                  <a:pt x="1630" y="497"/>
                </a:lnTo>
                <a:lnTo>
                  <a:pt x="1623" y="500"/>
                </a:lnTo>
                <a:lnTo>
                  <a:pt x="1611" y="500"/>
                </a:lnTo>
                <a:lnTo>
                  <a:pt x="1605" y="506"/>
                </a:lnTo>
                <a:lnTo>
                  <a:pt x="1599" y="506"/>
                </a:lnTo>
                <a:lnTo>
                  <a:pt x="1590" y="509"/>
                </a:lnTo>
                <a:lnTo>
                  <a:pt x="1580" y="509"/>
                </a:lnTo>
                <a:lnTo>
                  <a:pt x="1574" y="511"/>
                </a:lnTo>
                <a:lnTo>
                  <a:pt x="1565" y="514"/>
                </a:lnTo>
                <a:lnTo>
                  <a:pt x="1559" y="517"/>
                </a:lnTo>
                <a:lnTo>
                  <a:pt x="1550" y="517"/>
                </a:lnTo>
                <a:lnTo>
                  <a:pt x="1541" y="517"/>
                </a:lnTo>
                <a:lnTo>
                  <a:pt x="1531" y="517"/>
                </a:lnTo>
                <a:lnTo>
                  <a:pt x="1525" y="520"/>
                </a:lnTo>
                <a:lnTo>
                  <a:pt x="1516" y="520"/>
                </a:lnTo>
                <a:lnTo>
                  <a:pt x="1507" y="520"/>
                </a:lnTo>
                <a:lnTo>
                  <a:pt x="1501" y="520"/>
                </a:lnTo>
                <a:lnTo>
                  <a:pt x="1491" y="520"/>
                </a:lnTo>
                <a:lnTo>
                  <a:pt x="1482" y="520"/>
                </a:lnTo>
                <a:lnTo>
                  <a:pt x="1473" y="520"/>
                </a:lnTo>
                <a:lnTo>
                  <a:pt x="1464" y="520"/>
                </a:lnTo>
                <a:lnTo>
                  <a:pt x="1458" y="520"/>
                </a:lnTo>
                <a:lnTo>
                  <a:pt x="1448" y="520"/>
                </a:lnTo>
                <a:lnTo>
                  <a:pt x="1439" y="520"/>
                </a:lnTo>
                <a:lnTo>
                  <a:pt x="1430" y="520"/>
                </a:lnTo>
                <a:lnTo>
                  <a:pt x="1424" y="520"/>
                </a:lnTo>
                <a:lnTo>
                  <a:pt x="1415" y="517"/>
                </a:lnTo>
                <a:lnTo>
                  <a:pt x="1405" y="517"/>
                </a:lnTo>
                <a:lnTo>
                  <a:pt x="1396" y="517"/>
                </a:lnTo>
                <a:lnTo>
                  <a:pt x="1384" y="514"/>
                </a:lnTo>
                <a:lnTo>
                  <a:pt x="1375" y="511"/>
                </a:lnTo>
                <a:lnTo>
                  <a:pt x="1369" y="511"/>
                </a:lnTo>
                <a:lnTo>
                  <a:pt x="1359" y="509"/>
                </a:lnTo>
                <a:lnTo>
                  <a:pt x="1350" y="509"/>
                </a:lnTo>
                <a:lnTo>
                  <a:pt x="1341" y="506"/>
                </a:lnTo>
                <a:lnTo>
                  <a:pt x="1332" y="500"/>
                </a:lnTo>
                <a:lnTo>
                  <a:pt x="1320" y="497"/>
                </a:lnTo>
                <a:lnTo>
                  <a:pt x="1313" y="497"/>
                </a:lnTo>
                <a:lnTo>
                  <a:pt x="1301" y="489"/>
                </a:lnTo>
                <a:lnTo>
                  <a:pt x="1292" y="486"/>
                </a:lnTo>
                <a:lnTo>
                  <a:pt x="1283" y="483"/>
                </a:lnTo>
                <a:lnTo>
                  <a:pt x="1274" y="480"/>
                </a:lnTo>
                <a:lnTo>
                  <a:pt x="1264" y="475"/>
                </a:lnTo>
                <a:lnTo>
                  <a:pt x="1255" y="469"/>
                </a:lnTo>
                <a:lnTo>
                  <a:pt x="1243" y="466"/>
                </a:lnTo>
                <a:lnTo>
                  <a:pt x="1234" y="463"/>
                </a:lnTo>
                <a:lnTo>
                  <a:pt x="1221" y="457"/>
                </a:lnTo>
                <a:lnTo>
                  <a:pt x="1215" y="455"/>
                </a:lnTo>
                <a:lnTo>
                  <a:pt x="1203" y="449"/>
                </a:lnTo>
                <a:lnTo>
                  <a:pt x="1197" y="446"/>
                </a:lnTo>
                <a:lnTo>
                  <a:pt x="1185" y="440"/>
                </a:lnTo>
                <a:lnTo>
                  <a:pt x="1175" y="438"/>
                </a:lnTo>
                <a:lnTo>
                  <a:pt x="1166" y="432"/>
                </a:lnTo>
                <a:lnTo>
                  <a:pt x="1157" y="429"/>
                </a:lnTo>
                <a:lnTo>
                  <a:pt x="1148" y="423"/>
                </a:lnTo>
                <a:lnTo>
                  <a:pt x="1139" y="418"/>
                </a:lnTo>
                <a:lnTo>
                  <a:pt x="1129" y="415"/>
                </a:lnTo>
                <a:lnTo>
                  <a:pt x="1120" y="412"/>
                </a:lnTo>
                <a:lnTo>
                  <a:pt x="1111" y="406"/>
                </a:lnTo>
                <a:lnTo>
                  <a:pt x="1102" y="403"/>
                </a:lnTo>
                <a:lnTo>
                  <a:pt x="1089" y="398"/>
                </a:lnTo>
                <a:lnTo>
                  <a:pt x="1080" y="395"/>
                </a:lnTo>
                <a:lnTo>
                  <a:pt x="1074" y="392"/>
                </a:lnTo>
                <a:lnTo>
                  <a:pt x="1065" y="389"/>
                </a:lnTo>
                <a:lnTo>
                  <a:pt x="1056" y="386"/>
                </a:lnTo>
                <a:lnTo>
                  <a:pt x="1046" y="384"/>
                </a:lnTo>
                <a:lnTo>
                  <a:pt x="1037" y="378"/>
                </a:lnTo>
                <a:lnTo>
                  <a:pt x="1028" y="375"/>
                </a:lnTo>
                <a:lnTo>
                  <a:pt x="1019" y="372"/>
                </a:lnTo>
                <a:lnTo>
                  <a:pt x="1010" y="369"/>
                </a:lnTo>
                <a:lnTo>
                  <a:pt x="1000" y="367"/>
                </a:lnTo>
                <a:lnTo>
                  <a:pt x="994" y="364"/>
                </a:lnTo>
                <a:lnTo>
                  <a:pt x="982" y="358"/>
                </a:lnTo>
                <a:lnTo>
                  <a:pt x="976" y="358"/>
                </a:lnTo>
                <a:lnTo>
                  <a:pt x="967" y="352"/>
                </a:lnTo>
                <a:lnTo>
                  <a:pt x="957" y="349"/>
                </a:lnTo>
                <a:lnTo>
                  <a:pt x="948" y="347"/>
                </a:lnTo>
                <a:lnTo>
                  <a:pt x="939" y="344"/>
                </a:lnTo>
                <a:lnTo>
                  <a:pt x="930" y="341"/>
                </a:lnTo>
                <a:lnTo>
                  <a:pt x="924" y="338"/>
                </a:lnTo>
                <a:lnTo>
                  <a:pt x="914" y="338"/>
                </a:lnTo>
                <a:lnTo>
                  <a:pt x="905" y="335"/>
                </a:lnTo>
                <a:lnTo>
                  <a:pt x="896" y="332"/>
                </a:lnTo>
                <a:lnTo>
                  <a:pt x="890" y="330"/>
                </a:lnTo>
                <a:lnTo>
                  <a:pt x="881" y="330"/>
                </a:lnTo>
                <a:lnTo>
                  <a:pt x="868" y="327"/>
                </a:lnTo>
                <a:lnTo>
                  <a:pt x="859" y="327"/>
                </a:lnTo>
                <a:lnTo>
                  <a:pt x="853" y="327"/>
                </a:lnTo>
                <a:lnTo>
                  <a:pt x="844" y="324"/>
                </a:lnTo>
                <a:lnTo>
                  <a:pt x="838" y="324"/>
                </a:lnTo>
                <a:lnTo>
                  <a:pt x="825" y="324"/>
                </a:lnTo>
                <a:lnTo>
                  <a:pt x="819" y="324"/>
                </a:lnTo>
                <a:lnTo>
                  <a:pt x="810" y="324"/>
                </a:lnTo>
                <a:lnTo>
                  <a:pt x="801" y="324"/>
                </a:lnTo>
                <a:lnTo>
                  <a:pt x="792" y="324"/>
                </a:lnTo>
                <a:lnTo>
                  <a:pt x="783" y="324"/>
                </a:lnTo>
                <a:lnTo>
                  <a:pt x="773" y="324"/>
                </a:lnTo>
                <a:lnTo>
                  <a:pt x="767" y="324"/>
                </a:lnTo>
                <a:lnTo>
                  <a:pt x="758" y="324"/>
                </a:lnTo>
                <a:lnTo>
                  <a:pt x="749" y="324"/>
                </a:lnTo>
                <a:lnTo>
                  <a:pt x="740" y="327"/>
                </a:lnTo>
                <a:lnTo>
                  <a:pt x="733" y="327"/>
                </a:lnTo>
                <a:lnTo>
                  <a:pt x="724" y="327"/>
                </a:lnTo>
                <a:lnTo>
                  <a:pt x="715" y="330"/>
                </a:lnTo>
                <a:lnTo>
                  <a:pt x="706" y="330"/>
                </a:lnTo>
                <a:lnTo>
                  <a:pt x="697" y="335"/>
                </a:lnTo>
                <a:lnTo>
                  <a:pt x="690" y="335"/>
                </a:lnTo>
                <a:lnTo>
                  <a:pt x="681" y="338"/>
                </a:lnTo>
                <a:lnTo>
                  <a:pt x="672" y="338"/>
                </a:lnTo>
                <a:lnTo>
                  <a:pt x="663" y="341"/>
                </a:lnTo>
                <a:lnTo>
                  <a:pt x="654" y="341"/>
                </a:lnTo>
                <a:lnTo>
                  <a:pt x="648" y="344"/>
                </a:lnTo>
                <a:lnTo>
                  <a:pt x="638" y="344"/>
                </a:lnTo>
                <a:lnTo>
                  <a:pt x="629" y="347"/>
                </a:lnTo>
                <a:lnTo>
                  <a:pt x="620" y="347"/>
                </a:lnTo>
                <a:lnTo>
                  <a:pt x="614" y="349"/>
                </a:lnTo>
                <a:lnTo>
                  <a:pt x="605" y="349"/>
                </a:lnTo>
                <a:lnTo>
                  <a:pt x="598" y="349"/>
                </a:lnTo>
                <a:lnTo>
                  <a:pt x="589" y="349"/>
                </a:lnTo>
                <a:lnTo>
                  <a:pt x="583" y="355"/>
                </a:lnTo>
                <a:lnTo>
                  <a:pt x="574" y="355"/>
                </a:lnTo>
                <a:lnTo>
                  <a:pt x="568" y="358"/>
                </a:lnTo>
                <a:lnTo>
                  <a:pt x="559" y="358"/>
                </a:lnTo>
                <a:lnTo>
                  <a:pt x="552" y="358"/>
                </a:lnTo>
                <a:lnTo>
                  <a:pt x="543" y="358"/>
                </a:lnTo>
                <a:lnTo>
                  <a:pt x="537" y="358"/>
                </a:lnTo>
                <a:lnTo>
                  <a:pt x="531" y="358"/>
                </a:lnTo>
                <a:lnTo>
                  <a:pt x="522" y="361"/>
                </a:lnTo>
                <a:lnTo>
                  <a:pt x="516" y="364"/>
                </a:lnTo>
                <a:lnTo>
                  <a:pt x="506" y="364"/>
                </a:lnTo>
                <a:lnTo>
                  <a:pt x="500" y="364"/>
                </a:lnTo>
                <a:lnTo>
                  <a:pt x="494" y="364"/>
                </a:lnTo>
                <a:lnTo>
                  <a:pt x="485" y="364"/>
                </a:lnTo>
                <a:lnTo>
                  <a:pt x="479" y="364"/>
                </a:lnTo>
                <a:lnTo>
                  <a:pt x="473" y="364"/>
                </a:lnTo>
                <a:lnTo>
                  <a:pt x="466" y="364"/>
                </a:lnTo>
                <a:lnTo>
                  <a:pt x="460" y="364"/>
                </a:lnTo>
                <a:lnTo>
                  <a:pt x="454" y="367"/>
                </a:lnTo>
                <a:lnTo>
                  <a:pt x="445" y="364"/>
                </a:lnTo>
                <a:lnTo>
                  <a:pt x="439" y="364"/>
                </a:lnTo>
                <a:lnTo>
                  <a:pt x="430" y="364"/>
                </a:lnTo>
                <a:lnTo>
                  <a:pt x="423" y="364"/>
                </a:lnTo>
                <a:lnTo>
                  <a:pt x="417" y="364"/>
                </a:lnTo>
                <a:lnTo>
                  <a:pt x="411" y="364"/>
                </a:lnTo>
                <a:lnTo>
                  <a:pt x="405" y="364"/>
                </a:lnTo>
                <a:lnTo>
                  <a:pt x="399" y="364"/>
                </a:lnTo>
                <a:lnTo>
                  <a:pt x="387" y="364"/>
                </a:lnTo>
                <a:lnTo>
                  <a:pt x="374" y="361"/>
                </a:lnTo>
                <a:lnTo>
                  <a:pt x="359" y="358"/>
                </a:lnTo>
                <a:lnTo>
                  <a:pt x="347" y="358"/>
                </a:lnTo>
                <a:lnTo>
                  <a:pt x="341" y="355"/>
                </a:lnTo>
                <a:lnTo>
                  <a:pt x="331" y="355"/>
                </a:lnTo>
                <a:lnTo>
                  <a:pt x="325" y="352"/>
                </a:lnTo>
                <a:lnTo>
                  <a:pt x="322" y="352"/>
                </a:lnTo>
                <a:lnTo>
                  <a:pt x="307" y="349"/>
                </a:lnTo>
                <a:lnTo>
                  <a:pt x="298" y="349"/>
                </a:lnTo>
                <a:lnTo>
                  <a:pt x="279" y="347"/>
                </a:lnTo>
                <a:lnTo>
                  <a:pt x="270" y="344"/>
                </a:lnTo>
                <a:lnTo>
                  <a:pt x="258" y="341"/>
                </a:lnTo>
                <a:lnTo>
                  <a:pt x="246" y="338"/>
                </a:lnTo>
                <a:lnTo>
                  <a:pt x="233" y="335"/>
                </a:lnTo>
                <a:lnTo>
                  <a:pt x="221" y="330"/>
                </a:lnTo>
                <a:lnTo>
                  <a:pt x="206" y="324"/>
                </a:lnTo>
                <a:lnTo>
                  <a:pt x="193" y="318"/>
                </a:lnTo>
                <a:lnTo>
                  <a:pt x="181" y="310"/>
                </a:lnTo>
                <a:lnTo>
                  <a:pt x="169" y="304"/>
                </a:lnTo>
                <a:lnTo>
                  <a:pt x="160" y="298"/>
                </a:lnTo>
                <a:lnTo>
                  <a:pt x="147" y="290"/>
                </a:lnTo>
                <a:lnTo>
                  <a:pt x="135" y="278"/>
                </a:lnTo>
                <a:lnTo>
                  <a:pt x="123" y="270"/>
                </a:lnTo>
                <a:lnTo>
                  <a:pt x="114" y="258"/>
                </a:lnTo>
                <a:lnTo>
                  <a:pt x="104" y="250"/>
                </a:lnTo>
                <a:lnTo>
                  <a:pt x="92" y="239"/>
                </a:lnTo>
                <a:lnTo>
                  <a:pt x="83" y="230"/>
                </a:lnTo>
                <a:lnTo>
                  <a:pt x="74" y="219"/>
                </a:lnTo>
                <a:lnTo>
                  <a:pt x="68" y="207"/>
                </a:lnTo>
                <a:lnTo>
                  <a:pt x="58" y="199"/>
                </a:lnTo>
                <a:lnTo>
                  <a:pt x="49" y="187"/>
                </a:lnTo>
                <a:lnTo>
                  <a:pt x="43" y="179"/>
                </a:lnTo>
                <a:lnTo>
                  <a:pt x="37" y="168"/>
                </a:lnTo>
                <a:lnTo>
                  <a:pt x="28" y="159"/>
                </a:lnTo>
                <a:lnTo>
                  <a:pt x="25" y="150"/>
                </a:lnTo>
                <a:lnTo>
                  <a:pt x="18" y="142"/>
                </a:lnTo>
                <a:lnTo>
                  <a:pt x="15" y="133"/>
                </a:lnTo>
                <a:lnTo>
                  <a:pt x="12" y="125"/>
                </a:lnTo>
                <a:lnTo>
                  <a:pt x="6" y="122"/>
                </a:lnTo>
                <a:lnTo>
                  <a:pt x="3" y="114"/>
                </a:lnTo>
                <a:lnTo>
                  <a:pt x="3" y="111"/>
                </a:lnTo>
                <a:lnTo>
                  <a:pt x="0" y="102"/>
                </a:lnTo>
                <a:lnTo>
                  <a:pt x="0" y="102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440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ause and effect - the principle behind sim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3546000" y="4178160"/>
            <a:ext cx="666720" cy="4633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92720" y="1773360"/>
            <a:ext cx="0" cy="352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57640" y="641520"/>
            <a:ext cx="179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a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05320" y="812880"/>
            <a:ext cx="179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ff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26080" y="1270080"/>
            <a:ext cx="0" cy="4269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5110200" y="876240"/>
            <a:ext cx="666720" cy="4636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29200" y="5203800"/>
            <a:ext cx="4795560" cy="6426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to forecast the effect, we model the cause as thoroughly as we c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167360" y="1641600"/>
            <a:ext cx="4617720" cy="3444840"/>
            <a:chOff x="4167360" y="1641600"/>
            <a:chExt cx="4617720" cy="3444840"/>
          </a:xfrm>
        </p:grpSpPr>
        <p:sp>
          <p:nvSpPr>
            <p:cNvPr id="143" name=""/>
            <p:cNvSpPr/>
            <p:nvPr/>
          </p:nvSpPr>
          <p:spPr>
            <a:xfrm>
              <a:off x="4167360" y="1641600"/>
              <a:ext cx="4617720" cy="344484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42920" y="2229840"/>
              <a:ext cx="3862800" cy="2475720"/>
            </a:xfrm>
            <a:prstGeom prst="rect">
              <a:avLst/>
            </a:prstGeom>
            <a:solidFill>
              <a:srgbClr val="f8f8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47240" y="2222280"/>
              <a:ext cx="6120" cy="248328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633560" y="4696560"/>
              <a:ext cx="3882960" cy="133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42960" y="4713120"/>
              <a:ext cx="157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6200000">
              <a:off x="3620880" y="2737800"/>
              <a:ext cx="155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Flow r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34000" y="4201200"/>
              <a:ext cx="47160" cy="460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7240" y="3423600"/>
              <a:ext cx="47160" cy="450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18680" y="2965320"/>
              <a:ext cx="47160" cy="446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04800" y="2599560"/>
              <a:ext cx="47160" cy="450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82360" y="2737080"/>
              <a:ext cx="46800" cy="446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89480" y="2553480"/>
              <a:ext cx="46800" cy="446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11920" y="2644560"/>
              <a:ext cx="47160" cy="457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96240" y="2644560"/>
              <a:ext cx="46800" cy="457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66680" y="2644560"/>
              <a:ext cx="47160" cy="457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73800" y="2737080"/>
              <a:ext cx="47160" cy="446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59560" y="2781720"/>
              <a:ext cx="47160" cy="460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45680" y="3148920"/>
              <a:ext cx="47160" cy="446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52800" y="2919240"/>
              <a:ext cx="47160" cy="460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30360" y="3377520"/>
              <a:ext cx="46800" cy="457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38560" y="3286440"/>
              <a:ext cx="47160" cy="446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21440" y="3468600"/>
              <a:ext cx="47160" cy="457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00440" y="3698280"/>
              <a:ext cx="47160" cy="446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92240" y="3789360"/>
              <a:ext cx="47160" cy="460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07560" y="3605400"/>
              <a:ext cx="47160" cy="460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14680" y="3514320"/>
              <a:ext cx="47160" cy="450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50480" y="2568600"/>
              <a:ext cx="1960200" cy="2129400"/>
            </a:xfrm>
            <a:custGeom>
              <a:avLst/>
              <a:gdLst/>
              <a:ahLst/>
              <a:rect l="l" t="t" r="r" b="b"/>
              <a:pathLst>
                <a:path w="1922" h="2110">
                  <a:moveTo>
                    <a:pt x="0" y="2110"/>
                  </a:moveTo>
                  <a:lnTo>
                    <a:pt x="105" y="1639"/>
                  </a:lnTo>
                  <a:lnTo>
                    <a:pt x="194" y="866"/>
                  </a:lnTo>
                  <a:lnTo>
                    <a:pt x="283" y="415"/>
                  </a:lnTo>
                  <a:lnTo>
                    <a:pt x="374" y="98"/>
                  </a:lnTo>
                  <a:lnTo>
                    <a:pt x="468" y="50"/>
                  </a:lnTo>
                  <a:lnTo>
                    <a:pt x="559" y="91"/>
                  </a:lnTo>
                  <a:lnTo>
                    <a:pt x="648" y="0"/>
                  </a:lnTo>
                  <a:lnTo>
                    <a:pt x="741" y="192"/>
                  </a:lnTo>
                  <a:lnTo>
                    <a:pt x="825" y="187"/>
                  </a:lnTo>
                  <a:lnTo>
                    <a:pt x="921" y="98"/>
                  </a:lnTo>
                  <a:lnTo>
                    <a:pt x="1015" y="233"/>
                  </a:lnTo>
                  <a:lnTo>
                    <a:pt x="1104" y="370"/>
                  </a:lnTo>
                  <a:lnTo>
                    <a:pt x="1195" y="598"/>
                  </a:lnTo>
                  <a:lnTo>
                    <a:pt x="1286" y="730"/>
                  </a:lnTo>
                  <a:lnTo>
                    <a:pt x="1380" y="821"/>
                  </a:lnTo>
                  <a:lnTo>
                    <a:pt x="1466" y="910"/>
                  </a:lnTo>
                  <a:lnTo>
                    <a:pt x="1560" y="958"/>
                  </a:lnTo>
                  <a:lnTo>
                    <a:pt x="1649" y="1046"/>
                  </a:lnTo>
                  <a:lnTo>
                    <a:pt x="1740" y="1140"/>
                  </a:lnTo>
                  <a:lnTo>
                    <a:pt x="1829" y="1229"/>
                  </a:lnTo>
                  <a:lnTo>
                    <a:pt x="1922" y="1322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06720" y="3902760"/>
              <a:ext cx="1420200" cy="687960"/>
            </a:xfrm>
            <a:custGeom>
              <a:avLst/>
              <a:gdLst/>
              <a:ahLst/>
              <a:rect l="l" t="t" r="r" b="b"/>
              <a:pathLst>
                <a:path w="1393" h="682">
                  <a:moveTo>
                    <a:pt x="0" y="0"/>
                  </a:moveTo>
                  <a:cubicBezTo>
                    <a:pt x="32" y="26"/>
                    <a:pt x="117" y="102"/>
                    <a:pt x="190" y="157"/>
                  </a:cubicBezTo>
                  <a:cubicBezTo>
                    <a:pt x="263" y="212"/>
                    <a:pt x="349" y="274"/>
                    <a:pt x="436" y="327"/>
                  </a:cubicBezTo>
                  <a:cubicBezTo>
                    <a:pt x="523" y="380"/>
                    <a:pt x="619" y="431"/>
                    <a:pt x="711" y="474"/>
                  </a:cubicBezTo>
                  <a:cubicBezTo>
                    <a:pt x="803" y="517"/>
                    <a:pt x="876" y="548"/>
                    <a:pt x="990" y="583"/>
                  </a:cubicBezTo>
                  <a:cubicBezTo>
                    <a:pt x="1104" y="618"/>
                    <a:pt x="1309" y="662"/>
                    <a:pt x="1393" y="68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09240" y="3904200"/>
              <a:ext cx="1698480" cy="498240"/>
            </a:xfrm>
            <a:custGeom>
              <a:avLst/>
              <a:gdLst/>
              <a:ahLst/>
              <a:rect l="l" t="t" r="r" b="b"/>
              <a:pathLst>
                <a:path w="1664" h="494">
                  <a:moveTo>
                    <a:pt x="0" y="0"/>
                  </a:moveTo>
                  <a:cubicBezTo>
                    <a:pt x="43" y="23"/>
                    <a:pt x="165" y="93"/>
                    <a:pt x="259" y="136"/>
                  </a:cubicBezTo>
                  <a:cubicBezTo>
                    <a:pt x="353" y="179"/>
                    <a:pt x="448" y="218"/>
                    <a:pt x="563" y="255"/>
                  </a:cubicBezTo>
                  <a:cubicBezTo>
                    <a:pt x="679" y="293"/>
                    <a:pt x="833" y="332"/>
                    <a:pt x="947" y="361"/>
                  </a:cubicBezTo>
                  <a:cubicBezTo>
                    <a:pt x="1061" y="389"/>
                    <a:pt x="1129" y="405"/>
                    <a:pt x="1248" y="427"/>
                  </a:cubicBezTo>
                  <a:cubicBezTo>
                    <a:pt x="1367" y="449"/>
                    <a:pt x="1577" y="480"/>
                    <a:pt x="1664" y="49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14280" y="3911400"/>
              <a:ext cx="912960" cy="712080"/>
            </a:xfrm>
            <a:custGeom>
              <a:avLst/>
              <a:gdLst/>
              <a:ahLst/>
              <a:rect l="l" t="t" r="r" b="b"/>
              <a:pathLst>
                <a:path w="896" h="706">
                  <a:moveTo>
                    <a:pt x="0" y="0"/>
                  </a:moveTo>
                  <a:cubicBezTo>
                    <a:pt x="27" y="33"/>
                    <a:pt x="106" y="136"/>
                    <a:pt x="164" y="200"/>
                  </a:cubicBezTo>
                  <a:cubicBezTo>
                    <a:pt x="222" y="264"/>
                    <a:pt x="290" y="331"/>
                    <a:pt x="349" y="383"/>
                  </a:cubicBezTo>
                  <a:cubicBezTo>
                    <a:pt x="408" y="435"/>
                    <a:pt x="463" y="475"/>
                    <a:pt x="519" y="514"/>
                  </a:cubicBezTo>
                  <a:cubicBezTo>
                    <a:pt x="575" y="553"/>
                    <a:pt x="625" y="588"/>
                    <a:pt x="688" y="620"/>
                  </a:cubicBezTo>
                  <a:cubicBezTo>
                    <a:pt x="751" y="652"/>
                    <a:pt x="853" y="688"/>
                    <a:pt x="896" y="70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06200" y="1680480"/>
              <a:ext cx="38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 u="sng">
                  <a:solidFill>
                    <a:srgbClr val="0000ff"/>
                  </a:solidFill>
                  <a:uFillTx/>
                  <a:latin typeface="Arial"/>
                </a:rPr>
                <a:t>The Production Forecas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85120" y="3881520"/>
              <a:ext cx="47160" cy="450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96760" y="1877400"/>
              <a:ext cx="38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ff"/>
                  </a:solidFill>
                  <a:uFillTx/>
                  <a:latin typeface="Arial"/>
                </a:rPr>
                <a:t>Прогнозы добыч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6200000">
              <a:off x="3632760" y="3784680"/>
              <a:ext cx="155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Дебит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34720" y="4713120"/>
              <a:ext cx="157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Время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352680" y="974880"/>
            <a:ext cx="179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ч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96000" y="793800"/>
            <a:ext cx="21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едств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99240" y="1276200"/>
            <a:ext cx="0" cy="4273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08400" y="0"/>
            <a:ext cx="493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чина и следствие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нцип моделиро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57640" y="5916600"/>
            <a:ext cx="4795920" cy="58068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Для прогноза следствия мы моделируем причину как можно более тщательно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71280" y="609480"/>
            <a:ext cx="3946680" cy="5730840"/>
            <a:chOff x="71280" y="609480"/>
            <a:chExt cx="3946680" cy="5730840"/>
          </a:xfrm>
        </p:grpSpPr>
        <p:sp>
          <p:nvSpPr>
            <p:cNvPr id="184" name=""/>
            <p:cNvSpPr/>
            <p:nvPr/>
          </p:nvSpPr>
          <p:spPr>
            <a:xfrm>
              <a:off x="71280" y="2216160"/>
              <a:ext cx="3664080" cy="4124160"/>
            </a:xfrm>
            <a:custGeom>
              <a:avLst/>
              <a:gdLst/>
              <a:ahLst/>
              <a:rect l="l" t="t" r="r" b="b"/>
              <a:pathLst>
                <a:path w="2154" h="2371">
                  <a:moveTo>
                    <a:pt x="0" y="1955"/>
                  </a:moveTo>
                  <a:lnTo>
                    <a:pt x="32" y="2007"/>
                  </a:lnTo>
                  <a:lnTo>
                    <a:pt x="109" y="2077"/>
                  </a:lnTo>
                  <a:lnTo>
                    <a:pt x="173" y="2125"/>
                  </a:lnTo>
                  <a:lnTo>
                    <a:pt x="250" y="2157"/>
                  </a:lnTo>
                  <a:lnTo>
                    <a:pt x="323" y="2170"/>
                  </a:lnTo>
                  <a:lnTo>
                    <a:pt x="397" y="2170"/>
                  </a:lnTo>
                  <a:lnTo>
                    <a:pt x="503" y="2157"/>
                  </a:lnTo>
                  <a:lnTo>
                    <a:pt x="576" y="2167"/>
                  </a:lnTo>
                  <a:lnTo>
                    <a:pt x="653" y="2189"/>
                  </a:lnTo>
                  <a:lnTo>
                    <a:pt x="701" y="2211"/>
                  </a:lnTo>
                  <a:lnTo>
                    <a:pt x="794" y="2256"/>
                  </a:lnTo>
                  <a:lnTo>
                    <a:pt x="928" y="2307"/>
                  </a:lnTo>
                  <a:lnTo>
                    <a:pt x="1056" y="2349"/>
                  </a:lnTo>
                  <a:lnTo>
                    <a:pt x="1152" y="2365"/>
                  </a:lnTo>
                  <a:lnTo>
                    <a:pt x="1232" y="2371"/>
                  </a:lnTo>
                  <a:lnTo>
                    <a:pt x="1331" y="2352"/>
                  </a:lnTo>
                  <a:lnTo>
                    <a:pt x="1434" y="2311"/>
                  </a:lnTo>
                  <a:lnTo>
                    <a:pt x="1530" y="2272"/>
                  </a:lnTo>
                  <a:lnTo>
                    <a:pt x="1674" y="2218"/>
                  </a:lnTo>
                  <a:lnTo>
                    <a:pt x="1824" y="2170"/>
                  </a:lnTo>
                  <a:lnTo>
                    <a:pt x="1898" y="2151"/>
                  </a:lnTo>
                  <a:lnTo>
                    <a:pt x="2000" y="2151"/>
                  </a:lnTo>
                  <a:lnTo>
                    <a:pt x="2122" y="2154"/>
                  </a:lnTo>
                  <a:lnTo>
                    <a:pt x="2138" y="2106"/>
                  </a:lnTo>
                  <a:lnTo>
                    <a:pt x="2154" y="2032"/>
                  </a:lnTo>
                  <a:lnTo>
                    <a:pt x="2147" y="1952"/>
                  </a:lnTo>
                  <a:lnTo>
                    <a:pt x="2115" y="1882"/>
                  </a:lnTo>
                  <a:lnTo>
                    <a:pt x="2051" y="1802"/>
                  </a:lnTo>
                  <a:lnTo>
                    <a:pt x="2003" y="1735"/>
                  </a:lnTo>
                  <a:lnTo>
                    <a:pt x="1959" y="1648"/>
                  </a:lnTo>
                  <a:lnTo>
                    <a:pt x="1917" y="1514"/>
                  </a:lnTo>
                  <a:lnTo>
                    <a:pt x="1901" y="1379"/>
                  </a:lnTo>
                  <a:lnTo>
                    <a:pt x="1901" y="1280"/>
                  </a:lnTo>
                  <a:lnTo>
                    <a:pt x="1920" y="1187"/>
                  </a:lnTo>
                  <a:lnTo>
                    <a:pt x="1946" y="1098"/>
                  </a:lnTo>
                  <a:lnTo>
                    <a:pt x="1968" y="995"/>
                  </a:lnTo>
                  <a:lnTo>
                    <a:pt x="2007" y="858"/>
                  </a:lnTo>
                  <a:lnTo>
                    <a:pt x="2029" y="707"/>
                  </a:lnTo>
                  <a:lnTo>
                    <a:pt x="2042" y="573"/>
                  </a:lnTo>
                  <a:lnTo>
                    <a:pt x="2032" y="458"/>
                  </a:lnTo>
                  <a:lnTo>
                    <a:pt x="2003" y="327"/>
                  </a:lnTo>
                  <a:lnTo>
                    <a:pt x="1968" y="234"/>
                  </a:lnTo>
                  <a:lnTo>
                    <a:pt x="1885" y="135"/>
                  </a:lnTo>
                  <a:lnTo>
                    <a:pt x="1751" y="48"/>
                  </a:lnTo>
                  <a:lnTo>
                    <a:pt x="1639" y="19"/>
                  </a:lnTo>
                  <a:lnTo>
                    <a:pt x="1565" y="19"/>
                  </a:lnTo>
                  <a:lnTo>
                    <a:pt x="1485" y="23"/>
                  </a:lnTo>
                  <a:lnTo>
                    <a:pt x="1383" y="16"/>
                  </a:lnTo>
                  <a:lnTo>
                    <a:pt x="1319" y="0"/>
                  </a:lnTo>
                  <a:lnTo>
                    <a:pt x="1213" y="3"/>
                  </a:lnTo>
                  <a:lnTo>
                    <a:pt x="1107" y="13"/>
                  </a:lnTo>
                  <a:lnTo>
                    <a:pt x="1008" y="16"/>
                  </a:lnTo>
                  <a:lnTo>
                    <a:pt x="880" y="3"/>
                  </a:lnTo>
                  <a:lnTo>
                    <a:pt x="791" y="3"/>
                  </a:lnTo>
                  <a:lnTo>
                    <a:pt x="704" y="23"/>
                  </a:lnTo>
                  <a:lnTo>
                    <a:pt x="615" y="67"/>
                  </a:lnTo>
                  <a:lnTo>
                    <a:pt x="535" y="128"/>
                  </a:lnTo>
                  <a:lnTo>
                    <a:pt x="474" y="192"/>
                  </a:lnTo>
                  <a:lnTo>
                    <a:pt x="384" y="301"/>
                  </a:lnTo>
                  <a:lnTo>
                    <a:pt x="320" y="391"/>
                  </a:lnTo>
                  <a:lnTo>
                    <a:pt x="272" y="474"/>
                  </a:lnTo>
                  <a:lnTo>
                    <a:pt x="221" y="570"/>
                  </a:lnTo>
                  <a:lnTo>
                    <a:pt x="179" y="695"/>
                  </a:lnTo>
                  <a:lnTo>
                    <a:pt x="167" y="816"/>
                  </a:lnTo>
                  <a:lnTo>
                    <a:pt x="173" y="909"/>
                  </a:lnTo>
                  <a:lnTo>
                    <a:pt x="186" y="1031"/>
                  </a:lnTo>
                  <a:lnTo>
                    <a:pt x="205" y="1155"/>
                  </a:lnTo>
                  <a:lnTo>
                    <a:pt x="218" y="1261"/>
                  </a:lnTo>
                  <a:lnTo>
                    <a:pt x="221" y="1373"/>
                  </a:lnTo>
                  <a:lnTo>
                    <a:pt x="218" y="1501"/>
                  </a:lnTo>
                  <a:lnTo>
                    <a:pt x="195" y="1661"/>
                  </a:lnTo>
                  <a:lnTo>
                    <a:pt x="163" y="1744"/>
                  </a:lnTo>
                  <a:lnTo>
                    <a:pt x="103" y="1831"/>
                  </a:lnTo>
                  <a:lnTo>
                    <a:pt x="26" y="1914"/>
                  </a:lnTo>
                  <a:lnTo>
                    <a:pt x="0" y="195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03360" y="642960"/>
              <a:ext cx="1382760" cy="1485720"/>
            </a:xfrm>
            <a:custGeom>
              <a:avLst/>
              <a:gdLst/>
              <a:ahLst/>
              <a:rect l="l" t="t" r="r" b="b"/>
              <a:pathLst>
                <a:path w="813" h="854">
                  <a:moveTo>
                    <a:pt x="134" y="739"/>
                  </a:moveTo>
                  <a:lnTo>
                    <a:pt x="169" y="768"/>
                  </a:lnTo>
                  <a:lnTo>
                    <a:pt x="192" y="793"/>
                  </a:lnTo>
                  <a:lnTo>
                    <a:pt x="230" y="828"/>
                  </a:lnTo>
                  <a:lnTo>
                    <a:pt x="253" y="848"/>
                  </a:lnTo>
                  <a:lnTo>
                    <a:pt x="313" y="851"/>
                  </a:lnTo>
                  <a:lnTo>
                    <a:pt x="397" y="854"/>
                  </a:lnTo>
                  <a:lnTo>
                    <a:pt x="473" y="848"/>
                  </a:lnTo>
                  <a:lnTo>
                    <a:pt x="550" y="825"/>
                  </a:lnTo>
                  <a:lnTo>
                    <a:pt x="553" y="774"/>
                  </a:lnTo>
                  <a:lnTo>
                    <a:pt x="576" y="700"/>
                  </a:lnTo>
                  <a:lnTo>
                    <a:pt x="598" y="636"/>
                  </a:lnTo>
                  <a:lnTo>
                    <a:pt x="633" y="569"/>
                  </a:lnTo>
                  <a:lnTo>
                    <a:pt x="678" y="505"/>
                  </a:lnTo>
                  <a:lnTo>
                    <a:pt x="717" y="438"/>
                  </a:lnTo>
                  <a:lnTo>
                    <a:pt x="758" y="345"/>
                  </a:lnTo>
                  <a:lnTo>
                    <a:pt x="784" y="268"/>
                  </a:lnTo>
                  <a:lnTo>
                    <a:pt x="806" y="204"/>
                  </a:lnTo>
                  <a:lnTo>
                    <a:pt x="813" y="169"/>
                  </a:lnTo>
                  <a:lnTo>
                    <a:pt x="813" y="150"/>
                  </a:lnTo>
                  <a:lnTo>
                    <a:pt x="790" y="166"/>
                  </a:lnTo>
                  <a:lnTo>
                    <a:pt x="755" y="201"/>
                  </a:lnTo>
                  <a:lnTo>
                    <a:pt x="704" y="268"/>
                  </a:lnTo>
                  <a:lnTo>
                    <a:pt x="665" y="307"/>
                  </a:lnTo>
                  <a:lnTo>
                    <a:pt x="598" y="358"/>
                  </a:lnTo>
                  <a:lnTo>
                    <a:pt x="563" y="384"/>
                  </a:lnTo>
                  <a:lnTo>
                    <a:pt x="531" y="358"/>
                  </a:lnTo>
                  <a:lnTo>
                    <a:pt x="483" y="316"/>
                  </a:lnTo>
                  <a:lnTo>
                    <a:pt x="451" y="262"/>
                  </a:lnTo>
                  <a:lnTo>
                    <a:pt x="445" y="188"/>
                  </a:lnTo>
                  <a:lnTo>
                    <a:pt x="422" y="64"/>
                  </a:lnTo>
                  <a:lnTo>
                    <a:pt x="413" y="16"/>
                  </a:lnTo>
                  <a:lnTo>
                    <a:pt x="400" y="0"/>
                  </a:lnTo>
                  <a:lnTo>
                    <a:pt x="384" y="16"/>
                  </a:lnTo>
                  <a:lnTo>
                    <a:pt x="352" y="80"/>
                  </a:lnTo>
                  <a:lnTo>
                    <a:pt x="310" y="166"/>
                  </a:lnTo>
                  <a:lnTo>
                    <a:pt x="275" y="224"/>
                  </a:lnTo>
                  <a:lnTo>
                    <a:pt x="240" y="249"/>
                  </a:lnTo>
                  <a:lnTo>
                    <a:pt x="192" y="249"/>
                  </a:lnTo>
                  <a:lnTo>
                    <a:pt x="121" y="240"/>
                  </a:lnTo>
                  <a:lnTo>
                    <a:pt x="67" y="224"/>
                  </a:lnTo>
                  <a:lnTo>
                    <a:pt x="25" y="214"/>
                  </a:lnTo>
                  <a:lnTo>
                    <a:pt x="0" y="217"/>
                  </a:lnTo>
                  <a:lnTo>
                    <a:pt x="0" y="256"/>
                  </a:lnTo>
                  <a:lnTo>
                    <a:pt x="0" y="345"/>
                  </a:lnTo>
                  <a:lnTo>
                    <a:pt x="16" y="464"/>
                  </a:lnTo>
                  <a:lnTo>
                    <a:pt x="29" y="508"/>
                  </a:lnTo>
                  <a:lnTo>
                    <a:pt x="64" y="553"/>
                  </a:lnTo>
                  <a:lnTo>
                    <a:pt x="131" y="611"/>
                  </a:lnTo>
                  <a:lnTo>
                    <a:pt x="153" y="659"/>
                  </a:lnTo>
                  <a:lnTo>
                    <a:pt x="173" y="716"/>
                  </a:lnTo>
                  <a:lnTo>
                    <a:pt x="134" y="739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43160" y="609480"/>
              <a:ext cx="777960" cy="1501920"/>
            </a:xfrm>
            <a:custGeom>
              <a:avLst/>
              <a:gdLst/>
              <a:ahLst/>
              <a:rect l="l" t="t" r="r" b="b"/>
              <a:pathLst>
                <a:path w="457" h="864">
                  <a:moveTo>
                    <a:pt x="0" y="296"/>
                  </a:moveTo>
                  <a:lnTo>
                    <a:pt x="3" y="296"/>
                  </a:lnTo>
                  <a:lnTo>
                    <a:pt x="6" y="290"/>
                  </a:lnTo>
                  <a:lnTo>
                    <a:pt x="15" y="281"/>
                  </a:lnTo>
                  <a:lnTo>
                    <a:pt x="28" y="273"/>
                  </a:lnTo>
                  <a:lnTo>
                    <a:pt x="31" y="267"/>
                  </a:lnTo>
                  <a:lnTo>
                    <a:pt x="40" y="259"/>
                  </a:lnTo>
                  <a:lnTo>
                    <a:pt x="49" y="253"/>
                  </a:lnTo>
                  <a:lnTo>
                    <a:pt x="58" y="244"/>
                  </a:lnTo>
                  <a:lnTo>
                    <a:pt x="65" y="239"/>
                  </a:lnTo>
                  <a:lnTo>
                    <a:pt x="74" y="233"/>
                  </a:lnTo>
                  <a:lnTo>
                    <a:pt x="86" y="225"/>
                  </a:lnTo>
                  <a:lnTo>
                    <a:pt x="95" y="216"/>
                  </a:lnTo>
                  <a:lnTo>
                    <a:pt x="104" y="207"/>
                  </a:lnTo>
                  <a:lnTo>
                    <a:pt x="114" y="202"/>
                  </a:lnTo>
                  <a:lnTo>
                    <a:pt x="123" y="193"/>
                  </a:lnTo>
                  <a:lnTo>
                    <a:pt x="135" y="185"/>
                  </a:lnTo>
                  <a:lnTo>
                    <a:pt x="147" y="173"/>
                  </a:lnTo>
                  <a:lnTo>
                    <a:pt x="157" y="168"/>
                  </a:lnTo>
                  <a:lnTo>
                    <a:pt x="166" y="162"/>
                  </a:lnTo>
                  <a:lnTo>
                    <a:pt x="178" y="153"/>
                  </a:lnTo>
                  <a:lnTo>
                    <a:pt x="184" y="145"/>
                  </a:lnTo>
                  <a:lnTo>
                    <a:pt x="193" y="139"/>
                  </a:lnTo>
                  <a:lnTo>
                    <a:pt x="203" y="134"/>
                  </a:lnTo>
                  <a:lnTo>
                    <a:pt x="215" y="128"/>
                  </a:lnTo>
                  <a:lnTo>
                    <a:pt x="221" y="119"/>
                  </a:lnTo>
                  <a:lnTo>
                    <a:pt x="230" y="114"/>
                  </a:lnTo>
                  <a:lnTo>
                    <a:pt x="236" y="111"/>
                  </a:lnTo>
                  <a:lnTo>
                    <a:pt x="246" y="108"/>
                  </a:lnTo>
                  <a:lnTo>
                    <a:pt x="258" y="99"/>
                  </a:lnTo>
                  <a:lnTo>
                    <a:pt x="270" y="91"/>
                  </a:lnTo>
                  <a:lnTo>
                    <a:pt x="276" y="85"/>
                  </a:lnTo>
                  <a:lnTo>
                    <a:pt x="282" y="82"/>
                  </a:lnTo>
                  <a:lnTo>
                    <a:pt x="292" y="77"/>
                  </a:lnTo>
                  <a:lnTo>
                    <a:pt x="298" y="74"/>
                  </a:lnTo>
                  <a:lnTo>
                    <a:pt x="310" y="62"/>
                  </a:lnTo>
                  <a:lnTo>
                    <a:pt x="322" y="51"/>
                  </a:lnTo>
                  <a:lnTo>
                    <a:pt x="335" y="43"/>
                  </a:lnTo>
                  <a:lnTo>
                    <a:pt x="347" y="34"/>
                  </a:lnTo>
                  <a:lnTo>
                    <a:pt x="356" y="26"/>
                  </a:lnTo>
                  <a:lnTo>
                    <a:pt x="368" y="20"/>
                  </a:lnTo>
                  <a:lnTo>
                    <a:pt x="381" y="11"/>
                  </a:lnTo>
                  <a:lnTo>
                    <a:pt x="390" y="8"/>
                  </a:lnTo>
                  <a:lnTo>
                    <a:pt x="399" y="3"/>
                  </a:lnTo>
                  <a:lnTo>
                    <a:pt x="408" y="3"/>
                  </a:lnTo>
                  <a:lnTo>
                    <a:pt x="417" y="0"/>
                  </a:lnTo>
                  <a:lnTo>
                    <a:pt x="427" y="3"/>
                  </a:lnTo>
                  <a:lnTo>
                    <a:pt x="436" y="3"/>
                  </a:lnTo>
                  <a:lnTo>
                    <a:pt x="442" y="6"/>
                  </a:lnTo>
                  <a:lnTo>
                    <a:pt x="445" y="8"/>
                  </a:lnTo>
                  <a:lnTo>
                    <a:pt x="451" y="11"/>
                  </a:lnTo>
                  <a:lnTo>
                    <a:pt x="454" y="17"/>
                  </a:lnTo>
                  <a:lnTo>
                    <a:pt x="457" y="26"/>
                  </a:lnTo>
                  <a:lnTo>
                    <a:pt x="457" y="34"/>
                  </a:lnTo>
                  <a:lnTo>
                    <a:pt x="457" y="43"/>
                  </a:lnTo>
                  <a:lnTo>
                    <a:pt x="454" y="54"/>
                  </a:lnTo>
                  <a:lnTo>
                    <a:pt x="454" y="65"/>
                  </a:lnTo>
                  <a:lnTo>
                    <a:pt x="451" y="65"/>
                  </a:lnTo>
                  <a:lnTo>
                    <a:pt x="451" y="74"/>
                  </a:lnTo>
                  <a:lnTo>
                    <a:pt x="445" y="80"/>
                  </a:lnTo>
                  <a:lnTo>
                    <a:pt x="445" y="85"/>
                  </a:lnTo>
                  <a:lnTo>
                    <a:pt x="442" y="94"/>
                  </a:lnTo>
                  <a:lnTo>
                    <a:pt x="442" y="105"/>
                  </a:lnTo>
                  <a:lnTo>
                    <a:pt x="436" y="111"/>
                  </a:lnTo>
                  <a:lnTo>
                    <a:pt x="436" y="117"/>
                  </a:lnTo>
                  <a:lnTo>
                    <a:pt x="436" y="125"/>
                  </a:lnTo>
                  <a:lnTo>
                    <a:pt x="433" y="131"/>
                  </a:lnTo>
                  <a:lnTo>
                    <a:pt x="430" y="136"/>
                  </a:lnTo>
                  <a:lnTo>
                    <a:pt x="427" y="142"/>
                  </a:lnTo>
                  <a:lnTo>
                    <a:pt x="424" y="151"/>
                  </a:lnTo>
                  <a:lnTo>
                    <a:pt x="424" y="156"/>
                  </a:lnTo>
                  <a:lnTo>
                    <a:pt x="420" y="165"/>
                  </a:lnTo>
                  <a:lnTo>
                    <a:pt x="420" y="171"/>
                  </a:lnTo>
                  <a:lnTo>
                    <a:pt x="417" y="179"/>
                  </a:lnTo>
                  <a:lnTo>
                    <a:pt x="417" y="188"/>
                  </a:lnTo>
                  <a:lnTo>
                    <a:pt x="411" y="196"/>
                  </a:lnTo>
                  <a:lnTo>
                    <a:pt x="411" y="205"/>
                  </a:lnTo>
                  <a:lnTo>
                    <a:pt x="408" y="213"/>
                  </a:lnTo>
                  <a:lnTo>
                    <a:pt x="405" y="222"/>
                  </a:lnTo>
                  <a:lnTo>
                    <a:pt x="402" y="227"/>
                  </a:lnTo>
                  <a:lnTo>
                    <a:pt x="402" y="239"/>
                  </a:lnTo>
                  <a:lnTo>
                    <a:pt x="399" y="244"/>
                  </a:lnTo>
                  <a:lnTo>
                    <a:pt x="399" y="256"/>
                  </a:lnTo>
                  <a:lnTo>
                    <a:pt x="396" y="264"/>
                  </a:lnTo>
                  <a:lnTo>
                    <a:pt x="390" y="273"/>
                  </a:lnTo>
                  <a:lnTo>
                    <a:pt x="390" y="281"/>
                  </a:lnTo>
                  <a:lnTo>
                    <a:pt x="387" y="290"/>
                  </a:lnTo>
                  <a:lnTo>
                    <a:pt x="384" y="298"/>
                  </a:lnTo>
                  <a:lnTo>
                    <a:pt x="381" y="307"/>
                  </a:lnTo>
                  <a:lnTo>
                    <a:pt x="381" y="315"/>
                  </a:lnTo>
                  <a:lnTo>
                    <a:pt x="378" y="327"/>
                  </a:lnTo>
                  <a:lnTo>
                    <a:pt x="374" y="335"/>
                  </a:lnTo>
                  <a:lnTo>
                    <a:pt x="374" y="344"/>
                  </a:lnTo>
                  <a:lnTo>
                    <a:pt x="368" y="350"/>
                  </a:lnTo>
                  <a:lnTo>
                    <a:pt x="368" y="358"/>
                  </a:lnTo>
                  <a:lnTo>
                    <a:pt x="365" y="367"/>
                  </a:lnTo>
                  <a:lnTo>
                    <a:pt x="365" y="375"/>
                  </a:lnTo>
                  <a:lnTo>
                    <a:pt x="362" y="384"/>
                  </a:lnTo>
                  <a:lnTo>
                    <a:pt x="362" y="392"/>
                  </a:lnTo>
                  <a:lnTo>
                    <a:pt x="359" y="401"/>
                  </a:lnTo>
                  <a:lnTo>
                    <a:pt x="356" y="406"/>
                  </a:lnTo>
                  <a:lnTo>
                    <a:pt x="353" y="415"/>
                  </a:lnTo>
                  <a:lnTo>
                    <a:pt x="353" y="423"/>
                  </a:lnTo>
                  <a:lnTo>
                    <a:pt x="350" y="429"/>
                  </a:lnTo>
                  <a:lnTo>
                    <a:pt x="350" y="435"/>
                  </a:lnTo>
                  <a:lnTo>
                    <a:pt x="347" y="443"/>
                  </a:lnTo>
                  <a:lnTo>
                    <a:pt x="347" y="449"/>
                  </a:lnTo>
                  <a:lnTo>
                    <a:pt x="344" y="458"/>
                  </a:lnTo>
                  <a:lnTo>
                    <a:pt x="344" y="472"/>
                  </a:lnTo>
                  <a:lnTo>
                    <a:pt x="344" y="480"/>
                  </a:lnTo>
                  <a:lnTo>
                    <a:pt x="344" y="489"/>
                  </a:lnTo>
                  <a:lnTo>
                    <a:pt x="341" y="497"/>
                  </a:lnTo>
                  <a:lnTo>
                    <a:pt x="341" y="506"/>
                  </a:lnTo>
                  <a:lnTo>
                    <a:pt x="338" y="514"/>
                  </a:lnTo>
                  <a:lnTo>
                    <a:pt x="338" y="526"/>
                  </a:lnTo>
                  <a:lnTo>
                    <a:pt x="335" y="537"/>
                  </a:lnTo>
                  <a:lnTo>
                    <a:pt x="335" y="549"/>
                  </a:lnTo>
                  <a:lnTo>
                    <a:pt x="335" y="551"/>
                  </a:lnTo>
                  <a:lnTo>
                    <a:pt x="335" y="560"/>
                  </a:lnTo>
                  <a:lnTo>
                    <a:pt x="332" y="566"/>
                  </a:lnTo>
                  <a:lnTo>
                    <a:pt x="332" y="571"/>
                  </a:lnTo>
                  <a:lnTo>
                    <a:pt x="328" y="577"/>
                  </a:lnTo>
                  <a:lnTo>
                    <a:pt x="328" y="586"/>
                  </a:lnTo>
                  <a:lnTo>
                    <a:pt x="325" y="591"/>
                  </a:lnTo>
                  <a:lnTo>
                    <a:pt x="325" y="597"/>
                  </a:lnTo>
                  <a:lnTo>
                    <a:pt x="325" y="605"/>
                  </a:lnTo>
                  <a:lnTo>
                    <a:pt x="325" y="611"/>
                  </a:lnTo>
                  <a:lnTo>
                    <a:pt x="322" y="620"/>
                  </a:lnTo>
                  <a:lnTo>
                    <a:pt x="322" y="625"/>
                  </a:lnTo>
                  <a:lnTo>
                    <a:pt x="322" y="631"/>
                  </a:lnTo>
                  <a:lnTo>
                    <a:pt x="322" y="640"/>
                  </a:lnTo>
                  <a:lnTo>
                    <a:pt x="316" y="645"/>
                  </a:lnTo>
                  <a:lnTo>
                    <a:pt x="316" y="654"/>
                  </a:lnTo>
                  <a:lnTo>
                    <a:pt x="316" y="659"/>
                  </a:lnTo>
                  <a:lnTo>
                    <a:pt x="316" y="668"/>
                  </a:lnTo>
                  <a:lnTo>
                    <a:pt x="316" y="674"/>
                  </a:lnTo>
                  <a:lnTo>
                    <a:pt x="316" y="682"/>
                  </a:lnTo>
                  <a:lnTo>
                    <a:pt x="313" y="691"/>
                  </a:lnTo>
                  <a:lnTo>
                    <a:pt x="310" y="696"/>
                  </a:lnTo>
                  <a:lnTo>
                    <a:pt x="310" y="702"/>
                  </a:lnTo>
                  <a:lnTo>
                    <a:pt x="310" y="711"/>
                  </a:lnTo>
                  <a:lnTo>
                    <a:pt x="307" y="716"/>
                  </a:lnTo>
                  <a:lnTo>
                    <a:pt x="304" y="722"/>
                  </a:lnTo>
                  <a:lnTo>
                    <a:pt x="304" y="730"/>
                  </a:lnTo>
                  <a:lnTo>
                    <a:pt x="304" y="739"/>
                  </a:lnTo>
                  <a:lnTo>
                    <a:pt x="301" y="745"/>
                  </a:lnTo>
                  <a:lnTo>
                    <a:pt x="301" y="750"/>
                  </a:lnTo>
                  <a:lnTo>
                    <a:pt x="298" y="759"/>
                  </a:lnTo>
                  <a:lnTo>
                    <a:pt x="295" y="765"/>
                  </a:lnTo>
                  <a:lnTo>
                    <a:pt x="292" y="770"/>
                  </a:lnTo>
                  <a:lnTo>
                    <a:pt x="292" y="776"/>
                  </a:lnTo>
                  <a:lnTo>
                    <a:pt x="289" y="782"/>
                  </a:lnTo>
                  <a:lnTo>
                    <a:pt x="289" y="790"/>
                  </a:lnTo>
                  <a:lnTo>
                    <a:pt x="282" y="802"/>
                  </a:lnTo>
                  <a:lnTo>
                    <a:pt x="279" y="813"/>
                  </a:lnTo>
                  <a:lnTo>
                    <a:pt x="276" y="824"/>
                  </a:lnTo>
                  <a:lnTo>
                    <a:pt x="270" y="833"/>
                  </a:lnTo>
                  <a:lnTo>
                    <a:pt x="267" y="841"/>
                  </a:lnTo>
                  <a:lnTo>
                    <a:pt x="261" y="850"/>
                  </a:lnTo>
                  <a:lnTo>
                    <a:pt x="258" y="856"/>
                  </a:lnTo>
                  <a:lnTo>
                    <a:pt x="255" y="864"/>
                  </a:lnTo>
                  <a:lnTo>
                    <a:pt x="101" y="839"/>
                  </a:lnTo>
                  <a:lnTo>
                    <a:pt x="101" y="836"/>
                  </a:lnTo>
                  <a:lnTo>
                    <a:pt x="101" y="830"/>
                  </a:lnTo>
                  <a:lnTo>
                    <a:pt x="101" y="824"/>
                  </a:lnTo>
                  <a:lnTo>
                    <a:pt x="101" y="821"/>
                  </a:lnTo>
                  <a:lnTo>
                    <a:pt x="101" y="813"/>
                  </a:lnTo>
                  <a:lnTo>
                    <a:pt x="104" y="810"/>
                  </a:lnTo>
                  <a:lnTo>
                    <a:pt x="104" y="799"/>
                  </a:lnTo>
                  <a:lnTo>
                    <a:pt x="107" y="793"/>
                  </a:lnTo>
                  <a:lnTo>
                    <a:pt x="107" y="782"/>
                  </a:lnTo>
                  <a:lnTo>
                    <a:pt x="114" y="776"/>
                  </a:lnTo>
                  <a:lnTo>
                    <a:pt x="114" y="765"/>
                  </a:lnTo>
                  <a:lnTo>
                    <a:pt x="117" y="756"/>
                  </a:lnTo>
                  <a:lnTo>
                    <a:pt x="123" y="745"/>
                  </a:lnTo>
                  <a:lnTo>
                    <a:pt x="123" y="733"/>
                  </a:lnTo>
                  <a:lnTo>
                    <a:pt x="129" y="722"/>
                  </a:lnTo>
                  <a:lnTo>
                    <a:pt x="129" y="711"/>
                  </a:lnTo>
                  <a:lnTo>
                    <a:pt x="135" y="702"/>
                  </a:lnTo>
                  <a:lnTo>
                    <a:pt x="141" y="691"/>
                  </a:lnTo>
                  <a:lnTo>
                    <a:pt x="144" y="679"/>
                  </a:lnTo>
                  <a:lnTo>
                    <a:pt x="150" y="665"/>
                  </a:lnTo>
                  <a:lnTo>
                    <a:pt x="157" y="654"/>
                  </a:lnTo>
                  <a:lnTo>
                    <a:pt x="160" y="642"/>
                  </a:lnTo>
                  <a:lnTo>
                    <a:pt x="166" y="631"/>
                  </a:lnTo>
                  <a:lnTo>
                    <a:pt x="172" y="620"/>
                  </a:lnTo>
                  <a:lnTo>
                    <a:pt x="178" y="608"/>
                  </a:lnTo>
                  <a:lnTo>
                    <a:pt x="184" y="594"/>
                  </a:lnTo>
                  <a:lnTo>
                    <a:pt x="190" y="583"/>
                  </a:lnTo>
                  <a:lnTo>
                    <a:pt x="200" y="571"/>
                  </a:lnTo>
                  <a:lnTo>
                    <a:pt x="203" y="563"/>
                  </a:lnTo>
                  <a:lnTo>
                    <a:pt x="215" y="551"/>
                  </a:lnTo>
                  <a:lnTo>
                    <a:pt x="221" y="540"/>
                  </a:lnTo>
                  <a:lnTo>
                    <a:pt x="227" y="529"/>
                  </a:lnTo>
                  <a:lnTo>
                    <a:pt x="233" y="520"/>
                  </a:lnTo>
                  <a:lnTo>
                    <a:pt x="236" y="517"/>
                  </a:lnTo>
                  <a:lnTo>
                    <a:pt x="239" y="509"/>
                  </a:lnTo>
                  <a:lnTo>
                    <a:pt x="246" y="506"/>
                  </a:lnTo>
                  <a:lnTo>
                    <a:pt x="249" y="497"/>
                  </a:lnTo>
                  <a:lnTo>
                    <a:pt x="252" y="489"/>
                  </a:lnTo>
                  <a:lnTo>
                    <a:pt x="255" y="483"/>
                  </a:lnTo>
                  <a:lnTo>
                    <a:pt x="258" y="478"/>
                  </a:lnTo>
                  <a:lnTo>
                    <a:pt x="261" y="469"/>
                  </a:lnTo>
                  <a:lnTo>
                    <a:pt x="267" y="460"/>
                  </a:lnTo>
                  <a:lnTo>
                    <a:pt x="270" y="455"/>
                  </a:lnTo>
                  <a:lnTo>
                    <a:pt x="273" y="446"/>
                  </a:lnTo>
                  <a:lnTo>
                    <a:pt x="276" y="438"/>
                  </a:lnTo>
                  <a:lnTo>
                    <a:pt x="279" y="429"/>
                  </a:lnTo>
                  <a:lnTo>
                    <a:pt x="279" y="423"/>
                  </a:lnTo>
                  <a:lnTo>
                    <a:pt x="282" y="418"/>
                  </a:lnTo>
                  <a:lnTo>
                    <a:pt x="289" y="409"/>
                  </a:lnTo>
                  <a:lnTo>
                    <a:pt x="292" y="401"/>
                  </a:lnTo>
                  <a:lnTo>
                    <a:pt x="295" y="389"/>
                  </a:lnTo>
                  <a:lnTo>
                    <a:pt x="301" y="384"/>
                  </a:lnTo>
                  <a:lnTo>
                    <a:pt x="301" y="375"/>
                  </a:lnTo>
                  <a:lnTo>
                    <a:pt x="304" y="367"/>
                  </a:lnTo>
                  <a:lnTo>
                    <a:pt x="307" y="361"/>
                  </a:lnTo>
                  <a:lnTo>
                    <a:pt x="310" y="355"/>
                  </a:lnTo>
                  <a:lnTo>
                    <a:pt x="313" y="347"/>
                  </a:lnTo>
                  <a:lnTo>
                    <a:pt x="316" y="338"/>
                  </a:lnTo>
                  <a:lnTo>
                    <a:pt x="319" y="330"/>
                  </a:lnTo>
                  <a:lnTo>
                    <a:pt x="322" y="324"/>
                  </a:lnTo>
                  <a:lnTo>
                    <a:pt x="325" y="315"/>
                  </a:lnTo>
                  <a:lnTo>
                    <a:pt x="325" y="307"/>
                  </a:lnTo>
                  <a:lnTo>
                    <a:pt x="328" y="298"/>
                  </a:lnTo>
                  <a:lnTo>
                    <a:pt x="332" y="293"/>
                  </a:lnTo>
                  <a:lnTo>
                    <a:pt x="335" y="287"/>
                  </a:lnTo>
                  <a:lnTo>
                    <a:pt x="335" y="279"/>
                  </a:lnTo>
                  <a:lnTo>
                    <a:pt x="338" y="273"/>
                  </a:lnTo>
                  <a:lnTo>
                    <a:pt x="341" y="267"/>
                  </a:lnTo>
                  <a:lnTo>
                    <a:pt x="341" y="259"/>
                  </a:lnTo>
                  <a:lnTo>
                    <a:pt x="344" y="253"/>
                  </a:lnTo>
                  <a:lnTo>
                    <a:pt x="344" y="247"/>
                  </a:lnTo>
                  <a:lnTo>
                    <a:pt x="347" y="242"/>
                  </a:lnTo>
                  <a:lnTo>
                    <a:pt x="350" y="230"/>
                  </a:lnTo>
                  <a:lnTo>
                    <a:pt x="353" y="222"/>
                  </a:lnTo>
                  <a:lnTo>
                    <a:pt x="356" y="210"/>
                  </a:lnTo>
                  <a:lnTo>
                    <a:pt x="356" y="202"/>
                  </a:lnTo>
                  <a:lnTo>
                    <a:pt x="359" y="193"/>
                  </a:lnTo>
                  <a:lnTo>
                    <a:pt x="362" y="188"/>
                  </a:lnTo>
                  <a:lnTo>
                    <a:pt x="362" y="176"/>
                  </a:lnTo>
                  <a:lnTo>
                    <a:pt x="362" y="176"/>
                  </a:lnTo>
                  <a:lnTo>
                    <a:pt x="356" y="173"/>
                  </a:lnTo>
                  <a:lnTo>
                    <a:pt x="353" y="176"/>
                  </a:lnTo>
                  <a:lnTo>
                    <a:pt x="347" y="182"/>
                  </a:lnTo>
                  <a:lnTo>
                    <a:pt x="341" y="188"/>
                  </a:lnTo>
                  <a:lnTo>
                    <a:pt x="335" y="196"/>
                  </a:lnTo>
                  <a:lnTo>
                    <a:pt x="325" y="202"/>
                  </a:lnTo>
                  <a:lnTo>
                    <a:pt x="316" y="213"/>
                  </a:lnTo>
                  <a:lnTo>
                    <a:pt x="310" y="222"/>
                  </a:lnTo>
                  <a:lnTo>
                    <a:pt x="301" y="230"/>
                  </a:lnTo>
                  <a:lnTo>
                    <a:pt x="292" y="242"/>
                  </a:lnTo>
                  <a:lnTo>
                    <a:pt x="282" y="247"/>
                  </a:lnTo>
                  <a:lnTo>
                    <a:pt x="276" y="259"/>
                  </a:lnTo>
                  <a:lnTo>
                    <a:pt x="267" y="267"/>
                  </a:lnTo>
                  <a:lnTo>
                    <a:pt x="261" y="276"/>
                  </a:lnTo>
                  <a:lnTo>
                    <a:pt x="255" y="284"/>
                  </a:lnTo>
                  <a:lnTo>
                    <a:pt x="255" y="293"/>
                  </a:lnTo>
                  <a:lnTo>
                    <a:pt x="246" y="296"/>
                  </a:lnTo>
                  <a:lnTo>
                    <a:pt x="239" y="304"/>
                  </a:lnTo>
                  <a:lnTo>
                    <a:pt x="230" y="310"/>
                  </a:lnTo>
                  <a:lnTo>
                    <a:pt x="218" y="318"/>
                  </a:lnTo>
                  <a:lnTo>
                    <a:pt x="206" y="330"/>
                  </a:lnTo>
                  <a:lnTo>
                    <a:pt x="193" y="341"/>
                  </a:lnTo>
                  <a:lnTo>
                    <a:pt x="181" y="350"/>
                  </a:lnTo>
                  <a:lnTo>
                    <a:pt x="172" y="361"/>
                  </a:lnTo>
                  <a:lnTo>
                    <a:pt x="160" y="369"/>
                  </a:lnTo>
                  <a:lnTo>
                    <a:pt x="147" y="378"/>
                  </a:lnTo>
                  <a:lnTo>
                    <a:pt x="135" y="387"/>
                  </a:lnTo>
                  <a:lnTo>
                    <a:pt x="129" y="395"/>
                  </a:lnTo>
                  <a:lnTo>
                    <a:pt x="120" y="401"/>
                  </a:lnTo>
                  <a:lnTo>
                    <a:pt x="114" y="406"/>
                  </a:lnTo>
                  <a:lnTo>
                    <a:pt x="111" y="409"/>
                  </a:lnTo>
                  <a:lnTo>
                    <a:pt x="111" y="409"/>
                  </a:lnTo>
                  <a:lnTo>
                    <a:pt x="0" y="296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54160" y="747720"/>
              <a:ext cx="635040" cy="1281240"/>
            </a:xfrm>
            <a:custGeom>
              <a:avLst/>
              <a:gdLst/>
              <a:ahLst/>
              <a:rect l="l" t="t" r="r" b="b"/>
              <a:pathLst>
                <a:path w="374" h="736">
                  <a:moveTo>
                    <a:pt x="0" y="37"/>
                  </a:moveTo>
                  <a:lnTo>
                    <a:pt x="141" y="0"/>
                  </a:lnTo>
                  <a:lnTo>
                    <a:pt x="144" y="2"/>
                  </a:lnTo>
                  <a:lnTo>
                    <a:pt x="144" y="5"/>
                  </a:lnTo>
                  <a:lnTo>
                    <a:pt x="153" y="14"/>
                  </a:lnTo>
                  <a:lnTo>
                    <a:pt x="156" y="19"/>
                  </a:lnTo>
                  <a:lnTo>
                    <a:pt x="162" y="31"/>
                  </a:lnTo>
                  <a:lnTo>
                    <a:pt x="168" y="39"/>
                  </a:lnTo>
                  <a:lnTo>
                    <a:pt x="175" y="54"/>
                  </a:lnTo>
                  <a:lnTo>
                    <a:pt x="181" y="62"/>
                  </a:lnTo>
                  <a:lnTo>
                    <a:pt x="187" y="73"/>
                  </a:lnTo>
                  <a:lnTo>
                    <a:pt x="190" y="82"/>
                  </a:lnTo>
                  <a:lnTo>
                    <a:pt x="193" y="88"/>
                  </a:lnTo>
                  <a:lnTo>
                    <a:pt x="196" y="93"/>
                  </a:lnTo>
                  <a:lnTo>
                    <a:pt x="199" y="102"/>
                  </a:lnTo>
                  <a:lnTo>
                    <a:pt x="199" y="105"/>
                  </a:lnTo>
                  <a:lnTo>
                    <a:pt x="199" y="113"/>
                  </a:lnTo>
                  <a:lnTo>
                    <a:pt x="202" y="119"/>
                  </a:lnTo>
                  <a:lnTo>
                    <a:pt x="202" y="125"/>
                  </a:lnTo>
                  <a:lnTo>
                    <a:pt x="202" y="136"/>
                  </a:lnTo>
                  <a:lnTo>
                    <a:pt x="202" y="147"/>
                  </a:lnTo>
                  <a:lnTo>
                    <a:pt x="199" y="153"/>
                  </a:lnTo>
                  <a:lnTo>
                    <a:pt x="199" y="162"/>
                  </a:lnTo>
                  <a:lnTo>
                    <a:pt x="196" y="167"/>
                  </a:lnTo>
                  <a:lnTo>
                    <a:pt x="196" y="176"/>
                  </a:lnTo>
                  <a:lnTo>
                    <a:pt x="196" y="184"/>
                  </a:lnTo>
                  <a:lnTo>
                    <a:pt x="196" y="193"/>
                  </a:lnTo>
                  <a:lnTo>
                    <a:pt x="196" y="204"/>
                  </a:lnTo>
                  <a:lnTo>
                    <a:pt x="196" y="216"/>
                  </a:lnTo>
                  <a:lnTo>
                    <a:pt x="196" y="224"/>
                  </a:lnTo>
                  <a:lnTo>
                    <a:pt x="196" y="238"/>
                  </a:lnTo>
                  <a:lnTo>
                    <a:pt x="196" y="250"/>
                  </a:lnTo>
                  <a:lnTo>
                    <a:pt x="199" y="264"/>
                  </a:lnTo>
                  <a:lnTo>
                    <a:pt x="199" y="272"/>
                  </a:lnTo>
                  <a:lnTo>
                    <a:pt x="199" y="287"/>
                  </a:lnTo>
                  <a:lnTo>
                    <a:pt x="199" y="289"/>
                  </a:lnTo>
                  <a:lnTo>
                    <a:pt x="199" y="298"/>
                  </a:lnTo>
                  <a:lnTo>
                    <a:pt x="202" y="304"/>
                  </a:lnTo>
                  <a:lnTo>
                    <a:pt x="202" y="309"/>
                  </a:lnTo>
                  <a:lnTo>
                    <a:pt x="202" y="321"/>
                  </a:lnTo>
                  <a:lnTo>
                    <a:pt x="205" y="335"/>
                  </a:lnTo>
                  <a:lnTo>
                    <a:pt x="208" y="346"/>
                  </a:lnTo>
                  <a:lnTo>
                    <a:pt x="208" y="358"/>
                  </a:lnTo>
                  <a:lnTo>
                    <a:pt x="211" y="369"/>
                  </a:lnTo>
                  <a:lnTo>
                    <a:pt x="215" y="380"/>
                  </a:lnTo>
                  <a:lnTo>
                    <a:pt x="215" y="392"/>
                  </a:lnTo>
                  <a:lnTo>
                    <a:pt x="218" y="403"/>
                  </a:lnTo>
                  <a:lnTo>
                    <a:pt x="221" y="412"/>
                  </a:lnTo>
                  <a:lnTo>
                    <a:pt x="224" y="420"/>
                  </a:lnTo>
                  <a:lnTo>
                    <a:pt x="224" y="429"/>
                  </a:lnTo>
                  <a:lnTo>
                    <a:pt x="230" y="437"/>
                  </a:lnTo>
                  <a:lnTo>
                    <a:pt x="233" y="443"/>
                  </a:lnTo>
                  <a:lnTo>
                    <a:pt x="233" y="449"/>
                  </a:lnTo>
                  <a:lnTo>
                    <a:pt x="239" y="457"/>
                  </a:lnTo>
                  <a:lnTo>
                    <a:pt x="242" y="460"/>
                  </a:lnTo>
                  <a:lnTo>
                    <a:pt x="245" y="469"/>
                  </a:lnTo>
                  <a:lnTo>
                    <a:pt x="254" y="477"/>
                  </a:lnTo>
                  <a:lnTo>
                    <a:pt x="261" y="486"/>
                  </a:lnTo>
                  <a:lnTo>
                    <a:pt x="273" y="494"/>
                  </a:lnTo>
                  <a:lnTo>
                    <a:pt x="285" y="506"/>
                  </a:lnTo>
                  <a:lnTo>
                    <a:pt x="294" y="517"/>
                  </a:lnTo>
                  <a:lnTo>
                    <a:pt x="297" y="523"/>
                  </a:lnTo>
                  <a:lnTo>
                    <a:pt x="307" y="528"/>
                  </a:lnTo>
                  <a:lnTo>
                    <a:pt x="310" y="537"/>
                  </a:lnTo>
                  <a:lnTo>
                    <a:pt x="316" y="542"/>
                  </a:lnTo>
                  <a:lnTo>
                    <a:pt x="319" y="548"/>
                  </a:lnTo>
                  <a:lnTo>
                    <a:pt x="325" y="554"/>
                  </a:lnTo>
                  <a:lnTo>
                    <a:pt x="331" y="560"/>
                  </a:lnTo>
                  <a:lnTo>
                    <a:pt x="337" y="568"/>
                  </a:lnTo>
                  <a:lnTo>
                    <a:pt x="340" y="574"/>
                  </a:lnTo>
                  <a:lnTo>
                    <a:pt x="346" y="579"/>
                  </a:lnTo>
                  <a:lnTo>
                    <a:pt x="350" y="588"/>
                  </a:lnTo>
                  <a:lnTo>
                    <a:pt x="353" y="596"/>
                  </a:lnTo>
                  <a:lnTo>
                    <a:pt x="356" y="602"/>
                  </a:lnTo>
                  <a:lnTo>
                    <a:pt x="362" y="611"/>
                  </a:lnTo>
                  <a:lnTo>
                    <a:pt x="365" y="619"/>
                  </a:lnTo>
                  <a:lnTo>
                    <a:pt x="368" y="625"/>
                  </a:lnTo>
                  <a:lnTo>
                    <a:pt x="368" y="631"/>
                  </a:lnTo>
                  <a:lnTo>
                    <a:pt x="371" y="639"/>
                  </a:lnTo>
                  <a:lnTo>
                    <a:pt x="371" y="648"/>
                  </a:lnTo>
                  <a:lnTo>
                    <a:pt x="374" y="653"/>
                  </a:lnTo>
                  <a:lnTo>
                    <a:pt x="178" y="736"/>
                  </a:lnTo>
                  <a:lnTo>
                    <a:pt x="175" y="733"/>
                  </a:lnTo>
                  <a:lnTo>
                    <a:pt x="175" y="730"/>
                  </a:lnTo>
                  <a:lnTo>
                    <a:pt x="175" y="719"/>
                  </a:lnTo>
                  <a:lnTo>
                    <a:pt x="172" y="710"/>
                  </a:lnTo>
                  <a:lnTo>
                    <a:pt x="168" y="705"/>
                  </a:lnTo>
                  <a:lnTo>
                    <a:pt x="168" y="699"/>
                  </a:lnTo>
                  <a:lnTo>
                    <a:pt x="165" y="693"/>
                  </a:lnTo>
                  <a:lnTo>
                    <a:pt x="165" y="685"/>
                  </a:lnTo>
                  <a:lnTo>
                    <a:pt x="165" y="679"/>
                  </a:lnTo>
                  <a:lnTo>
                    <a:pt x="165" y="670"/>
                  </a:lnTo>
                  <a:lnTo>
                    <a:pt x="162" y="662"/>
                  </a:lnTo>
                  <a:lnTo>
                    <a:pt x="162" y="653"/>
                  </a:lnTo>
                  <a:lnTo>
                    <a:pt x="162" y="648"/>
                  </a:lnTo>
                  <a:lnTo>
                    <a:pt x="162" y="639"/>
                  </a:lnTo>
                  <a:lnTo>
                    <a:pt x="159" y="628"/>
                  </a:lnTo>
                  <a:lnTo>
                    <a:pt x="159" y="622"/>
                  </a:lnTo>
                  <a:lnTo>
                    <a:pt x="159" y="611"/>
                  </a:lnTo>
                  <a:lnTo>
                    <a:pt x="159" y="602"/>
                  </a:lnTo>
                  <a:lnTo>
                    <a:pt x="159" y="594"/>
                  </a:lnTo>
                  <a:lnTo>
                    <a:pt x="159" y="585"/>
                  </a:lnTo>
                  <a:lnTo>
                    <a:pt x="159" y="577"/>
                  </a:lnTo>
                  <a:lnTo>
                    <a:pt x="159" y="568"/>
                  </a:lnTo>
                  <a:lnTo>
                    <a:pt x="159" y="560"/>
                  </a:lnTo>
                  <a:lnTo>
                    <a:pt x="162" y="551"/>
                  </a:lnTo>
                  <a:lnTo>
                    <a:pt x="162" y="542"/>
                  </a:lnTo>
                  <a:lnTo>
                    <a:pt x="165" y="537"/>
                  </a:lnTo>
                  <a:lnTo>
                    <a:pt x="165" y="531"/>
                  </a:lnTo>
                  <a:lnTo>
                    <a:pt x="168" y="523"/>
                  </a:lnTo>
                  <a:lnTo>
                    <a:pt x="168" y="514"/>
                  </a:lnTo>
                  <a:lnTo>
                    <a:pt x="172" y="508"/>
                  </a:lnTo>
                  <a:lnTo>
                    <a:pt x="175" y="500"/>
                  </a:lnTo>
                  <a:lnTo>
                    <a:pt x="175" y="491"/>
                  </a:lnTo>
                  <a:lnTo>
                    <a:pt x="175" y="486"/>
                  </a:lnTo>
                  <a:lnTo>
                    <a:pt x="175" y="477"/>
                  </a:lnTo>
                  <a:lnTo>
                    <a:pt x="175" y="469"/>
                  </a:lnTo>
                  <a:lnTo>
                    <a:pt x="178" y="460"/>
                  </a:lnTo>
                  <a:lnTo>
                    <a:pt x="175" y="452"/>
                  </a:lnTo>
                  <a:lnTo>
                    <a:pt x="175" y="443"/>
                  </a:lnTo>
                  <a:lnTo>
                    <a:pt x="175" y="434"/>
                  </a:lnTo>
                  <a:lnTo>
                    <a:pt x="175" y="426"/>
                  </a:lnTo>
                  <a:lnTo>
                    <a:pt x="168" y="417"/>
                  </a:lnTo>
                  <a:lnTo>
                    <a:pt x="168" y="409"/>
                  </a:lnTo>
                  <a:lnTo>
                    <a:pt x="165" y="400"/>
                  </a:lnTo>
                  <a:lnTo>
                    <a:pt x="165" y="395"/>
                  </a:lnTo>
                  <a:lnTo>
                    <a:pt x="162" y="386"/>
                  </a:lnTo>
                  <a:lnTo>
                    <a:pt x="159" y="378"/>
                  </a:lnTo>
                  <a:lnTo>
                    <a:pt x="156" y="366"/>
                  </a:lnTo>
                  <a:lnTo>
                    <a:pt x="156" y="361"/>
                  </a:lnTo>
                  <a:lnTo>
                    <a:pt x="153" y="352"/>
                  </a:lnTo>
                  <a:lnTo>
                    <a:pt x="147" y="346"/>
                  </a:lnTo>
                  <a:lnTo>
                    <a:pt x="144" y="341"/>
                  </a:lnTo>
                  <a:lnTo>
                    <a:pt x="141" y="335"/>
                  </a:lnTo>
                  <a:lnTo>
                    <a:pt x="138" y="326"/>
                  </a:lnTo>
                  <a:lnTo>
                    <a:pt x="135" y="321"/>
                  </a:lnTo>
                  <a:lnTo>
                    <a:pt x="132" y="312"/>
                  </a:lnTo>
                  <a:lnTo>
                    <a:pt x="126" y="309"/>
                  </a:lnTo>
                  <a:lnTo>
                    <a:pt x="119" y="298"/>
                  </a:lnTo>
                  <a:lnTo>
                    <a:pt x="110" y="289"/>
                  </a:lnTo>
                  <a:lnTo>
                    <a:pt x="107" y="287"/>
                  </a:lnTo>
                  <a:lnTo>
                    <a:pt x="101" y="281"/>
                  </a:lnTo>
                  <a:lnTo>
                    <a:pt x="98" y="275"/>
                  </a:lnTo>
                  <a:lnTo>
                    <a:pt x="92" y="270"/>
                  </a:lnTo>
                  <a:lnTo>
                    <a:pt x="89" y="261"/>
                  </a:lnTo>
                  <a:lnTo>
                    <a:pt x="83" y="253"/>
                  </a:lnTo>
                  <a:lnTo>
                    <a:pt x="79" y="244"/>
                  </a:lnTo>
                  <a:lnTo>
                    <a:pt x="76" y="235"/>
                  </a:lnTo>
                  <a:lnTo>
                    <a:pt x="67" y="224"/>
                  </a:lnTo>
                  <a:lnTo>
                    <a:pt x="64" y="213"/>
                  </a:lnTo>
                  <a:lnTo>
                    <a:pt x="58" y="204"/>
                  </a:lnTo>
                  <a:lnTo>
                    <a:pt x="55" y="193"/>
                  </a:lnTo>
                  <a:lnTo>
                    <a:pt x="49" y="184"/>
                  </a:lnTo>
                  <a:lnTo>
                    <a:pt x="46" y="170"/>
                  </a:lnTo>
                  <a:lnTo>
                    <a:pt x="43" y="159"/>
                  </a:lnTo>
                  <a:lnTo>
                    <a:pt x="37" y="147"/>
                  </a:lnTo>
                  <a:lnTo>
                    <a:pt x="33" y="139"/>
                  </a:lnTo>
                  <a:lnTo>
                    <a:pt x="27" y="127"/>
                  </a:lnTo>
                  <a:lnTo>
                    <a:pt x="24" y="116"/>
                  </a:lnTo>
                  <a:lnTo>
                    <a:pt x="21" y="105"/>
                  </a:lnTo>
                  <a:lnTo>
                    <a:pt x="15" y="96"/>
                  </a:lnTo>
                  <a:lnTo>
                    <a:pt x="12" y="85"/>
                  </a:lnTo>
                  <a:lnTo>
                    <a:pt x="12" y="76"/>
                  </a:lnTo>
                  <a:lnTo>
                    <a:pt x="9" y="71"/>
                  </a:lnTo>
                  <a:lnTo>
                    <a:pt x="6" y="62"/>
                  </a:lnTo>
                  <a:lnTo>
                    <a:pt x="3" y="56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87520" y="1913040"/>
              <a:ext cx="1409760" cy="342720"/>
            </a:xfrm>
            <a:custGeom>
              <a:avLst/>
              <a:gdLst/>
              <a:ahLst/>
              <a:rect l="l" t="t" r="r" b="b"/>
              <a:pathLst>
                <a:path w="829" h="197">
                  <a:moveTo>
                    <a:pt x="810" y="12"/>
                  </a:moveTo>
                  <a:lnTo>
                    <a:pt x="810" y="12"/>
                  </a:lnTo>
                  <a:lnTo>
                    <a:pt x="804" y="12"/>
                  </a:lnTo>
                  <a:lnTo>
                    <a:pt x="795" y="12"/>
                  </a:lnTo>
                  <a:lnTo>
                    <a:pt x="786" y="15"/>
                  </a:lnTo>
                  <a:lnTo>
                    <a:pt x="780" y="15"/>
                  </a:lnTo>
                  <a:lnTo>
                    <a:pt x="773" y="15"/>
                  </a:lnTo>
                  <a:lnTo>
                    <a:pt x="767" y="17"/>
                  </a:lnTo>
                  <a:lnTo>
                    <a:pt x="761" y="20"/>
                  </a:lnTo>
                  <a:lnTo>
                    <a:pt x="752" y="20"/>
                  </a:lnTo>
                  <a:lnTo>
                    <a:pt x="746" y="23"/>
                  </a:lnTo>
                  <a:lnTo>
                    <a:pt x="737" y="26"/>
                  </a:lnTo>
                  <a:lnTo>
                    <a:pt x="727" y="29"/>
                  </a:lnTo>
                  <a:lnTo>
                    <a:pt x="718" y="32"/>
                  </a:lnTo>
                  <a:lnTo>
                    <a:pt x="709" y="32"/>
                  </a:lnTo>
                  <a:lnTo>
                    <a:pt x="700" y="35"/>
                  </a:lnTo>
                  <a:lnTo>
                    <a:pt x="691" y="40"/>
                  </a:lnTo>
                  <a:lnTo>
                    <a:pt x="681" y="43"/>
                  </a:lnTo>
                  <a:lnTo>
                    <a:pt x="672" y="46"/>
                  </a:lnTo>
                  <a:lnTo>
                    <a:pt x="663" y="49"/>
                  </a:lnTo>
                  <a:lnTo>
                    <a:pt x="654" y="52"/>
                  </a:lnTo>
                  <a:lnTo>
                    <a:pt x="645" y="57"/>
                  </a:lnTo>
                  <a:lnTo>
                    <a:pt x="635" y="60"/>
                  </a:lnTo>
                  <a:lnTo>
                    <a:pt x="623" y="63"/>
                  </a:lnTo>
                  <a:lnTo>
                    <a:pt x="614" y="66"/>
                  </a:lnTo>
                  <a:lnTo>
                    <a:pt x="605" y="71"/>
                  </a:lnTo>
                  <a:lnTo>
                    <a:pt x="595" y="74"/>
                  </a:lnTo>
                  <a:lnTo>
                    <a:pt x="589" y="80"/>
                  </a:lnTo>
                  <a:lnTo>
                    <a:pt x="580" y="86"/>
                  </a:lnTo>
                  <a:lnTo>
                    <a:pt x="568" y="89"/>
                  </a:lnTo>
                  <a:lnTo>
                    <a:pt x="559" y="91"/>
                  </a:lnTo>
                  <a:lnTo>
                    <a:pt x="549" y="94"/>
                  </a:lnTo>
                  <a:lnTo>
                    <a:pt x="537" y="100"/>
                  </a:lnTo>
                  <a:lnTo>
                    <a:pt x="528" y="103"/>
                  </a:lnTo>
                  <a:lnTo>
                    <a:pt x="516" y="106"/>
                  </a:lnTo>
                  <a:lnTo>
                    <a:pt x="500" y="106"/>
                  </a:lnTo>
                  <a:lnTo>
                    <a:pt x="488" y="111"/>
                  </a:lnTo>
                  <a:lnTo>
                    <a:pt x="482" y="111"/>
                  </a:lnTo>
                  <a:lnTo>
                    <a:pt x="473" y="111"/>
                  </a:lnTo>
                  <a:lnTo>
                    <a:pt x="467" y="114"/>
                  </a:lnTo>
                  <a:lnTo>
                    <a:pt x="460" y="114"/>
                  </a:lnTo>
                  <a:lnTo>
                    <a:pt x="451" y="114"/>
                  </a:lnTo>
                  <a:lnTo>
                    <a:pt x="448" y="114"/>
                  </a:lnTo>
                  <a:lnTo>
                    <a:pt x="439" y="117"/>
                  </a:lnTo>
                  <a:lnTo>
                    <a:pt x="433" y="117"/>
                  </a:lnTo>
                  <a:lnTo>
                    <a:pt x="427" y="117"/>
                  </a:lnTo>
                  <a:lnTo>
                    <a:pt x="417" y="120"/>
                  </a:lnTo>
                  <a:lnTo>
                    <a:pt x="411" y="120"/>
                  </a:lnTo>
                  <a:lnTo>
                    <a:pt x="405" y="120"/>
                  </a:lnTo>
                  <a:lnTo>
                    <a:pt x="399" y="120"/>
                  </a:lnTo>
                  <a:lnTo>
                    <a:pt x="393" y="120"/>
                  </a:lnTo>
                  <a:lnTo>
                    <a:pt x="384" y="120"/>
                  </a:lnTo>
                  <a:lnTo>
                    <a:pt x="378" y="123"/>
                  </a:lnTo>
                  <a:lnTo>
                    <a:pt x="371" y="120"/>
                  </a:lnTo>
                  <a:lnTo>
                    <a:pt x="365" y="120"/>
                  </a:lnTo>
                  <a:lnTo>
                    <a:pt x="356" y="120"/>
                  </a:lnTo>
                  <a:lnTo>
                    <a:pt x="350" y="120"/>
                  </a:lnTo>
                  <a:lnTo>
                    <a:pt x="338" y="120"/>
                  </a:lnTo>
                  <a:lnTo>
                    <a:pt x="325" y="120"/>
                  </a:lnTo>
                  <a:lnTo>
                    <a:pt x="310" y="120"/>
                  </a:lnTo>
                  <a:lnTo>
                    <a:pt x="301" y="117"/>
                  </a:lnTo>
                  <a:lnTo>
                    <a:pt x="289" y="117"/>
                  </a:lnTo>
                  <a:lnTo>
                    <a:pt x="279" y="117"/>
                  </a:lnTo>
                  <a:lnTo>
                    <a:pt x="267" y="114"/>
                  </a:lnTo>
                  <a:lnTo>
                    <a:pt x="261" y="111"/>
                  </a:lnTo>
                  <a:lnTo>
                    <a:pt x="252" y="111"/>
                  </a:lnTo>
                  <a:lnTo>
                    <a:pt x="246" y="108"/>
                  </a:lnTo>
                  <a:lnTo>
                    <a:pt x="233" y="103"/>
                  </a:lnTo>
                  <a:lnTo>
                    <a:pt x="230" y="100"/>
                  </a:lnTo>
                  <a:lnTo>
                    <a:pt x="224" y="91"/>
                  </a:lnTo>
                  <a:lnTo>
                    <a:pt x="218" y="86"/>
                  </a:lnTo>
                  <a:lnTo>
                    <a:pt x="209" y="77"/>
                  </a:lnTo>
                  <a:lnTo>
                    <a:pt x="203" y="71"/>
                  </a:lnTo>
                  <a:lnTo>
                    <a:pt x="193" y="60"/>
                  </a:lnTo>
                  <a:lnTo>
                    <a:pt x="187" y="52"/>
                  </a:lnTo>
                  <a:lnTo>
                    <a:pt x="178" y="43"/>
                  </a:lnTo>
                  <a:lnTo>
                    <a:pt x="169" y="35"/>
                  </a:lnTo>
                  <a:lnTo>
                    <a:pt x="160" y="29"/>
                  </a:lnTo>
                  <a:lnTo>
                    <a:pt x="150" y="20"/>
                  </a:lnTo>
                  <a:lnTo>
                    <a:pt x="138" y="15"/>
                  </a:lnTo>
                  <a:lnTo>
                    <a:pt x="126" y="9"/>
                  </a:lnTo>
                  <a:lnTo>
                    <a:pt x="117" y="3"/>
                  </a:lnTo>
                  <a:lnTo>
                    <a:pt x="104" y="3"/>
                  </a:lnTo>
                  <a:lnTo>
                    <a:pt x="92" y="0"/>
                  </a:lnTo>
                  <a:lnTo>
                    <a:pt x="83" y="0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6" y="174"/>
                  </a:lnTo>
                  <a:lnTo>
                    <a:pt x="12" y="174"/>
                  </a:lnTo>
                  <a:lnTo>
                    <a:pt x="15" y="174"/>
                  </a:lnTo>
                  <a:lnTo>
                    <a:pt x="22" y="177"/>
                  </a:lnTo>
                  <a:lnTo>
                    <a:pt x="28" y="177"/>
                  </a:lnTo>
                  <a:lnTo>
                    <a:pt x="37" y="177"/>
                  </a:lnTo>
                  <a:lnTo>
                    <a:pt x="43" y="177"/>
                  </a:lnTo>
                  <a:lnTo>
                    <a:pt x="49" y="177"/>
                  </a:lnTo>
                  <a:lnTo>
                    <a:pt x="61" y="179"/>
                  </a:lnTo>
                  <a:lnTo>
                    <a:pt x="71" y="179"/>
                  </a:lnTo>
                  <a:lnTo>
                    <a:pt x="83" y="182"/>
                  </a:lnTo>
                  <a:lnTo>
                    <a:pt x="92" y="182"/>
                  </a:lnTo>
                  <a:lnTo>
                    <a:pt x="104" y="185"/>
                  </a:lnTo>
                  <a:lnTo>
                    <a:pt x="114" y="185"/>
                  </a:lnTo>
                  <a:lnTo>
                    <a:pt x="126" y="185"/>
                  </a:lnTo>
                  <a:lnTo>
                    <a:pt x="135" y="185"/>
                  </a:lnTo>
                  <a:lnTo>
                    <a:pt x="150" y="185"/>
                  </a:lnTo>
                  <a:lnTo>
                    <a:pt x="160" y="185"/>
                  </a:lnTo>
                  <a:lnTo>
                    <a:pt x="172" y="188"/>
                  </a:lnTo>
                  <a:lnTo>
                    <a:pt x="184" y="188"/>
                  </a:lnTo>
                  <a:lnTo>
                    <a:pt x="193" y="191"/>
                  </a:lnTo>
                  <a:lnTo>
                    <a:pt x="206" y="191"/>
                  </a:lnTo>
                  <a:lnTo>
                    <a:pt x="218" y="191"/>
                  </a:lnTo>
                  <a:lnTo>
                    <a:pt x="227" y="191"/>
                  </a:lnTo>
                  <a:lnTo>
                    <a:pt x="239" y="191"/>
                  </a:lnTo>
                  <a:lnTo>
                    <a:pt x="246" y="188"/>
                  </a:lnTo>
                  <a:lnTo>
                    <a:pt x="255" y="188"/>
                  </a:lnTo>
                  <a:lnTo>
                    <a:pt x="264" y="188"/>
                  </a:lnTo>
                  <a:lnTo>
                    <a:pt x="273" y="188"/>
                  </a:lnTo>
                  <a:lnTo>
                    <a:pt x="282" y="188"/>
                  </a:lnTo>
                  <a:lnTo>
                    <a:pt x="289" y="185"/>
                  </a:lnTo>
                  <a:lnTo>
                    <a:pt x="298" y="185"/>
                  </a:lnTo>
                  <a:lnTo>
                    <a:pt x="307" y="185"/>
                  </a:lnTo>
                  <a:lnTo>
                    <a:pt x="316" y="185"/>
                  </a:lnTo>
                  <a:lnTo>
                    <a:pt x="322" y="182"/>
                  </a:lnTo>
                  <a:lnTo>
                    <a:pt x="332" y="182"/>
                  </a:lnTo>
                  <a:lnTo>
                    <a:pt x="341" y="182"/>
                  </a:lnTo>
                  <a:lnTo>
                    <a:pt x="347" y="182"/>
                  </a:lnTo>
                  <a:lnTo>
                    <a:pt x="356" y="179"/>
                  </a:lnTo>
                  <a:lnTo>
                    <a:pt x="365" y="177"/>
                  </a:lnTo>
                  <a:lnTo>
                    <a:pt x="374" y="177"/>
                  </a:lnTo>
                  <a:lnTo>
                    <a:pt x="384" y="177"/>
                  </a:lnTo>
                  <a:lnTo>
                    <a:pt x="393" y="177"/>
                  </a:lnTo>
                  <a:lnTo>
                    <a:pt x="399" y="177"/>
                  </a:lnTo>
                  <a:lnTo>
                    <a:pt x="408" y="177"/>
                  </a:lnTo>
                  <a:lnTo>
                    <a:pt x="417" y="177"/>
                  </a:lnTo>
                  <a:lnTo>
                    <a:pt x="427" y="177"/>
                  </a:lnTo>
                  <a:lnTo>
                    <a:pt x="433" y="177"/>
                  </a:lnTo>
                  <a:lnTo>
                    <a:pt x="442" y="177"/>
                  </a:lnTo>
                  <a:lnTo>
                    <a:pt x="451" y="177"/>
                  </a:lnTo>
                  <a:lnTo>
                    <a:pt x="460" y="177"/>
                  </a:lnTo>
                  <a:lnTo>
                    <a:pt x="470" y="177"/>
                  </a:lnTo>
                  <a:lnTo>
                    <a:pt x="476" y="177"/>
                  </a:lnTo>
                  <a:lnTo>
                    <a:pt x="485" y="177"/>
                  </a:lnTo>
                  <a:lnTo>
                    <a:pt x="494" y="177"/>
                  </a:lnTo>
                  <a:lnTo>
                    <a:pt x="500" y="179"/>
                  </a:lnTo>
                  <a:lnTo>
                    <a:pt x="513" y="182"/>
                  </a:lnTo>
                  <a:lnTo>
                    <a:pt x="519" y="182"/>
                  </a:lnTo>
                  <a:lnTo>
                    <a:pt x="528" y="185"/>
                  </a:lnTo>
                  <a:lnTo>
                    <a:pt x="537" y="185"/>
                  </a:lnTo>
                  <a:lnTo>
                    <a:pt x="546" y="188"/>
                  </a:lnTo>
                  <a:lnTo>
                    <a:pt x="552" y="191"/>
                  </a:lnTo>
                  <a:lnTo>
                    <a:pt x="562" y="194"/>
                  </a:lnTo>
                  <a:lnTo>
                    <a:pt x="568" y="194"/>
                  </a:lnTo>
                  <a:lnTo>
                    <a:pt x="580" y="194"/>
                  </a:lnTo>
                  <a:lnTo>
                    <a:pt x="592" y="194"/>
                  </a:lnTo>
                  <a:lnTo>
                    <a:pt x="602" y="194"/>
                  </a:lnTo>
                  <a:lnTo>
                    <a:pt x="614" y="194"/>
                  </a:lnTo>
                  <a:lnTo>
                    <a:pt x="626" y="197"/>
                  </a:lnTo>
                  <a:lnTo>
                    <a:pt x="635" y="194"/>
                  </a:lnTo>
                  <a:lnTo>
                    <a:pt x="645" y="194"/>
                  </a:lnTo>
                  <a:lnTo>
                    <a:pt x="660" y="194"/>
                  </a:lnTo>
                  <a:lnTo>
                    <a:pt x="672" y="194"/>
                  </a:lnTo>
                  <a:lnTo>
                    <a:pt x="681" y="194"/>
                  </a:lnTo>
                  <a:lnTo>
                    <a:pt x="694" y="194"/>
                  </a:lnTo>
                  <a:lnTo>
                    <a:pt x="706" y="194"/>
                  </a:lnTo>
                  <a:lnTo>
                    <a:pt x="718" y="194"/>
                  </a:lnTo>
                  <a:lnTo>
                    <a:pt x="727" y="191"/>
                  </a:lnTo>
                  <a:lnTo>
                    <a:pt x="740" y="188"/>
                  </a:lnTo>
                  <a:lnTo>
                    <a:pt x="749" y="188"/>
                  </a:lnTo>
                  <a:lnTo>
                    <a:pt x="761" y="188"/>
                  </a:lnTo>
                  <a:lnTo>
                    <a:pt x="767" y="185"/>
                  </a:lnTo>
                  <a:lnTo>
                    <a:pt x="780" y="185"/>
                  </a:lnTo>
                  <a:lnTo>
                    <a:pt x="786" y="185"/>
                  </a:lnTo>
                  <a:lnTo>
                    <a:pt x="795" y="185"/>
                  </a:lnTo>
                  <a:lnTo>
                    <a:pt x="801" y="182"/>
                  </a:lnTo>
                  <a:lnTo>
                    <a:pt x="807" y="182"/>
                  </a:lnTo>
                  <a:lnTo>
                    <a:pt x="813" y="182"/>
                  </a:lnTo>
                  <a:lnTo>
                    <a:pt x="819" y="182"/>
                  </a:lnTo>
                  <a:lnTo>
                    <a:pt x="826" y="182"/>
                  </a:lnTo>
                  <a:lnTo>
                    <a:pt x="829" y="182"/>
                  </a:lnTo>
                  <a:lnTo>
                    <a:pt x="810" y="12"/>
                  </a:lnTo>
                  <a:lnTo>
                    <a:pt x="8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59120" y="1947960"/>
              <a:ext cx="1158840" cy="4130640"/>
            </a:xfrm>
            <a:custGeom>
              <a:avLst/>
              <a:gdLst/>
              <a:ahLst/>
              <a:rect l="l" t="t" r="r" b="b"/>
              <a:pathLst>
                <a:path w="681" h="2374">
                  <a:moveTo>
                    <a:pt x="12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43" y="0"/>
                  </a:lnTo>
                  <a:lnTo>
                    <a:pt x="55" y="0"/>
                  </a:lnTo>
                  <a:lnTo>
                    <a:pt x="68" y="3"/>
                  </a:lnTo>
                  <a:lnTo>
                    <a:pt x="74" y="3"/>
                  </a:lnTo>
                  <a:lnTo>
                    <a:pt x="80" y="3"/>
                  </a:lnTo>
                  <a:lnTo>
                    <a:pt x="89" y="3"/>
                  </a:lnTo>
                  <a:lnTo>
                    <a:pt x="95" y="6"/>
                  </a:lnTo>
                  <a:lnTo>
                    <a:pt x="101" y="6"/>
                  </a:lnTo>
                  <a:lnTo>
                    <a:pt x="111" y="9"/>
                  </a:lnTo>
                  <a:lnTo>
                    <a:pt x="117" y="9"/>
                  </a:lnTo>
                  <a:lnTo>
                    <a:pt x="126" y="12"/>
                  </a:lnTo>
                  <a:lnTo>
                    <a:pt x="135" y="12"/>
                  </a:lnTo>
                  <a:lnTo>
                    <a:pt x="141" y="15"/>
                  </a:lnTo>
                  <a:lnTo>
                    <a:pt x="151" y="15"/>
                  </a:lnTo>
                  <a:lnTo>
                    <a:pt x="160" y="20"/>
                  </a:lnTo>
                  <a:lnTo>
                    <a:pt x="169" y="23"/>
                  </a:lnTo>
                  <a:lnTo>
                    <a:pt x="181" y="26"/>
                  </a:lnTo>
                  <a:lnTo>
                    <a:pt x="190" y="29"/>
                  </a:lnTo>
                  <a:lnTo>
                    <a:pt x="200" y="32"/>
                  </a:lnTo>
                  <a:lnTo>
                    <a:pt x="209" y="37"/>
                  </a:lnTo>
                  <a:lnTo>
                    <a:pt x="221" y="40"/>
                  </a:lnTo>
                  <a:lnTo>
                    <a:pt x="227" y="43"/>
                  </a:lnTo>
                  <a:lnTo>
                    <a:pt x="236" y="49"/>
                  </a:lnTo>
                  <a:lnTo>
                    <a:pt x="246" y="51"/>
                  </a:lnTo>
                  <a:lnTo>
                    <a:pt x="255" y="57"/>
                  </a:lnTo>
                  <a:lnTo>
                    <a:pt x="264" y="63"/>
                  </a:lnTo>
                  <a:lnTo>
                    <a:pt x="276" y="69"/>
                  </a:lnTo>
                  <a:lnTo>
                    <a:pt x="286" y="74"/>
                  </a:lnTo>
                  <a:lnTo>
                    <a:pt x="298" y="80"/>
                  </a:lnTo>
                  <a:lnTo>
                    <a:pt x="304" y="86"/>
                  </a:lnTo>
                  <a:lnTo>
                    <a:pt x="313" y="94"/>
                  </a:lnTo>
                  <a:lnTo>
                    <a:pt x="322" y="100"/>
                  </a:lnTo>
                  <a:lnTo>
                    <a:pt x="332" y="108"/>
                  </a:lnTo>
                  <a:lnTo>
                    <a:pt x="344" y="117"/>
                  </a:lnTo>
                  <a:lnTo>
                    <a:pt x="353" y="125"/>
                  </a:lnTo>
                  <a:lnTo>
                    <a:pt x="359" y="131"/>
                  </a:lnTo>
                  <a:lnTo>
                    <a:pt x="368" y="142"/>
                  </a:lnTo>
                  <a:lnTo>
                    <a:pt x="378" y="151"/>
                  </a:lnTo>
                  <a:lnTo>
                    <a:pt x="387" y="159"/>
                  </a:lnTo>
                  <a:lnTo>
                    <a:pt x="393" y="171"/>
                  </a:lnTo>
                  <a:lnTo>
                    <a:pt x="402" y="182"/>
                  </a:lnTo>
                  <a:lnTo>
                    <a:pt x="408" y="194"/>
                  </a:lnTo>
                  <a:lnTo>
                    <a:pt x="418" y="205"/>
                  </a:lnTo>
                  <a:lnTo>
                    <a:pt x="424" y="213"/>
                  </a:lnTo>
                  <a:lnTo>
                    <a:pt x="430" y="225"/>
                  </a:lnTo>
                  <a:lnTo>
                    <a:pt x="439" y="242"/>
                  </a:lnTo>
                  <a:lnTo>
                    <a:pt x="445" y="256"/>
                  </a:lnTo>
                  <a:lnTo>
                    <a:pt x="451" y="267"/>
                  </a:lnTo>
                  <a:lnTo>
                    <a:pt x="457" y="282"/>
                  </a:lnTo>
                  <a:lnTo>
                    <a:pt x="464" y="296"/>
                  </a:lnTo>
                  <a:lnTo>
                    <a:pt x="467" y="313"/>
                  </a:lnTo>
                  <a:lnTo>
                    <a:pt x="473" y="327"/>
                  </a:lnTo>
                  <a:lnTo>
                    <a:pt x="476" y="341"/>
                  </a:lnTo>
                  <a:lnTo>
                    <a:pt x="479" y="356"/>
                  </a:lnTo>
                  <a:lnTo>
                    <a:pt x="482" y="373"/>
                  </a:lnTo>
                  <a:lnTo>
                    <a:pt x="485" y="387"/>
                  </a:lnTo>
                  <a:lnTo>
                    <a:pt x="488" y="404"/>
                  </a:lnTo>
                  <a:lnTo>
                    <a:pt x="491" y="418"/>
                  </a:lnTo>
                  <a:lnTo>
                    <a:pt x="494" y="432"/>
                  </a:lnTo>
                  <a:lnTo>
                    <a:pt x="494" y="449"/>
                  </a:lnTo>
                  <a:lnTo>
                    <a:pt x="497" y="464"/>
                  </a:lnTo>
                  <a:lnTo>
                    <a:pt x="497" y="478"/>
                  </a:lnTo>
                  <a:lnTo>
                    <a:pt x="497" y="495"/>
                  </a:lnTo>
                  <a:lnTo>
                    <a:pt x="497" y="509"/>
                  </a:lnTo>
                  <a:lnTo>
                    <a:pt x="497" y="526"/>
                  </a:lnTo>
                  <a:lnTo>
                    <a:pt x="497" y="540"/>
                  </a:lnTo>
                  <a:lnTo>
                    <a:pt x="497" y="555"/>
                  </a:lnTo>
                  <a:lnTo>
                    <a:pt x="497" y="569"/>
                  </a:lnTo>
                  <a:lnTo>
                    <a:pt x="497" y="583"/>
                  </a:lnTo>
                  <a:lnTo>
                    <a:pt x="494" y="600"/>
                  </a:lnTo>
                  <a:lnTo>
                    <a:pt x="494" y="614"/>
                  </a:lnTo>
                  <a:lnTo>
                    <a:pt x="491" y="628"/>
                  </a:lnTo>
                  <a:lnTo>
                    <a:pt x="488" y="643"/>
                  </a:lnTo>
                  <a:lnTo>
                    <a:pt x="488" y="660"/>
                  </a:lnTo>
                  <a:lnTo>
                    <a:pt x="485" y="674"/>
                  </a:lnTo>
                  <a:lnTo>
                    <a:pt x="485" y="688"/>
                  </a:lnTo>
                  <a:lnTo>
                    <a:pt x="482" y="702"/>
                  </a:lnTo>
                  <a:lnTo>
                    <a:pt x="479" y="719"/>
                  </a:lnTo>
                  <a:lnTo>
                    <a:pt x="476" y="734"/>
                  </a:lnTo>
                  <a:lnTo>
                    <a:pt x="473" y="745"/>
                  </a:lnTo>
                  <a:lnTo>
                    <a:pt x="473" y="762"/>
                  </a:lnTo>
                  <a:lnTo>
                    <a:pt x="467" y="776"/>
                  </a:lnTo>
                  <a:lnTo>
                    <a:pt x="464" y="793"/>
                  </a:lnTo>
                  <a:lnTo>
                    <a:pt x="461" y="805"/>
                  </a:lnTo>
                  <a:lnTo>
                    <a:pt x="457" y="822"/>
                  </a:lnTo>
                  <a:lnTo>
                    <a:pt x="454" y="833"/>
                  </a:lnTo>
                  <a:lnTo>
                    <a:pt x="451" y="847"/>
                  </a:lnTo>
                  <a:lnTo>
                    <a:pt x="445" y="864"/>
                  </a:lnTo>
                  <a:lnTo>
                    <a:pt x="442" y="876"/>
                  </a:lnTo>
                  <a:lnTo>
                    <a:pt x="436" y="890"/>
                  </a:lnTo>
                  <a:lnTo>
                    <a:pt x="433" y="904"/>
                  </a:lnTo>
                  <a:lnTo>
                    <a:pt x="427" y="916"/>
                  </a:lnTo>
                  <a:lnTo>
                    <a:pt x="424" y="933"/>
                  </a:lnTo>
                  <a:lnTo>
                    <a:pt x="421" y="944"/>
                  </a:lnTo>
                  <a:lnTo>
                    <a:pt x="418" y="958"/>
                  </a:lnTo>
                  <a:lnTo>
                    <a:pt x="411" y="972"/>
                  </a:lnTo>
                  <a:lnTo>
                    <a:pt x="408" y="984"/>
                  </a:lnTo>
                  <a:lnTo>
                    <a:pt x="402" y="998"/>
                  </a:lnTo>
                  <a:lnTo>
                    <a:pt x="399" y="1012"/>
                  </a:lnTo>
                  <a:lnTo>
                    <a:pt x="396" y="1026"/>
                  </a:lnTo>
                  <a:lnTo>
                    <a:pt x="390" y="1038"/>
                  </a:lnTo>
                  <a:lnTo>
                    <a:pt x="387" y="1049"/>
                  </a:lnTo>
                  <a:lnTo>
                    <a:pt x="384" y="1063"/>
                  </a:lnTo>
                  <a:lnTo>
                    <a:pt x="381" y="1078"/>
                  </a:lnTo>
                  <a:lnTo>
                    <a:pt x="378" y="1089"/>
                  </a:lnTo>
                  <a:lnTo>
                    <a:pt x="375" y="1100"/>
                  </a:lnTo>
                  <a:lnTo>
                    <a:pt x="368" y="1115"/>
                  </a:lnTo>
                  <a:lnTo>
                    <a:pt x="365" y="1123"/>
                  </a:lnTo>
                  <a:lnTo>
                    <a:pt x="362" y="1137"/>
                  </a:lnTo>
                  <a:lnTo>
                    <a:pt x="356" y="1149"/>
                  </a:lnTo>
                  <a:lnTo>
                    <a:pt x="353" y="1160"/>
                  </a:lnTo>
                  <a:lnTo>
                    <a:pt x="350" y="1171"/>
                  </a:lnTo>
                  <a:lnTo>
                    <a:pt x="347" y="1186"/>
                  </a:lnTo>
                  <a:lnTo>
                    <a:pt x="347" y="1197"/>
                  </a:lnTo>
                  <a:lnTo>
                    <a:pt x="344" y="1208"/>
                  </a:lnTo>
                  <a:lnTo>
                    <a:pt x="341" y="1220"/>
                  </a:lnTo>
                  <a:lnTo>
                    <a:pt x="341" y="1228"/>
                  </a:lnTo>
                  <a:lnTo>
                    <a:pt x="335" y="1240"/>
                  </a:lnTo>
                  <a:lnTo>
                    <a:pt x="335" y="1251"/>
                  </a:lnTo>
                  <a:lnTo>
                    <a:pt x="332" y="1262"/>
                  </a:lnTo>
                  <a:lnTo>
                    <a:pt x="329" y="1274"/>
                  </a:lnTo>
                  <a:lnTo>
                    <a:pt x="325" y="1285"/>
                  </a:lnTo>
                  <a:lnTo>
                    <a:pt x="325" y="1296"/>
                  </a:lnTo>
                  <a:lnTo>
                    <a:pt x="322" y="1308"/>
                  </a:lnTo>
                  <a:lnTo>
                    <a:pt x="322" y="1316"/>
                  </a:lnTo>
                  <a:lnTo>
                    <a:pt x="319" y="1328"/>
                  </a:lnTo>
                  <a:lnTo>
                    <a:pt x="319" y="1342"/>
                  </a:lnTo>
                  <a:lnTo>
                    <a:pt x="316" y="1350"/>
                  </a:lnTo>
                  <a:lnTo>
                    <a:pt x="313" y="1362"/>
                  </a:lnTo>
                  <a:lnTo>
                    <a:pt x="313" y="1373"/>
                  </a:lnTo>
                  <a:lnTo>
                    <a:pt x="313" y="1385"/>
                  </a:lnTo>
                  <a:lnTo>
                    <a:pt x="310" y="1396"/>
                  </a:lnTo>
                  <a:lnTo>
                    <a:pt x="310" y="1407"/>
                  </a:lnTo>
                  <a:lnTo>
                    <a:pt x="310" y="1416"/>
                  </a:lnTo>
                  <a:lnTo>
                    <a:pt x="310" y="1427"/>
                  </a:lnTo>
                  <a:lnTo>
                    <a:pt x="307" y="1436"/>
                  </a:lnTo>
                  <a:lnTo>
                    <a:pt x="307" y="1447"/>
                  </a:lnTo>
                  <a:lnTo>
                    <a:pt x="307" y="1459"/>
                  </a:lnTo>
                  <a:lnTo>
                    <a:pt x="307" y="1470"/>
                  </a:lnTo>
                  <a:lnTo>
                    <a:pt x="307" y="1481"/>
                  </a:lnTo>
                  <a:lnTo>
                    <a:pt x="307" y="1490"/>
                  </a:lnTo>
                  <a:lnTo>
                    <a:pt x="307" y="1501"/>
                  </a:lnTo>
                  <a:lnTo>
                    <a:pt x="307" y="1513"/>
                  </a:lnTo>
                  <a:lnTo>
                    <a:pt x="307" y="1521"/>
                  </a:lnTo>
                  <a:lnTo>
                    <a:pt x="310" y="1530"/>
                  </a:lnTo>
                  <a:lnTo>
                    <a:pt x="310" y="1544"/>
                  </a:lnTo>
                  <a:lnTo>
                    <a:pt x="313" y="1552"/>
                  </a:lnTo>
                  <a:lnTo>
                    <a:pt x="313" y="1564"/>
                  </a:lnTo>
                  <a:lnTo>
                    <a:pt x="313" y="1572"/>
                  </a:lnTo>
                  <a:lnTo>
                    <a:pt x="313" y="1584"/>
                  </a:lnTo>
                  <a:lnTo>
                    <a:pt x="319" y="1592"/>
                  </a:lnTo>
                  <a:lnTo>
                    <a:pt x="319" y="1601"/>
                  </a:lnTo>
                  <a:lnTo>
                    <a:pt x="322" y="1612"/>
                  </a:lnTo>
                  <a:lnTo>
                    <a:pt x="322" y="1621"/>
                  </a:lnTo>
                  <a:lnTo>
                    <a:pt x="325" y="1632"/>
                  </a:lnTo>
                  <a:lnTo>
                    <a:pt x="329" y="1640"/>
                  </a:lnTo>
                  <a:lnTo>
                    <a:pt x="332" y="1649"/>
                  </a:lnTo>
                  <a:lnTo>
                    <a:pt x="335" y="1657"/>
                  </a:lnTo>
                  <a:lnTo>
                    <a:pt x="341" y="1666"/>
                  </a:lnTo>
                  <a:lnTo>
                    <a:pt x="344" y="1677"/>
                  </a:lnTo>
                  <a:lnTo>
                    <a:pt x="347" y="1686"/>
                  </a:lnTo>
                  <a:lnTo>
                    <a:pt x="353" y="1694"/>
                  </a:lnTo>
                  <a:lnTo>
                    <a:pt x="356" y="1706"/>
                  </a:lnTo>
                  <a:lnTo>
                    <a:pt x="362" y="1711"/>
                  </a:lnTo>
                  <a:lnTo>
                    <a:pt x="365" y="1723"/>
                  </a:lnTo>
                  <a:lnTo>
                    <a:pt x="372" y="1729"/>
                  </a:lnTo>
                  <a:lnTo>
                    <a:pt x="378" y="1737"/>
                  </a:lnTo>
                  <a:lnTo>
                    <a:pt x="381" y="1746"/>
                  </a:lnTo>
                  <a:lnTo>
                    <a:pt x="387" y="1757"/>
                  </a:lnTo>
                  <a:lnTo>
                    <a:pt x="396" y="1763"/>
                  </a:lnTo>
                  <a:lnTo>
                    <a:pt x="402" y="1774"/>
                  </a:lnTo>
                  <a:lnTo>
                    <a:pt x="408" y="1780"/>
                  </a:lnTo>
                  <a:lnTo>
                    <a:pt x="414" y="1785"/>
                  </a:lnTo>
                  <a:lnTo>
                    <a:pt x="421" y="1794"/>
                  </a:lnTo>
                  <a:lnTo>
                    <a:pt x="430" y="1802"/>
                  </a:lnTo>
                  <a:lnTo>
                    <a:pt x="439" y="1811"/>
                  </a:lnTo>
                  <a:lnTo>
                    <a:pt x="445" y="1817"/>
                  </a:lnTo>
                  <a:lnTo>
                    <a:pt x="454" y="1825"/>
                  </a:lnTo>
                  <a:lnTo>
                    <a:pt x="464" y="1834"/>
                  </a:lnTo>
                  <a:lnTo>
                    <a:pt x="473" y="1839"/>
                  </a:lnTo>
                  <a:lnTo>
                    <a:pt x="479" y="1848"/>
                  </a:lnTo>
                  <a:lnTo>
                    <a:pt x="488" y="1854"/>
                  </a:lnTo>
                  <a:lnTo>
                    <a:pt x="497" y="1859"/>
                  </a:lnTo>
                  <a:lnTo>
                    <a:pt x="503" y="1868"/>
                  </a:lnTo>
                  <a:lnTo>
                    <a:pt x="513" y="1874"/>
                  </a:lnTo>
                  <a:lnTo>
                    <a:pt x="522" y="1882"/>
                  </a:lnTo>
                  <a:lnTo>
                    <a:pt x="531" y="1888"/>
                  </a:lnTo>
                  <a:lnTo>
                    <a:pt x="534" y="1896"/>
                  </a:lnTo>
                  <a:lnTo>
                    <a:pt x="543" y="1902"/>
                  </a:lnTo>
                  <a:lnTo>
                    <a:pt x="549" y="1908"/>
                  </a:lnTo>
                  <a:lnTo>
                    <a:pt x="556" y="1916"/>
                  </a:lnTo>
                  <a:lnTo>
                    <a:pt x="562" y="1922"/>
                  </a:lnTo>
                  <a:lnTo>
                    <a:pt x="568" y="1928"/>
                  </a:lnTo>
                  <a:lnTo>
                    <a:pt x="574" y="1936"/>
                  </a:lnTo>
                  <a:lnTo>
                    <a:pt x="580" y="1945"/>
                  </a:lnTo>
                  <a:lnTo>
                    <a:pt x="583" y="1950"/>
                  </a:lnTo>
                  <a:lnTo>
                    <a:pt x="592" y="1956"/>
                  </a:lnTo>
                  <a:lnTo>
                    <a:pt x="596" y="1964"/>
                  </a:lnTo>
                  <a:lnTo>
                    <a:pt x="602" y="1970"/>
                  </a:lnTo>
                  <a:lnTo>
                    <a:pt x="605" y="1976"/>
                  </a:lnTo>
                  <a:lnTo>
                    <a:pt x="611" y="1984"/>
                  </a:lnTo>
                  <a:lnTo>
                    <a:pt x="614" y="1990"/>
                  </a:lnTo>
                  <a:lnTo>
                    <a:pt x="620" y="1996"/>
                  </a:lnTo>
                  <a:lnTo>
                    <a:pt x="626" y="2004"/>
                  </a:lnTo>
                  <a:lnTo>
                    <a:pt x="629" y="2010"/>
                  </a:lnTo>
                  <a:lnTo>
                    <a:pt x="632" y="2018"/>
                  </a:lnTo>
                  <a:lnTo>
                    <a:pt x="635" y="2024"/>
                  </a:lnTo>
                  <a:lnTo>
                    <a:pt x="638" y="2030"/>
                  </a:lnTo>
                  <a:lnTo>
                    <a:pt x="642" y="2036"/>
                  </a:lnTo>
                  <a:lnTo>
                    <a:pt x="648" y="2041"/>
                  </a:lnTo>
                  <a:lnTo>
                    <a:pt x="651" y="2050"/>
                  </a:lnTo>
                  <a:lnTo>
                    <a:pt x="654" y="2061"/>
                  </a:lnTo>
                  <a:lnTo>
                    <a:pt x="660" y="2073"/>
                  </a:lnTo>
                  <a:lnTo>
                    <a:pt x="663" y="2087"/>
                  </a:lnTo>
                  <a:lnTo>
                    <a:pt x="669" y="2098"/>
                  </a:lnTo>
                  <a:lnTo>
                    <a:pt x="672" y="2109"/>
                  </a:lnTo>
                  <a:lnTo>
                    <a:pt x="672" y="2121"/>
                  </a:lnTo>
                  <a:lnTo>
                    <a:pt x="675" y="2129"/>
                  </a:lnTo>
                  <a:lnTo>
                    <a:pt x="678" y="2144"/>
                  </a:lnTo>
                  <a:lnTo>
                    <a:pt x="678" y="2155"/>
                  </a:lnTo>
                  <a:lnTo>
                    <a:pt x="681" y="2163"/>
                  </a:lnTo>
                  <a:lnTo>
                    <a:pt x="681" y="2175"/>
                  </a:lnTo>
                  <a:lnTo>
                    <a:pt x="681" y="2183"/>
                  </a:lnTo>
                  <a:lnTo>
                    <a:pt x="678" y="2195"/>
                  </a:lnTo>
                  <a:lnTo>
                    <a:pt x="678" y="2203"/>
                  </a:lnTo>
                  <a:lnTo>
                    <a:pt x="675" y="2212"/>
                  </a:lnTo>
                  <a:lnTo>
                    <a:pt x="675" y="2223"/>
                  </a:lnTo>
                  <a:lnTo>
                    <a:pt x="672" y="2232"/>
                  </a:lnTo>
                  <a:lnTo>
                    <a:pt x="672" y="2240"/>
                  </a:lnTo>
                  <a:lnTo>
                    <a:pt x="669" y="2249"/>
                  </a:lnTo>
                  <a:lnTo>
                    <a:pt x="666" y="2254"/>
                  </a:lnTo>
                  <a:lnTo>
                    <a:pt x="663" y="2263"/>
                  </a:lnTo>
                  <a:lnTo>
                    <a:pt x="663" y="2271"/>
                  </a:lnTo>
                  <a:lnTo>
                    <a:pt x="657" y="2280"/>
                  </a:lnTo>
                  <a:lnTo>
                    <a:pt x="657" y="2286"/>
                  </a:lnTo>
                  <a:lnTo>
                    <a:pt x="654" y="2294"/>
                  </a:lnTo>
                  <a:lnTo>
                    <a:pt x="651" y="2300"/>
                  </a:lnTo>
                  <a:lnTo>
                    <a:pt x="648" y="2306"/>
                  </a:lnTo>
                  <a:lnTo>
                    <a:pt x="648" y="2311"/>
                  </a:lnTo>
                  <a:lnTo>
                    <a:pt x="642" y="2323"/>
                  </a:lnTo>
                  <a:lnTo>
                    <a:pt x="638" y="2334"/>
                  </a:lnTo>
                  <a:lnTo>
                    <a:pt x="635" y="2340"/>
                  </a:lnTo>
                  <a:lnTo>
                    <a:pt x="629" y="2348"/>
                  </a:lnTo>
                  <a:lnTo>
                    <a:pt x="626" y="2357"/>
                  </a:lnTo>
                  <a:lnTo>
                    <a:pt x="626" y="2362"/>
                  </a:lnTo>
                  <a:lnTo>
                    <a:pt x="620" y="2371"/>
                  </a:lnTo>
                  <a:lnTo>
                    <a:pt x="620" y="2374"/>
                  </a:lnTo>
                  <a:lnTo>
                    <a:pt x="457" y="2306"/>
                  </a:lnTo>
                  <a:lnTo>
                    <a:pt x="457" y="2303"/>
                  </a:lnTo>
                  <a:lnTo>
                    <a:pt x="464" y="2300"/>
                  </a:lnTo>
                  <a:lnTo>
                    <a:pt x="464" y="2294"/>
                  </a:lnTo>
                  <a:lnTo>
                    <a:pt x="467" y="2291"/>
                  </a:lnTo>
                  <a:lnTo>
                    <a:pt x="467" y="2283"/>
                  </a:lnTo>
                  <a:lnTo>
                    <a:pt x="473" y="2274"/>
                  </a:lnTo>
                  <a:lnTo>
                    <a:pt x="473" y="2269"/>
                  </a:lnTo>
                  <a:lnTo>
                    <a:pt x="476" y="2260"/>
                  </a:lnTo>
                  <a:lnTo>
                    <a:pt x="479" y="2252"/>
                  </a:lnTo>
                  <a:lnTo>
                    <a:pt x="482" y="2243"/>
                  </a:lnTo>
                  <a:lnTo>
                    <a:pt x="485" y="2235"/>
                  </a:lnTo>
                  <a:lnTo>
                    <a:pt x="485" y="2223"/>
                  </a:lnTo>
                  <a:lnTo>
                    <a:pt x="488" y="2212"/>
                  </a:lnTo>
                  <a:lnTo>
                    <a:pt x="491" y="2200"/>
                  </a:lnTo>
                  <a:lnTo>
                    <a:pt x="491" y="2195"/>
                  </a:lnTo>
                  <a:lnTo>
                    <a:pt x="494" y="2189"/>
                  </a:lnTo>
                  <a:lnTo>
                    <a:pt x="494" y="2183"/>
                  </a:lnTo>
                  <a:lnTo>
                    <a:pt x="494" y="2178"/>
                  </a:lnTo>
                  <a:lnTo>
                    <a:pt x="494" y="2172"/>
                  </a:lnTo>
                  <a:lnTo>
                    <a:pt x="494" y="2163"/>
                  </a:lnTo>
                  <a:lnTo>
                    <a:pt x="494" y="2158"/>
                  </a:lnTo>
                  <a:lnTo>
                    <a:pt x="494" y="2152"/>
                  </a:lnTo>
                  <a:lnTo>
                    <a:pt x="494" y="2146"/>
                  </a:lnTo>
                  <a:lnTo>
                    <a:pt x="494" y="2138"/>
                  </a:lnTo>
                  <a:lnTo>
                    <a:pt x="491" y="2132"/>
                  </a:lnTo>
                  <a:lnTo>
                    <a:pt x="491" y="2127"/>
                  </a:lnTo>
                  <a:lnTo>
                    <a:pt x="488" y="2118"/>
                  </a:lnTo>
                  <a:lnTo>
                    <a:pt x="488" y="2112"/>
                  </a:lnTo>
                  <a:lnTo>
                    <a:pt x="488" y="2107"/>
                  </a:lnTo>
                  <a:lnTo>
                    <a:pt x="488" y="2098"/>
                  </a:lnTo>
                  <a:lnTo>
                    <a:pt x="485" y="2092"/>
                  </a:lnTo>
                  <a:lnTo>
                    <a:pt x="482" y="2087"/>
                  </a:lnTo>
                  <a:lnTo>
                    <a:pt x="479" y="2078"/>
                  </a:lnTo>
                  <a:lnTo>
                    <a:pt x="479" y="2073"/>
                  </a:lnTo>
                  <a:lnTo>
                    <a:pt x="476" y="2067"/>
                  </a:lnTo>
                  <a:lnTo>
                    <a:pt x="473" y="2058"/>
                  </a:lnTo>
                  <a:lnTo>
                    <a:pt x="470" y="2050"/>
                  </a:lnTo>
                  <a:lnTo>
                    <a:pt x="467" y="2044"/>
                  </a:lnTo>
                  <a:lnTo>
                    <a:pt x="464" y="2038"/>
                  </a:lnTo>
                  <a:lnTo>
                    <a:pt x="457" y="2030"/>
                  </a:lnTo>
                  <a:lnTo>
                    <a:pt x="454" y="2024"/>
                  </a:lnTo>
                  <a:lnTo>
                    <a:pt x="451" y="2018"/>
                  </a:lnTo>
                  <a:lnTo>
                    <a:pt x="445" y="2010"/>
                  </a:lnTo>
                  <a:lnTo>
                    <a:pt x="442" y="2004"/>
                  </a:lnTo>
                  <a:lnTo>
                    <a:pt x="436" y="1996"/>
                  </a:lnTo>
                  <a:lnTo>
                    <a:pt x="430" y="1990"/>
                  </a:lnTo>
                  <a:lnTo>
                    <a:pt x="424" y="1984"/>
                  </a:lnTo>
                  <a:lnTo>
                    <a:pt x="421" y="1979"/>
                  </a:lnTo>
                  <a:lnTo>
                    <a:pt x="411" y="1970"/>
                  </a:lnTo>
                  <a:lnTo>
                    <a:pt x="408" y="1964"/>
                  </a:lnTo>
                  <a:lnTo>
                    <a:pt x="402" y="1959"/>
                  </a:lnTo>
                  <a:lnTo>
                    <a:pt x="396" y="1950"/>
                  </a:lnTo>
                  <a:lnTo>
                    <a:pt x="390" y="1945"/>
                  </a:lnTo>
                  <a:lnTo>
                    <a:pt x="387" y="1936"/>
                  </a:lnTo>
                  <a:lnTo>
                    <a:pt x="381" y="1928"/>
                  </a:lnTo>
                  <a:lnTo>
                    <a:pt x="378" y="1922"/>
                  </a:lnTo>
                  <a:lnTo>
                    <a:pt x="372" y="1916"/>
                  </a:lnTo>
                  <a:lnTo>
                    <a:pt x="365" y="1908"/>
                  </a:lnTo>
                  <a:lnTo>
                    <a:pt x="362" y="1899"/>
                  </a:lnTo>
                  <a:lnTo>
                    <a:pt x="356" y="1893"/>
                  </a:lnTo>
                  <a:lnTo>
                    <a:pt x="353" y="1888"/>
                  </a:lnTo>
                  <a:lnTo>
                    <a:pt x="347" y="1879"/>
                  </a:lnTo>
                  <a:lnTo>
                    <a:pt x="344" y="1871"/>
                  </a:lnTo>
                  <a:lnTo>
                    <a:pt x="341" y="1865"/>
                  </a:lnTo>
                  <a:lnTo>
                    <a:pt x="335" y="1856"/>
                  </a:lnTo>
                  <a:lnTo>
                    <a:pt x="332" y="1848"/>
                  </a:lnTo>
                  <a:lnTo>
                    <a:pt x="329" y="1839"/>
                  </a:lnTo>
                  <a:lnTo>
                    <a:pt x="325" y="1834"/>
                  </a:lnTo>
                  <a:lnTo>
                    <a:pt x="322" y="1828"/>
                  </a:lnTo>
                  <a:lnTo>
                    <a:pt x="319" y="1820"/>
                  </a:lnTo>
                  <a:lnTo>
                    <a:pt x="313" y="1814"/>
                  </a:lnTo>
                  <a:lnTo>
                    <a:pt x="310" y="1802"/>
                  </a:lnTo>
                  <a:lnTo>
                    <a:pt x="307" y="1797"/>
                  </a:lnTo>
                  <a:lnTo>
                    <a:pt x="304" y="1788"/>
                  </a:lnTo>
                  <a:lnTo>
                    <a:pt x="301" y="1783"/>
                  </a:lnTo>
                  <a:lnTo>
                    <a:pt x="298" y="1774"/>
                  </a:lnTo>
                  <a:lnTo>
                    <a:pt x="298" y="1766"/>
                  </a:lnTo>
                  <a:lnTo>
                    <a:pt x="292" y="1760"/>
                  </a:lnTo>
                  <a:lnTo>
                    <a:pt x="289" y="1751"/>
                  </a:lnTo>
                  <a:lnTo>
                    <a:pt x="286" y="1743"/>
                  </a:lnTo>
                  <a:lnTo>
                    <a:pt x="286" y="1734"/>
                  </a:lnTo>
                  <a:lnTo>
                    <a:pt x="279" y="1726"/>
                  </a:lnTo>
                  <a:lnTo>
                    <a:pt x="276" y="1717"/>
                  </a:lnTo>
                  <a:lnTo>
                    <a:pt x="276" y="1711"/>
                  </a:lnTo>
                  <a:lnTo>
                    <a:pt x="273" y="1703"/>
                  </a:lnTo>
                  <a:lnTo>
                    <a:pt x="273" y="1694"/>
                  </a:lnTo>
                  <a:lnTo>
                    <a:pt x="270" y="1686"/>
                  </a:lnTo>
                  <a:lnTo>
                    <a:pt x="267" y="1680"/>
                  </a:lnTo>
                  <a:lnTo>
                    <a:pt x="267" y="1672"/>
                  </a:lnTo>
                  <a:lnTo>
                    <a:pt x="264" y="1663"/>
                  </a:lnTo>
                  <a:lnTo>
                    <a:pt x="264" y="1655"/>
                  </a:lnTo>
                  <a:lnTo>
                    <a:pt x="261" y="1646"/>
                  </a:lnTo>
                  <a:lnTo>
                    <a:pt x="258" y="1640"/>
                  </a:lnTo>
                  <a:lnTo>
                    <a:pt x="258" y="1632"/>
                  </a:lnTo>
                  <a:lnTo>
                    <a:pt x="255" y="1623"/>
                  </a:lnTo>
                  <a:lnTo>
                    <a:pt x="255" y="1615"/>
                  </a:lnTo>
                  <a:lnTo>
                    <a:pt x="255" y="1606"/>
                  </a:lnTo>
                  <a:lnTo>
                    <a:pt x="252" y="1601"/>
                  </a:lnTo>
                  <a:lnTo>
                    <a:pt x="252" y="1589"/>
                  </a:lnTo>
                  <a:lnTo>
                    <a:pt x="249" y="1584"/>
                  </a:lnTo>
                  <a:lnTo>
                    <a:pt x="249" y="1575"/>
                  </a:lnTo>
                  <a:lnTo>
                    <a:pt x="249" y="1569"/>
                  </a:lnTo>
                  <a:lnTo>
                    <a:pt x="249" y="1561"/>
                  </a:lnTo>
                  <a:lnTo>
                    <a:pt x="249" y="1552"/>
                  </a:lnTo>
                  <a:lnTo>
                    <a:pt x="249" y="1544"/>
                  </a:lnTo>
                  <a:lnTo>
                    <a:pt x="249" y="1535"/>
                  </a:lnTo>
                  <a:lnTo>
                    <a:pt x="249" y="1527"/>
                  </a:lnTo>
                  <a:lnTo>
                    <a:pt x="249" y="1521"/>
                  </a:lnTo>
                  <a:lnTo>
                    <a:pt x="249" y="1513"/>
                  </a:lnTo>
                  <a:lnTo>
                    <a:pt x="249" y="1504"/>
                  </a:lnTo>
                  <a:lnTo>
                    <a:pt x="246" y="1495"/>
                  </a:lnTo>
                  <a:lnTo>
                    <a:pt x="246" y="1487"/>
                  </a:lnTo>
                  <a:lnTo>
                    <a:pt x="246" y="1478"/>
                  </a:lnTo>
                  <a:lnTo>
                    <a:pt x="249" y="1470"/>
                  </a:lnTo>
                  <a:lnTo>
                    <a:pt x="249" y="1459"/>
                  </a:lnTo>
                  <a:lnTo>
                    <a:pt x="249" y="1447"/>
                  </a:lnTo>
                  <a:lnTo>
                    <a:pt x="249" y="1439"/>
                  </a:lnTo>
                  <a:lnTo>
                    <a:pt x="252" y="1430"/>
                  </a:lnTo>
                  <a:lnTo>
                    <a:pt x="252" y="1419"/>
                  </a:lnTo>
                  <a:lnTo>
                    <a:pt x="255" y="1407"/>
                  </a:lnTo>
                  <a:lnTo>
                    <a:pt x="255" y="1396"/>
                  </a:lnTo>
                  <a:lnTo>
                    <a:pt x="258" y="1385"/>
                  </a:lnTo>
                  <a:lnTo>
                    <a:pt x="261" y="1370"/>
                  </a:lnTo>
                  <a:lnTo>
                    <a:pt x="264" y="1362"/>
                  </a:lnTo>
                  <a:lnTo>
                    <a:pt x="267" y="1348"/>
                  </a:lnTo>
                  <a:lnTo>
                    <a:pt x="270" y="1339"/>
                  </a:lnTo>
                  <a:lnTo>
                    <a:pt x="270" y="1325"/>
                  </a:lnTo>
                  <a:lnTo>
                    <a:pt x="273" y="1311"/>
                  </a:lnTo>
                  <a:lnTo>
                    <a:pt x="276" y="1299"/>
                  </a:lnTo>
                  <a:lnTo>
                    <a:pt x="279" y="1288"/>
                  </a:lnTo>
                  <a:lnTo>
                    <a:pt x="283" y="1274"/>
                  </a:lnTo>
                  <a:lnTo>
                    <a:pt x="286" y="1260"/>
                  </a:lnTo>
                  <a:lnTo>
                    <a:pt x="289" y="1245"/>
                  </a:lnTo>
                  <a:lnTo>
                    <a:pt x="295" y="1231"/>
                  </a:lnTo>
                  <a:lnTo>
                    <a:pt x="298" y="1217"/>
                  </a:lnTo>
                  <a:lnTo>
                    <a:pt x="301" y="1206"/>
                  </a:lnTo>
                  <a:lnTo>
                    <a:pt x="304" y="1188"/>
                  </a:lnTo>
                  <a:lnTo>
                    <a:pt x="307" y="1177"/>
                  </a:lnTo>
                  <a:lnTo>
                    <a:pt x="310" y="1160"/>
                  </a:lnTo>
                  <a:lnTo>
                    <a:pt x="313" y="1149"/>
                  </a:lnTo>
                  <a:lnTo>
                    <a:pt x="319" y="1134"/>
                  </a:lnTo>
                  <a:lnTo>
                    <a:pt x="322" y="1120"/>
                  </a:lnTo>
                  <a:lnTo>
                    <a:pt x="325" y="1103"/>
                  </a:lnTo>
                  <a:lnTo>
                    <a:pt x="329" y="1089"/>
                  </a:lnTo>
                  <a:lnTo>
                    <a:pt x="332" y="1075"/>
                  </a:lnTo>
                  <a:lnTo>
                    <a:pt x="335" y="1063"/>
                  </a:lnTo>
                  <a:lnTo>
                    <a:pt x="335" y="1046"/>
                  </a:lnTo>
                  <a:lnTo>
                    <a:pt x="341" y="1032"/>
                  </a:lnTo>
                  <a:lnTo>
                    <a:pt x="344" y="1018"/>
                  </a:lnTo>
                  <a:lnTo>
                    <a:pt x="347" y="1004"/>
                  </a:lnTo>
                  <a:lnTo>
                    <a:pt x="350" y="987"/>
                  </a:lnTo>
                  <a:lnTo>
                    <a:pt x="353" y="972"/>
                  </a:lnTo>
                  <a:lnTo>
                    <a:pt x="356" y="958"/>
                  </a:lnTo>
                  <a:lnTo>
                    <a:pt x="359" y="944"/>
                  </a:lnTo>
                  <a:lnTo>
                    <a:pt x="362" y="930"/>
                  </a:lnTo>
                  <a:lnTo>
                    <a:pt x="365" y="916"/>
                  </a:lnTo>
                  <a:lnTo>
                    <a:pt x="368" y="901"/>
                  </a:lnTo>
                  <a:lnTo>
                    <a:pt x="372" y="890"/>
                  </a:lnTo>
                  <a:lnTo>
                    <a:pt x="375" y="873"/>
                  </a:lnTo>
                  <a:lnTo>
                    <a:pt x="375" y="862"/>
                  </a:lnTo>
                  <a:lnTo>
                    <a:pt x="378" y="845"/>
                  </a:lnTo>
                  <a:lnTo>
                    <a:pt x="378" y="830"/>
                  </a:lnTo>
                  <a:lnTo>
                    <a:pt x="378" y="819"/>
                  </a:lnTo>
                  <a:lnTo>
                    <a:pt x="381" y="805"/>
                  </a:lnTo>
                  <a:lnTo>
                    <a:pt x="381" y="793"/>
                  </a:lnTo>
                  <a:lnTo>
                    <a:pt x="384" y="779"/>
                  </a:lnTo>
                  <a:lnTo>
                    <a:pt x="384" y="768"/>
                  </a:lnTo>
                  <a:lnTo>
                    <a:pt x="384" y="754"/>
                  </a:lnTo>
                  <a:lnTo>
                    <a:pt x="384" y="739"/>
                  </a:lnTo>
                  <a:lnTo>
                    <a:pt x="387" y="731"/>
                  </a:lnTo>
                  <a:lnTo>
                    <a:pt x="387" y="714"/>
                  </a:lnTo>
                  <a:lnTo>
                    <a:pt x="387" y="702"/>
                  </a:lnTo>
                  <a:lnTo>
                    <a:pt x="387" y="691"/>
                  </a:lnTo>
                  <a:lnTo>
                    <a:pt x="387" y="682"/>
                  </a:lnTo>
                  <a:lnTo>
                    <a:pt x="384" y="668"/>
                  </a:lnTo>
                  <a:lnTo>
                    <a:pt x="384" y="660"/>
                  </a:lnTo>
                  <a:lnTo>
                    <a:pt x="381" y="646"/>
                  </a:lnTo>
                  <a:lnTo>
                    <a:pt x="381" y="634"/>
                  </a:lnTo>
                  <a:lnTo>
                    <a:pt x="378" y="623"/>
                  </a:lnTo>
                  <a:lnTo>
                    <a:pt x="378" y="611"/>
                  </a:lnTo>
                  <a:lnTo>
                    <a:pt x="378" y="603"/>
                  </a:lnTo>
                  <a:lnTo>
                    <a:pt x="375" y="592"/>
                  </a:lnTo>
                  <a:lnTo>
                    <a:pt x="375" y="580"/>
                  </a:lnTo>
                  <a:lnTo>
                    <a:pt x="372" y="569"/>
                  </a:lnTo>
                  <a:lnTo>
                    <a:pt x="368" y="560"/>
                  </a:lnTo>
                  <a:lnTo>
                    <a:pt x="368" y="549"/>
                  </a:lnTo>
                  <a:lnTo>
                    <a:pt x="365" y="540"/>
                  </a:lnTo>
                  <a:lnTo>
                    <a:pt x="362" y="529"/>
                  </a:lnTo>
                  <a:lnTo>
                    <a:pt x="359" y="520"/>
                  </a:lnTo>
                  <a:lnTo>
                    <a:pt x="356" y="509"/>
                  </a:lnTo>
                  <a:lnTo>
                    <a:pt x="353" y="501"/>
                  </a:lnTo>
                  <a:lnTo>
                    <a:pt x="353" y="489"/>
                  </a:lnTo>
                  <a:lnTo>
                    <a:pt x="347" y="481"/>
                  </a:lnTo>
                  <a:lnTo>
                    <a:pt x="347" y="472"/>
                  </a:lnTo>
                  <a:lnTo>
                    <a:pt x="344" y="461"/>
                  </a:lnTo>
                  <a:lnTo>
                    <a:pt x="341" y="452"/>
                  </a:lnTo>
                  <a:lnTo>
                    <a:pt x="335" y="444"/>
                  </a:lnTo>
                  <a:lnTo>
                    <a:pt x="335" y="435"/>
                  </a:lnTo>
                  <a:lnTo>
                    <a:pt x="329" y="424"/>
                  </a:lnTo>
                  <a:lnTo>
                    <a:pt x="325" y="418"/>
                  </a:lnTo>
                  <a:lnTo>
                    <a:pt x="322" y="407"/>
                  </a:lnTo>
                  <a:lnTo>
                    <a:pt x="319" y="401"/>
                  </a:lnTo>
                  <a:lnTo>
                    <a:pt x="313" y="390"/>
                  </a:lnTo>
                  <a:lnTo>
                    <a:pt x="307" y="384"/>
                  </a:lnTo>
                  <a:lnTo>
                    <a:pt x="304" y="373"/>
                  </a:lnTo>
                  <a:lnTo>
                    <a:pt x="301" y="367"/>
                  </a:lnTo>
                  <a:lnTo>
                    <a:pt x="292" y="358"/>
                  </a:lnTo>
                  <a:lnTo>
                    <a:pt x="286" y="350"/>
                  </a:lnTo>
                  <a:lnTo>
                    <a:pt x="279" y="344"/>
                  </a:lnTo>
                  <a:lnTo>
                    <a:pt x="276" y="336"/>
                  </a:lnTo>
                  <a:lnTo>
                    <a:pt x="267" y="327"/>
                  </a:lnTo>
                  <a:lnTo>
                    <a:pt x="264" y="319"/>
                  </a:lnTo>
                  <a:lnTo>
                    <a:pt x="255" y="313"/>
                  </a:lnTo>
                  <a:lnTo>
                    <a:pt x="249" y="304"/>
                  </a:lnTo>
                  <a:lnTo>
                    <a:pt x="243" y="299"/>
                  </a:lnTo>
                  <a:lnTo>
                    <a:pt x="233" y="293"/>
                  </a:lnTo>
                  <a:lnTo>
                    <a:pt x="227" y="285"/>
                  </a:lnTo>
                  <a:lnTo>
                    <a:pt x="221" y="279"/>
                  </a:lnTo>
                  <a:lnTo>
                    <a:pt x="209" y="273"/>
                  </a:lnTo>
                  <a:lnTo>
                    <a:pt x="200" y="265"/>
                  </a:lnTo>
                  <a:lnTo>
                    <a:pt x="194" y="262"/>
                  </a:lnTo>
                  <a:lnTo>
                    <a:pt x="184" y="256"/>
                  </a:lnTo>
                  <a:lnTo>
                    <a:pt x="175" y="248"/>
                  </a:lnTo>
                  <a:lnTo>
                    <a:pt x="166" y="242"/>
                  </a:lnTo>
                  <a:lnTo>
                    <a:pt x="154" y="236"/>
                  </a:lnTo>
                  <a:lnTo>
                    <a:pt x="144" y="231"/>
                  </a:lnTo>
                  <a:lnTo>
                    <a:pt x="132" y="225"/>
                  </a:lnTo>
                  <a:lnTo>
                    <a:pt x="123" y="222"/>
                  </a:lnTo>
                  <a:lnTo>
                    <a:pt x="111" y="216"/>
                  </a:lnTo>
                  <a:lnTo>
                    <a:pt x="101" y="211"/>
                  </a:lnTo>
                  <a:lnTo>
                    <a:pt x="89" y="205"/>
                  </a:lnTo>
                  <a:lnTo>
                    <a:pt x="80" y="202"/>
                  </a:lnTo>
                  <a:lnTo>
                    <a:pt x="65" y="196"/>
                  </a:lnTo>
                  <a:lnTo>
                    <a:pt x="52" y="194"/>
                  </a:lnTo>
                  <a:lnTo>
                    <a:pt x="40" y="188"/>
                  </a:lnTo>
                  <a:lnTo>
                    <a:pt x="25" y="185"/>
                  </a:lnTo>
                  <a:lnTo>
                    <a:pt x="12" y="182"/>
                  </a:lnTo>
                  <a:lnTo>
                    <a:pt x="0" y="179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8280" y="4537080"/>
              <a:ext cx="1695600" cy="7300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1720" y="3214800"/>
              <a:ext cx="1158840" cy="3682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76480" y="3578400"/>
              <a:ext cx="1138320" cy="376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25440" y="5319720"/>
              <a:ext cx="1766880" cy="6811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44640" y="3052800"/>
              <a:ext cx="1542960" cy="4381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01680" y="2593800"/>
              <a:ext cx="1162080" cy="417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1600" y="3659040"/>
              <a:ext cx="1538280" cy="6508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92160" y="4029120"/>
              <a:ext cx="1419480" cy="695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0040" y="2692440"/>
              <a:ext cx="1152360" cy="3967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98680" y="2271600"/>
              <a:ext cx="787320" cy="3780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6640" y="3174840"/>
              <a:ext cx="108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geolog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16000" y="3041640"/>
              <a:ext cx="126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petrophysic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44720" y="4083120"/>
              <a:ext cx="131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fluid properti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8960" y="3635280"/>
              <a:ext cx="1241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development pla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09720" y="2666880"/>
              <a:ext cx="92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faciliti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2720" y="4478400"/>
              <a:ext cx="1158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operational constrain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84400" y="3614760"/>
              <a:ext cx="110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geophysic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73120" y="2201760"/>
              <a:ext cx="87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wells</a:t>
              </a:r>
              <a:r>
                <a:rPr b="1" lang="ru-RU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06720" y="2557440"/>
              <a:ext cx="114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commerci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14360" y="5359320"/>
              <a:ext cx="164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and many more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25800" y="4835520"/>
              <a:ext cx="1266840" cy="4539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32000" y="4803840"/>
              <a:ext cx="107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uncertaint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06520" y="2363760"/>
              <a:ext cx="98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ff"/>
                  </a:solidFill>
                  <a:latin typeface="Arial"/>
                </a:rPr>
                <a:t>скважины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97000" y="2709720"/>
              <a:ext cx="114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ff"/>
                  </a:solidFill>
                  <a:latin typeface="Arial"/>
                </a:rPr>
                <a:t>экономика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7720" y="2838600"/>
              <a:ext cx="118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ff"/>
                  </a:solidFill>
                  <a:latin typeface="Arial"/>
                </a:rPr>
                <a:t>сооружения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0480" y="3317760"/>
              <a:ext cx="88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ff"/>
                  </a:solidFill>
                  <a:latin typeface="Arial"/>
                </a:rPr>
                <a:t>геология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87560" y="3213000"/>
              <a:ext cx="126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ff"/>
                  </a:solidFill>
                  <a:latin typeface="Arial"/>
                </a:rPr>
                <a:t>петрофизика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4200" y="3968640"/>
              <a:ext cx="153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ff"/>
                  </a:solidFill>
                  <a:latin typeface="Arial"/>
                </a:rPr>
                <a:t>План разработки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92240" y="4282920"/>
              <a:ext cx="1144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ff"/>
                  </a:solidFill>
                  <a:latin typeface="Arial"/>
                </a:rPr>
                <a:t>свойства флюида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5040" y="4811760"/>
              <a:ext cx="1692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ff"/>
                  </a:solidFill>
                  <a:latin typeface="Arial"/>
                </a:rPr>
                <a:t>эксплуатационные ограничения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09760" y="5483160"/>
              <a:ext cx="1531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и многое другое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2588760" y="1089000"/>
              <a:ext cx="971640" cy="13795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03400" y="4994280"/>
              <a:ext cx="161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ff"/>
                  </a:solidFill>
                  <a:latin typeface="Arial"/>
                </a:rPr>
                <a:t>неопределённость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3" name="" descr=""/>
          <p:cNvPicPr/>
          <p:nvPr/>
        </p:nvPicPr>
        <p:blipFill>
          <a:blip r:embed="rId1"/>
          <a:stretch/>
        </p:blipFill>
        <p:spPr>
          <a:xfrm>
            <a:off x="324000" y="762120"/>
            <a:ext cx="8496000" cy="5159160"/>
          </a:xfrm>
          <a:prstGeom prst="rect">
            <a:avLst/>
          </a:prstGeom>
          <a:ln w="0">
            <a:noFill/>
          </a:ln>
        </p:spPr>
      </p:pic>
      <p:sp>
        <p:nvSpPr>
          <p:cNvPr id="1254" name=""/>
          <p:cNvSpPr/>
          <p:nvPr/>
        </p:nvSpPr>
        <p:spPr>
          <a:xfrm>
            <a:off x="1398600" y="3570120"/>
            <a:ext cx="1922400" cy="1014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Harmonic dec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EUR = 22.3 MMst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Error in EUR of 5.2 MMstb, or 3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874880" y="2112840"/>
            <a:ext cx="2289240" cy="641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Straight line of Qo vs. Np plot with semi-log axes =&gt; harmonic dec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183280" y="4494240"/>
            <a:ext cx="164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Exponential dec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058160" y="3238560"/>
            <a:ext cx="164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33cc"/>
                </a:solidFill>
                <a:latin typeface="Arial"/>
              </a:rPr>
              <a:t>Harmonic dec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H="1" flipV="1">
            <a:off x="6166440" y="3931200"/>
            <a:ext cx="390960" cy="606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H="1">
            <a:off x="7104240" y="3263760"/>
            <a:ext cx="266400" cy="5176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944880" y="1287360"/>
            <a:ext cx="4416480" cy="276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ate vs. cumulative production on semi-log ax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rot="18556800">
            <a:off x="5267520" y="1901160"/>
            <a:ext cx="168120" cy="654120"/>
          </a:xfrm>
          <a:custGeom>
            <a:avLst/>
            <a:gdLst>
              <a:gd name="textAreaLeft" fmla="*/ 0 w 168120"/>
              <a:gd name="textAreaRight" fmla="*/ 60840 w 168120"/>
              <a:gd name="textAreaTop" fmla="*/ 16920 h 654120"/>
              <a:gd name="textAreaBottom" fmla="*/ 637200 h 65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992920" y="1849320"/>
            <a:ext cx="211140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Original interval used for trend analy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5405040" y="2000160"/>
            <a:ext cx="598680" cy="1526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0" y="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hoosing the historical interval for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521240" y="0"/>
            <a:ext cx="45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бор временного интервала для анали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800360" y="979560"/>
            <a:ext cx="5724360" cy="24624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next 11 years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ледующи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л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954600" y="1544760"/>
            <a:ext cx="4416120" cy="276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бит и накопленная добыча на ося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888160" y="2278080"/>
            <a:ext cx="227304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нтервал,использованный для анализа трен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219720" y="2781360"/>
            <a:ext cx="164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Гармоничный спад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531800" y="2760840"/>
            <a:ext cx="363240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рямая линия графика дебита и накопленной добычи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 =&gt;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гармоничный спа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389400" y="3408480"/>
            <a:ext cx="2036520" cy="1379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Гармоничный спа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онечные извлекаемые запасы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 = 22.3 MMst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шибка в КИЗ на 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5.2 MMstb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или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 3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507000" y="4494240"/>
            <a:ext cx="195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Экспоненциальный спад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19240" y="5834160"/>
            <a:ext cx="879624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There is also a very convincing harmonic decline!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19240" y="6272280"/>
            <a:ext cx="879624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акже присутствует весьма убедительный гармоничный спад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!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486400" y="5494320"/>
            <a:ext cx="145728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7" name="" descr=""/>
          <p:cNvPicPr/>
          <p:nvPr/>
        </p:nvPicPr>
        <p:blipFill>
          <a:blip r:embed="rId1"/>
          <a:stretch/>
        </p:blipFill>
        <p:spPr>
          <a:xfrm>
            <a:off x="324000" y="754200"/>
            <a:ext cx="8496000" cy="5173560"/>
          </a:xfrm>
          <a:prstGeom prst="rect">
            <a:avLst/>
          </a:prstGeom>
          <a:ln w="0">
            <a:noFill/>
          </a:ln>
        </p:spPr>
      </p:pic>
      <p:sp>
        <p:nvSpPr>
          <p:cNvPr id="1278" name=""/>
          <p:cNvSpPr/>
          <p:nvPr/>
        </p:nvSpPr>
        <p:spPr>
          <a:xfrm>
            <a:off x="5410080" y="3387600"/>
            <a:ext cx="164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33cc"/>
                </a:solidFill>
                <a:latin typeface="Arial"/>
              </a:rPr>
              <a:t>Harmonic decline forec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6927480" y="3843360"/>
            <a:ext cx="82440" cy="76824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076480" y="3751200"/>
            <a:ext cx="164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Exponential decline forec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513240" y="4305240"/>
            <a:ext cx="1252440" cy="104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411360" y="1430280"/>
            <a:ext cx="4950000" cy="307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te vs. time on linear ax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848040" y="2281320"/>
            <a:ext cx="2054160" cy="520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Original interval used for trend 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>
            <a:off x="4240440" y="2844000"/>
            <a:ext cx="1659240" cy="6570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rot="19448400">
            <a:off x="4084200" y="3098520"/>
            <a:ext cx="185760" cy="885600"/>
          </a:xfrm>
          <a:custGeom>
            <a:avLst/>
            <a:gdLst>
              <a:gd name="textAreaLeft" fmla="*/ 0 w 185760"/>
              <a:gd name="textAreaRight" fmla="*/ 66960 w 185760"/>
              <a:gd name="textAreaTop" fmla="*/ 23040 h 885600"/>
              <a:gd name="textAreaBottom" fmla="*/ 862560 h 88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0" y="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hoosing the historical interval for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521240" y="0"/>
            <a:ext cx="45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бор временного интервала для анали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800360" y="979560"/>
            <a:ext cx="5724360" cy="24624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next 11 years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ледующи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л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067440" y="2271600"/>
            <a:ext cx="2054160" cy="733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Интервал, использованный для анализа тренд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86440" y="3368520"/>
            <a:ext cx="1648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Прогноз по гармоничному спаду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417840" y="1760400"/>
            <a:ext cx="4950000" cy="307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бит и время на линейных осях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943280" y="4322880"/>
            <a:ext cx="207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гноз по экспоненциальному спаду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23840" y="5786280"/>
            <a:ext cx="879624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The interval was just too short for a reliable analysis!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23840" y="6148440"/>
            <a:ext cx="8796240" cy="3834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нтервал был слишком коротким для надёжного анализа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!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477040" y="5551560"/>
            <a:ext cx="1457280" cy="2311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88880" y="3600360"/>
            <a:ext cx="3452760" cy="258588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The solu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un sensitivities to understand the range of uncertainty in parame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Use theoretical basis for selecting the hyperbolic exponen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30320" y="0"/>
            <a:ext cx="382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hoosing the historical interval for analy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27040" y="860400"/>
            <a:ext cx="3443400" cy="258588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The less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The hyperbolic exponent is mathematically the most powerful parameter in our equations, y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It is the most difficult to define uniquely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451400" y="793800"/>
            <a:ext cx="4529160" cy="258588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рок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иперболический экспонент является математически самым сильным параметром в наших уравнениях, но однако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го труднее всего определить однозначно.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451400" y="3409920"/>
            <a:ext cx="4510080" cy="313452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шение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вести анализ чувствительности для понимания диапазона неопределённостей в параметр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пользовать теоретическую базу для выбора гиперболического экспонен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511520" y="0"/>
            <a:ext cx="448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ыбор временного интервала для анализ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3" name="" descr=""/>
          <p:cNvPicPr/>
          <p:nvPr/>
        </p:nvPicPr>
        <p:blipFill>
          <a:blip r:embed="rId1"/>
          <a:srcRect l="5140" t="0" r="4535" b="0"/>
          <a:stretch/>
        </p:blipFill>
        <p:spPr>
          <a:xfrm>
            <a:off x="538200" y="782640"/>
            <a:ext cx="8053200" cy="2859120"/>
          </a:xfrm>
          <a:prstGeom prst="rect">
            <a:avLst/>
          </a:prstGeom>
          <a:ln w="15840">
            <a:solidFill>
              <a:srgbClr val="800080"/>
            </a:solidFill>
            <a:miter/>
          </a:ln>
        </p:spPr>
      </p:pic>
      <p:pic>
        <p:nvPicPr>
          <p:cNvPr id="1304" name="" descr=""/>
          <p:cNvPicPr/>
          <p:nvPr/>
        </p:nvPicPr>
        <p:blipFill>
          <a:blip r:embed="rId2"/>
          <a:srcRect l="5745" t="0" r="3628" b="0"/>
          <a:stretch/>
        </p:blipFill>
        <p:spPr>
          <a:xfrm>
            <a:off x="539640" y="3676680"/>
            <a:ext cx="8064720" cy="2792520"/>
          </a:xfrm>
          <a:prstGeom prst="rect">
            <a:avLst/>
          </a:prstGeom>
          <a:ln w="15840">
            <a:solidFill>
              <a:srgbClr val="800080"/>
            </a:solidFill>
            <a:miter/>
          </a:ln>
        </p:spPr>
      </p:pic>
      <p:sp>
        <p:nvSpPr>
          <p:cNvPr id="1305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58760" y="0"/>
            <a:ext cx="358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ome very bad pract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328760" y="852480"/>
            <a:ext cx="2655720" cy="6426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nconsistent start to foreca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871800" y="852480"/>
            <a:ext cx="2760840" cy="6426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последовательное начало прогноз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273640" y="149400"/>
            <a:ext cx="34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егативный опы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" descr=""/>
          <p:cNvPicPr/>
          <p:nvPr/>
        </p:nvPicPr>
        <p:blipFill>
          <a:blip r:embed="rId1"/>
          <a:srcRect l="5443" t="0" r="3628" b="0"/>
          <a:stretch/>
        </p:blipFill>
        <p:spPr>
          <a:xfrm>
            <a:off x="420840" y="804960"/>
            <a:ext cx="8297640" cy="2833560"/>
          </a:xfrm>
          <a:prstGeom prst="rect">
            <a:avLst/>
          </a:prstGeom>
          <a:ln w="15840">
            <a:solidFill>
              <a:srgbClr val="800080"/>
            </a:solidFill>
            <a:miter/>
          </a:ln>
        </p:spPr>
      </p:pic>
      <p:sp>
        <p:nvSpPr>
          <p:cNvPr id="1311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39680" y="0"/>
            <a:ext cx="33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ome very bad pract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205000" y="861840"/>
            <a:ext cx="4113360" cy="82404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Failing to recognise production interruptions when analysing plots of cumulative produ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2"/>
          <a:srcRect l="0" t="0" r="-8" b="0"/>
          <a:stretch/>
        </p:blipFill>
        <p:spPr>
          <a:xfrm>
            <a:off x="420840" y="3701880"/>
            <a:ext cx="8286480" cy="2754360"/>
          </a:xfrm>
          <a:prstGeom prst="rect">
            <a:avLst/>
          </a:prstGeom>
          <a:ln w="15840">
            <a:solidFill>
              <a:srgbClr val="800080"/>
            </a:solidFill>
            <a:miter/>
          </a:ln>
        </p:spPr>
      </p:pic>
      <p:sp>
        <p:nvSpPr>
          <p:cNvPr id="1315" name=""/>
          <p:cNvSpPr/>
          <p:nvPr/>
        </p:nvSpPr>
        <p:spPr>
          <a:xfrm>
            <a:off x="2347920" y="3976560"/>
            <a:ext cx="4113360" cy="82404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Непринятие во внимание прерывания добыче при анализе графиков накопленной добыч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006880" y="158760"/>
            <a:ext cx="37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гативный опы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7" name="" descr=""/>
          <p:cNvPicPr/>
          <p:nvPr/>
        </p:nvPicPr>
        <p:blipFill>
          <a:blip r:embed="rId1"/>
          <a:srcRect l="0" t="0" r="-25" b="0"/>
          <a:stretch/>
        </p:blipFill>
        <p:spPr>
          <a:xfrm>
            <a:off x="563400" y="3659040"/>
            <a:ext cx="8037720" cy="2795760"/>
          </a:xfrm>
          <a:prstGeom prst="rect">
            <a:avLst/>
          </a:prstGeom>
          <a:ln w="15840">
            <a:solidFill>
              <a:srgbClr val="800080"/>
            </a:solidFill>
            <a:miter/>
          </a:ln>
        </p:spPr>
      </p:pic>
      <p:pic>
        <p:nvPicPr>
          <p:cNvPr id="1318" name="" descr=""/>
          <p:cNvPicPr/>
          <p:nvPr/>
        </p:nvPicPr>
        <p:blipFill>
          <a:blip r:embed="rId2"/>
          <a:stretch/>
        </p:blipFill>
        <p:spPr>
          <a:xfrm>
            <a:off x="588960" y="806400"/>
            <a:ext cx="8016840" cy="2776680"/>
          </a:xfrm>
          <a:prstGeom prst="rect">
            <a:avLst/>
          </a:prstGeom>
          <a:ln w="15840">
            <a:solidFill>
              <a:srgbClr val="800080"/>
            </a:solidFill>
            <a:miter/>
          </a:ln>
        </p:spPr>
      </p:pic>
      <p:sp>
        <p:nvSpPr>
          <p:cNvPr id="1319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30320" y="149400"/>
            <a:ext cx="38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ome very bad pract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409920" y="3662280"/>
            <a:ext cx="3370320" cy="36828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Failing to consider all plo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409920" y="4062240"/>
            <a:ext cx="3370320" cy="6426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принятие во внимание всех график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159520" y="139680"/>
            <a:ext cx="37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гативный опы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182520" y="1100160"/>
            <a:ext cx="88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.  Concluding though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84040" y="2316240"/>
            <a:ext cx="88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. 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Заключен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30320" y="14940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cluding though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28600" y="1225440"/>
            <a:ext cx="39798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CA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still a very useful and important tool for reservoir engineers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but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aining of young engineers in its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practical application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seems to be neglected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ading to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bad practices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nd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rroneous forecasts and reserves!!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but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479840" y="1187280"/>
            <a:ext cx="436104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Д по-прежнему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являетс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чень полезным и важным инструментом для разработчиков месторождений,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о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учением молодых разработчиков по его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рактическому применени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чевидно пренебрегают,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что приводит к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гативному опыту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шибочным прогнозам и запасам!!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о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255920" y="139680"/>
            <a:ext cx="48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ключительные мыс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"/>
          <p:cNvSpPr/>
          <p:nvPr/>
        </p:nvSpPr>
        <p:spPr>
          <a:xfrm>
            <a:off x="0" y="0"/>
            <a:ext cx="8958240" cy="903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30320" y="0"/>
            <a:ext cx="318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golden rule......   once again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69880" y="4552920"/>
            <a:ext cx="7802640" cy="88632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he past can give us insight into the future only if the cause remains unchanged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4" name="" descr=""/>
          <p:cNvPicPr/>
          <p:nvPr/>
        </p:nvPicPr>
        <p:blipFill>
          <a:blip r:embed="rId1"/>
          <a:stretch/>
        </p:blipFill>
        <p:spPr>
          <a:xfrm>
            <a:off x="3178080" y="843120"/>
            <a:ext cx="2583000" cy="3584520"/>
          </a:xfrm>
          <a:prstGeom prst="rect">
            <a:avLst/>
          </a:prstGeom>
          <a:ln w="0">
            <a:noFill/>
          </a:ln>
        </p:spPr>
      </p:pic>
      <p:sp>
        <p:nvSpPr>
          <p:cNvPr id="1335" name=""/>
          <p:cNvSpPr/>
          <p:nvPr/>
        </p:nvSpPr>
        <p:spPr>
          <a:xfrm>
            <a:off x="192240" y="1104840"/>
            <a:ext cx="286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onders can be achieved with a small amount of discipline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869080" y="1104840"/>
            <a:ext cx="293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..наличие дисциплины позволяет творить чудеса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79600" y="5514840"/>
            <a:ext cx="7815240" cy="703800"/>
          </a:xfrm>
          <a:prstGeom prst="rect">
            <a:avLst/>
          </a:prstGeom>
          <a:solidFill>
            <a:srgbClr val="ffff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шлое даст вам шанс заглянуть в будущее только если причина останется неизменн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492880" y="0"/>
            <a:ext cx="336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олотое правило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......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щё раз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0" name=""/>
          <p:cNvSpPr/>
          <p:nvPr/>
        </p:nvSpPr>
        <p:spPr>
          <a:xfrm>
            <a:off x="192240" y="63360"/>
            <a:ext cx="88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nk you for your att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1" name="" descr=""/>
          <p:cNvPicPr/>
          <p:nvPr/>
        </p:nvPicPr>
        <p:blipFill>
          <a:blip r:embed="rId2"/>
          <a:stretch/>
        </p:blipFill>
        <p:spPr>
          <a:xfrm>
            <a:off x="5940360" y="2708280"/>
            <a:ext cx="1005120" cy="1008000"/>
          </a:xfrm>
          <a:prstGeom prst="rect">
            <a:avLst/>
          </a:prstGeom>
          <a:ln w="0">
            <a:noFill/>
          </a:ln>
        </p:spPr>
      </p:pic>
      <p:sp>
        <p:nvSpPr>
          <p:cNvPr id="1342" name=""/>
          <p:cNvSpPr/>
          <p:nvPr/>
        </p:nvSpPr>
        <p:spPr>
          <a:xfrm flipV="1">
            <a:off x="5802480" y="3687840"/>
            <a:ext cx="1319040" cy="79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79280" y="5326200"/>
            <a:ext cx="3819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r S.K.F. Hattin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Gaffney, Cline and Associ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827600" y="5135400"/>
            <a:ext cx="4000320" cy="15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р. Шэйн К.Ф. Гаттин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мпания Гэффни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лайн и партнёр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43080" y="469800"/>
            <a:ext cx="88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пасибо за вним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74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2600" y="-114480"/>
            <a:ext cx="330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Arial"/>
              </a:rPr>
              <a:t>The role of cause and eff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86480" y="792000"/>
            <a:ext cx="227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ecast “effec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4480" y="725400"/>
            <a:ext cx="179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st “effec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7760" y="4348080"/>
            <a:ext cx="8153280" cy="105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If the cause remains unchanged, can the effect already observed give an indication of things to com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DCA is based on the premise that the answer to this question is ‘YES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66800" y="1689120"/>
            <a:ext cx="7330680" cy="2572200"/>
            <a:chOff x="766800" y="1689120"/>
            <a:chExt cx="7330680" cy="2572200"/>
          </a:xfrm>
        </p:grpSpPr>
        <p:sp>
          <p:nvSpPr>
            <p:cNvPr id="229" name=""/>
            <p:cNvSpPr/>
            <p:nvPr/>
          </p:nvSpPr>
          <p:spPr>
            <a:xfrm>
              <a:off x="766800" y="1689120"/>
              <a:ext cx="7330680" cy="25149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05160" y="2039400"/>
              <a:ext cx="5849280" cy="1814040"/>
            </a:xfrm>
            <a:prstGeom prst="rect">
              <a:avLst/>
            </a:prstGeom>
            <a:solidFill>
              <a:srgbClr val="f8f8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05160" y="2029680"/>
              <a:ext cx="0" cy="18241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1505160" y="3853800"/>
              <a:ext cx="5857200" cy="576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183480" y="3924000"/>
              <a:ext cx="249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Time</a:t>
              </a:r>
              <a:r>
                <a:rPr b="1" lang="ru-RU" sz="1600" spc="-1" strike="noStrike">
                  <a:solidFill>
                    <a:srgbClr val="0000ff"/>
                  </a:solidFill>
                  <a:latin typeface="Arial"/>
                </a:rPr>
                <a:t> Время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6200000">
              <a:off x="810000" y="2630520"/>
              <a:ext cx="1225800" cy="9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Flow rate</a:t>
              </a:r>
              <a:r>
                <a:rPr b="1" lang="ru-RU" sz="1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Дебит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ff"/>
                  </a:solidFill>
                  <a:latin typeface="Arial"/>
                </a:rPr>
                <a:t>    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50600" y="3457080"/>
              <a:ext cx="73440" cy="352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97840" y="2844000"/>
              <a:ext cx="75600" cy="352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43280" y="2482920"/>
              <a:ext cx="75600" cy="360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38120" y="2195280"/>
              <a:ext cx="75240" cy="360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80200" y="2303640"/>
              <a:ext cx="73440" cy="352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2600" y="2158920"/>
              <a:ext cx="73800" cy="352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90520" y="2231280"/>
              <a:ext cx="75600" cy="352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85360" y="2231280"/>
              <a:ext cx="73440" cy="352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72520" y="2231280"/>
              <a:ext cx="73440" cy="352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25280" y="2303640"/>
              <a:ext cx="73440" cy="352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19760" y="2338920"/>
              <a:ext cx="73440" cy="360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14600" y="2628000"/>
              <a:ext cx="73440" cy="349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67360" y="2447640"/>
              <a:ext cx="73440" cy="352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07280" y="2808000"/>
              <a:ext cx="73440" cy="360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61840" y="2735640"/>
              <a:ext cx="73440" cy="360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52720" y="2879280"/>
              <a:ext cx="75600" cy="360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94440" y="3060720"/>
              <a:ext cx="75600" cy="352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39880" y="3132000"/>
              <a:ext cx="75600" cy="360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47560" y="2988360"/>
              <a:ext cx="75240" cy="349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9960" y="2915640"/>
              <a:ext cx="75600" cy="352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17040" y="2170440"/>
              <a:ext cx="3111840" cy="1676880"/>
            </a:xfrm>
            <a:custGeom>
              <a:avLst/>
              <a:gdLst/>
              <a:ahLst/>
              <a:rect l="l" t="t" r="r" b="b"/>
              <a:pathLst>
                <a:path w="1922" h="2110">
                  <a:moveTo>
                    <a:pt x="0" y="2110"/>
                  </a:moveTo>
                  <a:lnTo>
                    <a:pt x="105" y="1639"/>
                  </a:lnTo>
                  <a:lnTo>
                    <a:pt x="194" y="866"/>
                  </a:lnTo>
                  <a:lnTo>
                    <a:pt x="283" y="415"/>
                  </a:lnTo>
                  <a:lnTo>
                    <a:pt x="374" y="98"/>
                  </a:lnTo>
                  <a:lnTo>
                    <a:pt x="468" y="50"/>
                  </a:lnTo>
                  <a:lnTo>
                    <a:pt x="559" y="91"/>
                  </a:lnTo>
                  <a:lnTo>
                    <a:pt x="648" y="0"/>
                  </a:lnTo>
                  <a:lnTo>
                    <a:pt x="741" y="192"/>
                  </a:lnTo>
                  <a:lnTo>
                    <a:pt x="825" y="187"/>
                  </a:lnTo>
                  <a:lnTo>
                    <a:pt x="921" y="98"/>
                  </a:lnTo>
                  <a:lnTo>
                    <a:pt x="1015" y="233"/>
                  </a:lnTo>
                  <a:lnTo>
                    <a:pt x="1104" y="370"/>
                  </a:lnTo>
                  <a:lnTo>
                    <a:pt x="1195" y="598"/>
                  </a:lnTo>
                  <a:lnTo>
                    <a:pt x="1286" y="730"/>
                  </a:lnTo>
                  <a:lnTo>
                    <a:pt x="1380" y="821"/>
                  </a:lnTo>
                  <a:lnTo>
                    <a:pt x="1466" y="910"/>
                  </a:lnTo>
                  <a:lnTo>
                    <a:pt x="1560" y="958"/>
                  </a:lnTo>
                  <a:lnTo>
                    <a:pt x="1649" y="1046"/>
                  </a:lnTo>
                  <a:lnTo>
                    <a:pt x="1740" y="1140"/>
                  </a:lnTo>
                  <a:lnTo>
                    <a:pt x="1829" y="1229"/>
                  </a:lnTo>
                  <a:lnTo>
                    <a:pt x="1922" y="1322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23480" y="3221280"/>
              <a:ext cx="2255400" cy="542160"/>
            </a:xfrm>
            <a:custGeom>
              <a:avLst/>
              <a:gdLst/>
              <a:ahLst/>
              <a:rect l="l" t="t" r="r" b="b"/>
              <a:pathLst>
                <a:path w="1393" h="682">
                  <a:moveTo>
                    <a:pt x="0" y="0"/>
                  </a:moveTo>
                  <a:cubicBezTo>
                    <a:pt x="32" y="26"/>
                    <a:pt x="117" y="102"/>
                    <a:pt x="190" y="157"/>
                  </a:cubicBezTo>
                  <a:cubicBezTo>
                    <a:pt x="263" y="212"/>
                    <a:pt x="349" y="274"/>
                    <a:pt x="436" y="327"/>
                  </a:cubicBezTo>
                  <a:cubicBezTo>
                    <a:pt x="523" y="380"/>
                    <a:pt x="619" y="431"/>
                    <a:pt x="711" y="474"/>
                  </a:cubicBezTo>
                  <a:cubicBezTo>
                    <a:pt x="803" y="517"/>
                    <a:pt x="876" y="548"/>
                    <a:pt x="990" y="583"/>
                  </a:cubicBezTo>
                  <a:cubicBezTo>
                    <a:pt x="1104" y="618"/>
                    <a:pt x="1309" y="662"/>
                    <a:pt x="1393" y="68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27080" y="3222000"/>
              <a:ext cx="2693880" cy="392760"/>
            </a:xfrm>
            <a:custGeom>
              <a:avLst/>
              <a:gdLst/>
              <a:ahLst/>
              <a:rect l="l" t="t" r="r" b="b"/>
              <a:pathLst>
                <a:path w="1664" h="494">
                  <a:moveTo>
                    <a:pt x="0" y="0"/>
                  </a:moveTo>
                  <a:cubicBezTo>
                    <a:pt x="43" y="23"/>
                    <a:pt x="165" y="93"/>
                    <a:pt x="259" y="136"/>
                  </a:cubicBezTo>
                  <a:cubicBezTo>
                    <a:pt x="353" y="179"/>
                    <a:pt x="448" y="218"/>
                    <a:pt x="563" y="255"/>
                  </a:cubicBezTo>
                  <a:cubicBezTo>
                    <a:pt x="679" y="293"/>
                    <a:pt x="833" y="332"/>
                    <a:pt x="947" y="361"/>
                  </a:cubicBezTo>
                  <a:cubicBezTo>
                    <a:pt x="1061" y="389"/>
                    <a:pt x="1129" y="405"/>
                    <a:pt x="1248" y="427"/>
                  </a:cubicBezTo>
                  <a:cubicBezTo>
                    <a:pt x="1367" y="449"/>
                    <a:pt x="1577" y="480"/>
                    <a:pt x="1664" y="49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33200" y="3228120"/>
              <a:ext cx="1450800" cy="560880"/>
            </a:xfrm>
            <a:custGeom>
              <a:avLst/>
              <a:gdLst/>
              <a:ahLst/>
              <a:rect l="l" t="t" r="r" b="b"/>
              <a:pathLst>
                <a:path w="896" h="706">
                  <a:moveTo>
                    <a:pt x="0" y="0"/>
                  </a:moveTo>
                  <a:cubicBezTo>
                    <a:pt x="27" y="33"/>
                    <a:pt x="106" y="136"/>
                    <a:pt x="164" y="200"/>
                  </a:cubicBezTo>
                  <a:cubicBezTo>
                    <a:pt x="222" y="264"/>
                    <a:pt x="290" y="331"/>
                    <a:pt x="349" y="383"/>
                  </a:cubicBezTo>
                  <a:cubicBezTo>
                    <a:pt x="408" y="435"/>
                    <a:pt x="463" y="475"/>
                    <a:pt x="519" y="514"/>
                  </a:cubicBezTo>
                  <a:cubicBezTo>
                    <a:pt x="575" y="553"/>
                    <a:pt x="625" y="588"/>
                    <a:pt x="688" y="620"/>
                  </a:cubicBezTo>
                  <a:cubicBezTo>
                    <a:pt x="751" y="652"/>
                    <a:pt x="853" y="688"/>
                    <a:pt x="896" y="70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87120" y="3204360"/>
              <a:ext cx="75600" cy="360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6200000">
              <a:off x="2958840" y="357120"/>
              <a:ext cx="222120" cy="3161160"/>
            </a:xfrm>
            <a:custGeom>
              <a:avLst/>
              <a:gdLst>
                <a:gd name="textAreaLeft" fmla="*/ 0 w 222120"/>
                <a:gd name="textAreaRight" fmla="*/ 80280 w 222120"/>
                <a:gd name="textAreaTop" fmla="*/ 82440 h 3161160"/>
                <a:gd name="textAreaBottom" fmla="*/ 3078720 h 316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6200000">
              <a:off x="5893560" y="581760"/>
              <a:ext cx="222120" cy="2707920"/>
            </a:xfrm>
            <a:custGeom>
              <a:avLst/>
              <a:gdLst>
                <a:gd name="textAreaLeft" fmla="*/ 0 w 222120"/>
                <a:gd name="textAreaRight" fmla="*/ 80280 w 222120"/>
                <a:gd name="textAreaTop" fmla="*/ 70560 h 2707920"/>
                <a:gd name="textAreaBottom" fmla="*/ 2637360 h 270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 flipH="1">
            <a:off x="5306400" y="1499400"/>
            <a:ext cx="347040" cy="419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73920" y="1442160"/>
            <a:ext cx="425520" cy="4701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713640" y="1380960"/>
            <a:ext cx="411120" cy="520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18480" y="725400"/>
            <a:ext cx="222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гнозное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едствие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44680" y="1441800"/>
            <a:ext cx="411480" cy="4831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752480" y="782640"/>
            <a:ext cx="22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шлое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едствие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3080" y="5491080"/>
            <a:ext cx="8148600" cy="95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Если причина остаётся неизменной, может ли уже наблюдаемое следствие указать на будущие изменения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АПД основан на той предпосылке, что ответ на этот вопрос – «ДА»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18200" y="-123840"/>
            <a:ext cx="3925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Arial"/>
              </a:rPr>
              <a:t>Роль причины и следств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92160" y="15840"/>
            <a:ext cx="8958240" cy="73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4160" y="0"/>
            <a:ext cx="284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What do we mean by DCA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0920" y="1073160"/>
            <a:ext cx="408312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lthough practical DCA is often based on principles 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‘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cause and effect’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...the equations are grounded in sound reservoir engineering theor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=&gt; ‘first principles’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e use it because it has been shown to work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=&gt; ‘by comparison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32280" y="949320"/>
            <a:ext cx="408312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мотря на то, что практическое применение АПД основано на принципа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‘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причины и следствия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’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равнения основываются на здравой теории разработки коллектор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=&gt; ‘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основные принципы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’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ы это используем потому что это работает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=&gt; ‘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посредством сравнения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37080" y="0"/>
            <a:ext cx="370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то имеется в виду под АПД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3:40:17Z</dcterms:created>
  <dc:creator>GCA</dc:creator>
  <dc:description/>
  <dc:language>en-US</dc:language>
  <cp:lastModifiedBy>TOG</cp:lastModifiedBy>
  <dcterms:modified xsi:type="dcterms:W3CDTF">2007-04-19T06:15:15Z</dcterms:modified>
  <cp:revision>447</cp:revision>
  <dc:subject/>
  <dc:title>No Slide Title</dc:title>
</cp:coreProperties>
</file>